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7131-B1C8-4679-9A6C-155873B9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046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6289-63E1-4F80-BD8B-ED9A272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5142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046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5046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3EBD-8AD1-4E73-94ED-2A333BF3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5142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5142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046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5046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5046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7702-6B13-4472-B0CA-EE78119D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CA35-F6D0-4DA2-B60F-F970C747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B5D9-6ED3-48F8-AE1B-2CB8D4CC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5142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91D1-97AF-48AC-B207-323725F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6127-A20D-466A-A09D-E9400FA8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92468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E591-46DB-49E0-843B-4A2F9B9A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5142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046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AE7D-37B8-4564-8F9E-8C4608B4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5142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5046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51D4-43BE-47A5-8BBE-39A2F68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5142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046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BE52-7145-49F9-BE9B-C25FB11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080" indent="-226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6080" indent="-226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26080" indent="-226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080" indent="-226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080" indent="-226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080" indent="-226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7DD1-8B99-4C6E-B2EA-28409E2A3ED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90720"/>
            <a:ext cx="8153280" cy="403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5334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3160" y="1389240"/>
            <a:ext cx="75438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7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me Ownership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s Renting</a:t>
            </a: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CA18-5FDB-4323-8BD5-72B04AEC4C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120" y="2626920"/>
            <a:ext cx="7620120" cy="30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bank will only lend you money to cover a certain percent of what the house is worth on the mark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4792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need an apprais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AEFD-8C48-41CB-930B-3031C96073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133360" y="18288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 factor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590920"/>
            <a:ext cx="746784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imity to shopping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es of other houses in a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etermines the value of a hou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0F8A-B0EE-4F36-B2C2-B93095248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erson who can investigate the physical condition of a house and give recommend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10699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me inspec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5444-A611-4AE8-BC03-D64E330A1D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94920" y="2661840"/>
            <a:ext cx="670572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uyer of a house will want to know if the house is sound or is in need of repai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990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need my house inspect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F774-FD70-4E1F-92BF-29B1894D4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99840" y="2655360"/>
            <a:ext cx="6095880" cy="27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seller of a house must be the sole owner and free and clear of any lie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144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itle search need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72A7-85EE-4ECF-8008-F9E84F4A9F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8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will protect you from any claims on the house that did not surface during a title sear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0666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itl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2EDA-409D-47B4-BAD4-3572AC35A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879280"/>
            <a:ext cx="8153280" cy="22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fore property can be sold the exact legal boundaries have to be determin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it important to have my land survey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28B9-CA68-431B-B1D7-E98855C5AB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350800"/>
            <a:ext cx="7467840" cy="77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ints are prepaid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4343400"/>
          <a:ext cx="266688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343400"/>
                    <a:ext cx="266688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47920" y="12193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poi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C573-F747-43CD-851D-C16B911D11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28440" y="2540160"/>
            <a:ext cx="5257800" cy="14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buy yourself a lower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1525320" cy="146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4080" y="1243080"/>
            <a:ext cx="88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pay poi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1B6E-7B92-4670-A171-BB691C356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2773080"/>
            <a:ext cx="80773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se points are paid at the time of closing of the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447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 I pay poi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19FB-CE95-4B59-A1BC-924A331A2D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61960" y="3276720"/>
            <a:ext cx="434340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bout 20%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77120" y="3505320"/>
            <a:ext cx="1066680" cy="167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8380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down payment do I need to buy a hou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AA68-5E5C-4345-92BF-3DDC671DE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2563560"/>
            <a:ext cx="7391160" cy="32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dd on fee charged by the lending institution to cover the administrative costs of the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9907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origination fe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815D-9153-47DB-993E-708B829AE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81080" y="2743200"/>
            <a:ext cx="5486400" cy="15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normally 1% of the loan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086600" y="3962520"/>
          <a:ext cx="63324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962520"/>
                    <a:ext cx="6332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523880" y="106668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origination fe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D867-6AC6-499D-BC43-A3553BC49C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360" y="2556000"/>
            <a:ext cx="739116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market whereby the seller has the advantage over the buy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91320" y="4114800"/>
          <a:ext cx="153036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114800"/>
                    <a:ext cx="153036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828800" y="91440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eller’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E205-B209-4C49-ACE7-8293736541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2566800"/>
            <a:ext cx="6781680" cy="28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can happen if the seller has a desirable house without much competi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an cause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eller’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BCA7-91C7-4BCE-B737-67D24D8C26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2550600"/>
            <a:ext cx="7238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market  where the buyer has the advantage over the sel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1301760" cy="137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99072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buyer’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E164-DFC6-4922-AFE0-AA7A0F1CC1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will happen there are a lot of other comparable houses for sale in the are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1176480" cy="129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479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an cause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buyer’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6D3D-2A9E-457B-A6C0-AEA161D159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3680" y="2521080"/>
            <a:ext cx="1815840" cy="1054080"/>
          </a:xfrm>
          <a:custGeom>
            <a:avLst/>
            <a:gdLst>
              <a:gd name="textAreaLeft" fmla="*/ 66960 w 1815840"/>
              <a:gd name="textAreaRight" fmla="*/ 1748880 w 181584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73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438280"/>
            <a:ext cx="1828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0320" y="3505320"/>
          <a:ext cx="7635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3505320"/>
                    <a:ext cx="763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76520" y="2820960"/>
            <a:ext cx="64767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th the seller and the bank will be willing to bargain in a buyer’s mark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9144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closing costs decline in a buyer’s marke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99EA-D83F-4DB5-8C3A-444DF407A5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6765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advantages of buying a hou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1371600" cy="11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957D-F3C2-4CFF-8638-5BF8E0151F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54040" y="477720"/>
            <a:ext cx="830592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y interest you pay is a tax de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lways have the possibility of rental inco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will be fewer restrictions on what you can and cannot d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quity is built up along with more long term securi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ECC9-8E89-422A-B5B1-A1E2AFD5F8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1430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isadvantages of buying a hou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1371600" cy="11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D533-136E-4BD5-A3C2-620D50A6C7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5120" y="3430080"/>
            <a:ext cx="53337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586.9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828800" y="3962520"/>
          <a:ext cx="803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962520"/>
                    <a:ext cx="803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9907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will be my monthly payment on a $80,000, 10%, 30 year lo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CFC0-740A-4326-B8F5-D00DCEB056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85800"/>
            <a:ext cx="81532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upfront costs are much more than if you were to r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owe property tax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liable for all maintenance and repai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less mobility than if you were to r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254E-9A42-4BF7-A662-C2C847EAF4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60040" y="2270160"/>
            <a:ext cx="7216920" cy="27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rent your house for two years or more, the house is considered rental propert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1571760" cy="93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6858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my house  rental proper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D91D-88C9-49BC-A310-7A8F96DD69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2666880"/>
            <a:ext cx="7467480" cy="29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tax treatment on a private dwelling is much more favorable than on rental proper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9907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wrong  with rental proper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E236-B798-4423-8B7A-E6965B944D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sell rental property you will have to pay a tax on any gain you made in the year you sell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19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rental proper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30F9-61D3-4CAC-A923-39D1FBF826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95280" y="2717280"/>
            <a:ext cx="7010640" cy="28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sell a private dwelling, in most cases, there are no capital gains ta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0666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a private dwell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E2D4-A5E2-4C32-9E0B-3FD4C5A888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52120" y="2971800"/>
            <a:ext cx="6705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a good thing if you cannot afford a higher monthly pay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4038480"/>
          <a:ext cx="91764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9176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6094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low monthly payments on a mortgage a good th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17F2-8B87-4197-A72A-0025208EA5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62120" y="3516120"/>
            <a:ext cx="7696080" cy="18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pay a lot more in interest for a longer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066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a low monthly pay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C801-2454-4FED-9638-C3AE54BF73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19320" y="2514240"/>
            <a:ext cx="678168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pay a lower interest rate than with a longer term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0" y="4114800"/>
          <a:ext cx="6858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114800"/>
                    <a:ext cx="6858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80880" y="9144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a 15 year lo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B8D6-D54C-42ED-871C-27FC9C04A6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2590920"/>
            <a:ext cx="8001000" cy="2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 matter what happens to interest rates, your interest rate will not chan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9144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a fixed interest r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8914-CDC9-4A30-9384-D3A7C59A0A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2971800"/>
            <a:ext cx="769608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you pay will be lower than a fixed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2952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a variable interest r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35D9-1577-4771-87FC-16A4B899F4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680" y="329040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$2,000 to $4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451640" y="3137040"/>
          <a:ext cx="123516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3137040"/>
                    <a:ext cx="123516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33520" y="12952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will be my closing costs on this mortg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5BEA-00F5-4806-9AB7-CD4ACB7096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3124080"/>
            <a:ext cx="8458200" cy="18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rate will increase if market rates incre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8880" y="4267080"/>
            <a:ext cx="762120" cy="1576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7621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a variable interest r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4D10-0663-495E-95F8-0738D94B07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ve Year Treasury Secu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me Interes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ndon Inter-bank offering Rate (LIBO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8380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o what is a variable interest rate pegg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6795-F41E-444B-AB55-46D3B478D5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43000" y="297144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nger the loan, the more advantageous a fixed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9907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should get a fixed r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3B1B-AC4E-4C9B-BF7D-62F12C01AE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a variable interest rate loan, this is the highest interest rate you will ever p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4724280"/>
            <a:ext cx="1066680" cy="129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9907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cap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58F4-D765-4F39-AEF9-30F49F74AB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47920" y="2603160"/>
            <a:ext cx="6705360" cy="21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bank can demand full payment after a set number of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010280" y="4800600"/>
          <a:ext cx="88452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800600"/>
                    <a:ext cx="8845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447920" y="9907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balloon pay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0A2F-7697-4F45-80D7-C2741354F0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696080" cy="21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low introductory interest rate that will increase after a set time peri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34320" y="4419720"/>
          <a:ext cx="96048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419720"/>
                    <a:ext cx="9604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808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easer r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A1EA-D109-4831-9311-0EA2430653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696440" cy="27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djustable rate tha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n be converted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a fixed rate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43000" y="4495680"/>
          <a:ext cx="10335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10335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085760" y="106668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nvertible AR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0260-AD1A-4185-92FE-9E87AA6AAF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19320" y="2755440"/>
            <a:ext cx="6781680" cy="30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rate will be higher on a convertible loan than a non-adjustable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0600" y="104616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an AR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1477-1866-4CCF-8FB2-B76CBCCEE1A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12600" y="2992320"/>
            <a:ext cx="754524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ubsidized loan making possible lower payments in the early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477120" y="4648320"/>
          <a:ext cx="9936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648320"/>
                    <a:ext cx="9936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985680" y="62532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raduated payment mortgage (GPN)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93AF-D4CE-4521-8A21-9E3C82002B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1560" y="2514600"/>
            <a:ext cx="7240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indebtedness increases despite making monthly payments in the early years during the subsi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0" y="2514600"/>
          <a:ext cx="70344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14600"/>
                    <a:ext cx="7034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0880" y="7621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a GPM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766A-4732-4BDA-A53D-1307F9E013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2362320"/>
            <a:ext cx="1739880" cy="1054080"/>
          </a:xfrm>
          <a:custGeom>
            <a:avLst/>
            <a:gdLst>
              <a:gd name="textAreaLeft" fmla="*/ 64440 w 1739880"/>
              <a:gd name="textAreaRight" fmla="*/ 1675440 w 173988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05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209680"/>
            <a:ext cx="1523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581280"/>
          <a:ext cx="78264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7826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981080" y="2743200"/>
            <a:ext cx="58676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still need about 20% for a down pay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38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closing costs a part of  the down pay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A942-9F64-4AE2-8420-27A5BFE4E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763720"/>
            <a:ext cx="7239240" cy="24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ecial low interest rate loans reserved for designated peo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705720" y="4419720"/>
          <a:ext cx="10666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419720"/>
                    <a:ext cx="10666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66680" y="609480"/>
            <a:ext cx="716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government guaranteed loa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FBE5-D77A-4006-B975-06AB39C51B3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95280" y="2895120"/>
            <a:ext cx="6934320" cy="31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ederal Housing Administration (FH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terans Administration (V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5335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examples of these special loa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E421-4AD9-4742-81B0-E05386A986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040" y="2590920"/>
            <a:ext cx="7543800" cy="14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ints are prepaid interest on a mortgage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909360" cy="1247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95280" y="15238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poi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EF69-C72B-4612-850A-0835DA079DE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buying yourself a lower interes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4280" y="1555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paying poi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30CC-99D9-4AB8-BD30-DDC77F17EC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90720" y="2895480"/>
            <a:ext cx="7162560" cy="29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nger the term of the loan, the more advantageous a lower interes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121932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should I pay poi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2C9B-AA0D-4D04-B84F-4DFB6CE1B8C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55120" y="3276720"/>
            <a:ext cx="26449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% r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nal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lloon pay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6720" y="3429000"/>
            <a:ext cx="1906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p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6094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things should I consider when shopping for a mortg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8E02-A0D0-45C8-BBE9-F1F8E53C503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320" y="2742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document that makes a full disclosure of the condition of a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6840" y="112536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isclosure state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86AF-D9DC-4ADA-9A23-E56F6591888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ables you to sell a house as is without legal recour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1004760" cy="154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3716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isclaim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0B34-3637-46AF-B627-BEF07ED7FE3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3200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arranties are are limited and difficult to enfo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40" y="1501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warranty good to have when buying a new hou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3F9C-6960-4A81-8177-743236AB5D5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362320" y="1905120"/>
            <a:ext cx="4952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08DA-4255-4BFE-8BBB-BA14B7502BF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1598760"/>
            <a:ext cx="4495680" cy="49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wyer f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dit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ais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 insp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tle 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tle in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vey of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ood cer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1960" y="1600200"/>
            <a:ext cx="480204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ker’s commi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x service 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rmite insp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ary 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igination 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rding 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9880" y="457200"/>
            <a:ext cx="861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Examples of closing cost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325E-80A3-47C2-96AE-965DBCDB22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2703600"/>
            <a:ext cx="7696080" cy="285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r loan is greater than 80% of the value of the property you will have to pay mortgage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3557520"/>
            <a:ext cx="761760" cy="200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838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ortgag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692F-2DFA-477F-9B2C-B80EDA98F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0880" y="2216160"/>
            <a:ext cx="1434960" cy="1359000"/>
          </a:xfrm>
          <a:custGeom>
            <a:avLst/>
            <a:gdLst>
              <a:gd name="textAreaLeft" fmla="*/ 52920 w 1434960"/>
              <a:gd name="textAreaRight" fmla="*/ 1382040 w 1434960"/>
              <a:gd name="textAreaTop" fmla="*/ 50040 h 1359000"/>
              <a:gd name="textAreaBottom" fmla="*/ 1085400 h 1359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4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86000"/>
            <a:ext cx="1371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819520"/>
            <a:ext cx="6705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the loan reaches less than 80% of the home’s value, you can cancel the mortgage insuran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65280" y="3651120"/>
          <a:ext cx="8586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3651120"/>
                    <a:ext cx="85860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33200" y="7034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I always have to pay mortgag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4936-9A3E-4676-9CF3-6808D4824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7720" y="2077920"/>
            <a:ext cx="7543800" cy="30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rofessional who is trained to determine the value of someth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81680" y="3886200"/>
            <a:ext cx="943200" cy="13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914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n apprais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F46B-D82D-441C-9950-30B0255ABB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10-24T17:40:16Z</cp:lastPrinted>
  <dcterms:modified xsi:type="dcterms:W3CDTF">2000-01-23T02:23:00Z</dcterms:modified>
  <cp:revision>51</cp:revision>
  <dc:subject/>
  <dc:title>No Slide Title</dc:title>
</cp:coreProperties>
</file>