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9AEA-0678-458C-B9E3-3F75C9C4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8459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0ECB-82AA-4FCC-A213-55383E3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8459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8459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4647-30FD-4081-8090-17B5D25F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8954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8954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8459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8459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8459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D9A0-D07C-4599-BB37-A33DB4F2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BE9F-ED3D-45C9-A005-6E5046E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A7D6-FD15-47DF-88C7-70BA358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8954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594C-F7E3-4D80-B154-C80725E6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A455-485C-4BB1-ABE3-6E7B413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CC61-E096-4702-ADAA-EE3FDD61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8954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8459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2879-5536-4399-808C-A0EDF7E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8459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40D8-919E-45E3-9186-04A0B2FF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8954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8459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DD97-D18A-4A7F-A8ED-5868553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9240" indent="-2192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19240" indent="-2192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19240" indent="-2192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240" indent="-2192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9240" indent="-21924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9240" indent="-21924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3CF-3529-4635-8941-2022E8251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880" y="1525680"/>
            <a:ext cx="5338800" cy="327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41148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828800"/>
            <a:ext cx="53341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5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95288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C72E-0858-4D7A-9B39-BB65DBCF5C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600200"/>
            <a:ext cx="670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hree kinds of term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333A-469D-429E-9CE8-DD00286B5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066680" y="26668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vers you if you become totally disabled and are unable to 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9907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isability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C7E7-244F-4D39-816D-199011D248D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066320" y="2742840"/>
            <a:ext cx="72392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60 to 80% of your income at the time you take out the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9907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does disability insurance pa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7354-0546-41C6-BC49-B89B88877AB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policies only pay for accidents, others will pay if you become disabled for either ca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772400" y="2895480"/>
          <a:ext cx="681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2895480"/>
                    <a:ext cx="681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09480" y="8380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m I covered for both accidents and illnes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4810-C6C5-427F-A17F-F7E4B9721AC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523520" y="28954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some policies YES, with others you cannot be cance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11430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my disability policy be cancell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8BFB-38E7-4715-A92D-53BBBD7E06C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066680" y="2590920"/>
            <a:ext cx="70106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some policies NO, with other policies your premium payment will increase every year as you get ol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838080"/>
            <a:ext cx="8229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Do my premium payments increase yearl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AAA9-A51B-41F5-97A8-A2C910A5F4F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23520" y="2590560"/>
            <a:ext cx="6324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 depends on the definition of the insuranc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858000" y="4267080"/>
            <a:ext cx="99072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14400" y="9144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am I considered disabl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F273-4DFD-4724-963E-245BD3FA4A5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00040" y="2620800"/>
            <a:ext cx="838188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-occupation will pay only if you cannot do any wor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wn-occupation will pay only if you cannot do your usual wor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8080" y="21276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fference between own-occupation &amp; any-occupa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B2DB-DB9D-45CB-9CE7-E600EA361A9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2438280"/>
            <a:ext cx="80755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sidual Policies pays for both partial and total disabili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tal Policies pay only complete disabili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3520" y="6904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ifference between total &amp; residual polic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1730-70E2-45BD-BF80-E7C40537C28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7920" y="1523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can I be denied benef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534D-BEB5-4DCC-826F-0B96F40C0B5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457200"/>
            <a:ext cx="8382240" cy="61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worked part time after discovering the condi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have a debilitating disease and fail to include a medical certificate when you submit a clai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do not answer every question in full on the appli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A379-26D3-4BBB-A489-C6E01AF3360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7040" y="316080"/>
            <a:ext cx="868680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 Premiu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premium and coverage stays the same for a set number of ye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creasing Ter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coverage declines yearly but the premiums stay the s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nual Renewabl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face value stays the same but the premiums increase yea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CEDD-B1AD-4E6B-9FA6-E5F5BC298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295280" y="1447920"/>
            <a:ext cx="678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lower the expense of disability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8B58-45EC-42E4-BE72-110E967732D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1219320"/>
            <a:ext cx="76201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uy a short term policy (2 years) instead of a long term policy (5 to 65 years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ect a starting date at least 6 months after making a claim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1695-5A08-4199-A0EA-A5112478B72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52480" y="16002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possible abus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2BBF-41EC-4536-A597-D365EB1C116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457200"/>
            <a:ext cx="815328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could have been some trick questions on the appl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was misleading advertising or wording in the poli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got inadequate verification of pre-approv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ce you make a claim your medical record will scrutinized for information not on your appl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A2BA-323F-4069-BB95-461517CD3C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599840" y="22093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ndard &amp; Poor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ody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uff &amp; Phel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iss Research In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 M. B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Insurance For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rate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nsurance compan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BBA4-B96C-4989-B91E-9582A3C63D5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057400" y="1600200"/>
            <a:ext cx="51814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A410-80F5-4ABC-AEA4-CCEC90C10113}" type="slidenum">
              <a:t>115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37720" y="25905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surance with face-value and a cash-value fe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22160" y="990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le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63C6-0493-4E5F-BB33-F85023FCD0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52480" y="2743200"/>
            <a:ext cx="563904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suranc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23344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14479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face valu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23FD-914E-4E12-8BE4-7EB24BDD02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18960" y="22856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ney held in reserve to pay your death benef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1371600" cy="1428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2193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cash valu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D04F-9F1F-4724-BD5B-54AD3B4F0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040" y="22093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erson who receives money from your life insurance when you d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10666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 beneficiar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1BDB-B635-43EA-B85F-752F14A96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95280" y="3435480"/>
            <a:ext cx="701064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often, $70,000 from the insurance company and $30,000 from your cash-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040" y="576360"/>
            <a:ext cx="8342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The face-value is $100,000 the cash value is $30,000, how much will my beneficiary ge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EC48-B9C5-4E00-9748-0884E1DA4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282564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6640" y="3962520"/>
          <a:ext cx="5349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962520"/>
                    <a:ext cx="5349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523880" y="2971800"/>
            <a:ext cx="7162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you are  entitled to the insurance or the cash-build 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60948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ancel a whole life policy do I get the cash-value bac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1341-A8A7-453E-92F6-EFD115BCD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274320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4191120"/>
          <a:ext cx="8589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191120"/>
                    <a:ext cx="858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86000" y="2668680"/>
            <a:ext cx="64008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are usually surrender charges, commissions and fe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60480" y="3808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ash in a whole life policy do I get all of the cash-valu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D0D6-37DA-4260-9A9D-ACBFC56C1C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ments are inflated in the early years to build up cash-value, money is then taken from cash-value in later years to make the premium pay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57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vanishing premium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3BE5-2E86-4977-BDB2-14013B445B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8240" y="2292480"/>
            <a:ext cx="1663920" cy="113004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3840" y="32767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32767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362320" y="2514600"/>
            <a:ext cx="58672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re are other people dependent upon you financial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8380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FDA7-2AEA-4887-8C2A-9556E9157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icy will pay double the face-value if the insured dies accidental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1995480" cy="1067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6094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ouble indemnity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2C40-0C84-4F4F-B678-DB18AD02E9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2665080"/>
            <a:ext cx="7772400" cy="34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the insured is injured and dies at a later time, did the person die because of the accident or from natural caus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85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the problem with double indemn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668-C682-429E-B412-D1F779B62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combination of term insurance and a tax sheltered savings account that pays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838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universal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42D5-B5E4-435A-8ADD-075B825BF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surance company guarantees a minimum return, beyond that the return will fluctuate according to market forc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7621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’s the return on universal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AF72-2441-496E-8067-0582CDD229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259092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year more money is taken out of savings each month to cover the cost of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9144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ortality char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F157-F495-4289-B69D-853052AB4F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51460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cover expenses 5 to 9 % is deducted from your premium before it is applied to the savings por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8380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rontload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EF0-9BBD-4211-ADDB-2003CAE5D8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27428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urrender charge applied  if the policy is canceled or a withdrawal is ma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99072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backload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B559-2308-4053-BCEA-1DFEF142CD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uld be as high as 150% of the first year premium and diminishes and disappears between the 10th and 15 y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685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expensive are backload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4C7F-B2F6-4F3E-815F-38B8932492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35812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4040" y="2770200"/>
            <a:ext cx="861084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withdraw all of it you cancel the polic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withdraw a part of it you reduce your death benefi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5032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withdraw money from a universal policy what happen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79EE-0F9E-4D3E-A4C0-FAF70678B4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35812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520" y="3106800"/>
            <a:ext cx="883908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ption B your beneficiaries receive the savings portion as w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ption A your beneficiaries receive only the face val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440" y="6573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th a universal policy what happens to my savings when I di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8512-49AF-43C5-8033-937DFB3A73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3429000"/>
          <a:ext cx="611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3429000"/>
                    <a:ext cx="611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15960" y="236844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62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514600"/>
            <a:ext cx="62481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re are no other people dependent upon you financial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6858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810A-9B02-4B19-9598-B10F33FB3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6668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Universal Policy with option B is more expensive than option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600" y="91116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would I choose option A over option B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4A4A-C8D8-4382-A6DE-9B09AA8617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get to chose the investments made with the cash-value portion of the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85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variable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53AE-9AB8-443F-8A59-D6BF126E37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you continue making payments on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5335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th whole, universal, or variable life can I lose my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B9FB-71C0-41AC-8071-B911F0943D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666880" y="35053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0666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Once the term is up, can the insurance company cancel the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AC9D-4259-474E-96F9-CE8FF30933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ly if your term policy has a convertible clause in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70480" y="4349880"/>
            <a:ext cx="2052720" cy="1349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10666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convert a term to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sh-value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EC74-4503-42DB-9662-7571522C06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3200400"/>
            <a:ext cx="746748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term policy may not be renewed beyond 65 years of 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838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would I want to covert my term to a cash-value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F722-3C9E-426D-889F-B0A9F77CE9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51460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3886200"/>
          <a:ext cx="91440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86200"/>
                    <a:ext cx="9144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133720" y="2592360"/>
            <a:ext cx="58672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$100,000 term policy may only convert to a $75,000 whole life policy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85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convert do I get full life insurance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677C-BF49-422E-9CAA-5D4FBF1D3D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640" y="2800080"/>
            <a:ext cx="8305920" cy="29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an industry accepted method for determining the true cost of insurance over the long r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144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interest-adjusted net cost index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0CBB-EC43-46EC-B388-8BC679CFC1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828440" y="2741760"/>
            <a:ext cx="609588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mium pa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est earn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vidends pa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iming of pay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iming of receip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049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the Interest-adjusted Net cost index consid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25DD-B505-44D7-85FB-F6F4577A6F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3200400"/>
            <a:ext cx="7469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k your insurance agent or insuranc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4876920"/>
            <a:ext cx="2014560" cy="1218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838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do I get the interest-adjusted net cost index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E216-B8ED-432A-9E37-E178905BC8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18288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re some exceptions to thi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2F96-4D0E-47AE-9EC6-50BC4064E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361960" y="31240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wer the number the be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34960" y="3048120"/>
          <a:ext cx="10033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3048120"/>
                    <a:ext cx="1003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74760" y="808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low number good or bad with the interest-adjusted net cost index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827C-2B2A-44A9-AE5B-4CF457944A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3880" y="31240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money is made selling Whole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1447920" cy="96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7621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ich insurance do agents make the most money 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73C3-9A28-4CB8-921A-BCB3647865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an annual brief summary and status of your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9920" y="4724280"/>
            <a:ext cx="1004760" cy="121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858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in-force-policy ledg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A337-FCA9-4F47-8E91-75A890EB8C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26668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terminally ill person sells all or a part of his/her life insurance policy to a Viatical Company who then becomes the benefici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6858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viatical settlem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5A0-8200-4D6E-872F-118DC430BA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320004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ould pay a part of your income to cover the liability for the rest of your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am at fault for an automobile accident and have no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D98D-06D5-4696-B0F3-504C627E5F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259092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 covers you when injury occurs to people in other cars, your car and pedestrians during an accident that is your faul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85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bodily injury liabil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B970-2AB3-4C3E-A395-5E92D0B8D5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428640" y="3809880"/>
            <a:ext cx="25909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0" y="3200400"/>
            <a:ext cx="816120" cy="1185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53352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bodily injury liability cover members of my family driving other car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966-EA33-440E-904A-6299770372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71600" y="25146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covers damage done by you to other people’s propert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0" y="3962520"/>
            <a:ext cx="11476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47920" y="68580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property damage liabil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818-905C-416A-9B1F-4B916FC4E2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quotation is 2 number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1224000" cy="145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1143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ingle-limit automobile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D62F-A836-45D4-ACDF-32A5E023DFA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2895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odily injury liabil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947880" cy="160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1430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first number in a single-limit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2DE3-17FB-4D75-9688-FF1E7B482F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4582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fe insurance on children is not needed except maybe a small term policy for burial expen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need life insurance if you have young children who would need care if you were not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single with no dependants you need a small term policy to cover burial expen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r family has a history of chronic diseases, you should have insurance while you are still insur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034C-E31C-4082-825F-3C8EF0367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04812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pit limit policy is when the quotation is 3 numb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2193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plit-limit automobile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DC73-4ABA-4342-A287-827A95F6B00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3048120"/>
            <a:ext cx="6629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first two are bodily injury liabili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114800" y="48006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1440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first two numbers in a split-limit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6A7D-8970-485B-8B08-6A829E3D297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444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ingle limit policy is better than a split limit policy because it will cover more per person inju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066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single-limit or a split-limit policy be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0296-9770-4C77-B1AA-DEB2413CBB7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676160" y="251460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deductible is how much you pay when you file a clai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824040" cy="1724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12952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ductibl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C3F0-5FE0-4618-95B6-5195265E48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160" y="28951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igher the deductible, the less costly the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1143000" cy="190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38080" y="1219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dvantage of a high deductibl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336E-5058-4201-97D2-B353A466C44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2640" y="342900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usually better to have a high deductible and more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66680"/>
            <a:ext cx="914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For the same money is it better to have a low deductible or more insuranc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DA13-981D-4BA2-87F8-C5CEADDA91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medical expenses are frequent pay the extra money for a low deducti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110016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10666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n excep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5149-8F66-4D92-93C6-CD650299B9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rehensive insurance covers damage done to a parked c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6680" y="9558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mprehensiv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4395-19D6-476C-B974-C323355B4B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371240" y="2971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vers the damage done to your car when while it is mo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11430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llision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1C48-2042-464D-A05D-DA2672F59D8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317808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receive only what the trade in value is according to the NADA book at the time of the accid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3160" y="91116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total a car how much will I receive from the insurance compan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2F5C-FE1E-46B4-8E8C-5FDFD812FF2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25146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oal is to have enough insurance so that your beneficiaries could live off of the interest after the benefit is inves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8380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life insurance do I ne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CD52-F97C-4E57-8433-631BEDD35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289548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14400" y="3962520"/>
          <a:ext cx="762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62520"/>
                    <a:ext cx="762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33720" y="2971800"/>
            <a:ext cx="6248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do not have health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609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pay for medical coverage on my auto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1B0F-C1C2-4923-A846-8990F78436B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n it depends on your present cover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2266920" cy="1224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38080" y="1066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already have health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C80B-62A0-4A2E-BB6F-84CB6BF6954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usually a good coverage for the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3657600"/>
          <a:ext cx="762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57600"/>
                    <a:ext cx="762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143000" y="11430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pay for towing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1B37-1DA4-48F8-9C3D-BA6DE82FF43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6080" y="2328840"/>
            <a:ext cx="8610480" cy="37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 if you are dependent on your car and would have no other way to get to work or scho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you have backup transportation, the answer depends on the co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0160" y="69840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pay for rental reimbursement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EB06-A577-4812-9C1E-8E04B281A41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19320" y="29718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ll the police or 9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038480" y="4114800"/>
          <a:ext cx="24386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4114800"/>
                    <a:ext cx="24386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219320" y="1295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should I do after an accid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9C3A-1745-4923-878B-5FB5F2B4CA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99840" y="30477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fter you document the specif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1657440" cy="1079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920" y="609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should I contact my insurance company after an accid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C163-D3A5-4E4D-9AA8-4D3511C5ABB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2133720"/>
            <a:ext cx="77724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rite down the specifics of the accid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et telephone numb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mes of everyone involv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nformation do I need at the acciden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A638-B265-4862-A3FD-7C66120FC39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040" y="2743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pon signing the release the settlement is fin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10666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release from my insurance compan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6741-9E9F-4BA9-A423-EDC74A3CAA9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4674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surance that protects your home and belongings from damage or destr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4267080"/>
          <a:ext cx="7621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67080"/>
                    <a:ext cx="7621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91960" y="10414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meowner’s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56C7-3430-474C-B7B9-B721E8F39AA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286000"/>
            <a:ext cx="807696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ability on personal proper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gal f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ysical damage to your bo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tomobile break-i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ysical damage to the hou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760" y="5191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be covered by homeowner’s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EE67-3219-488A-A86B-BEE81076E4D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600200"/>
            <a:ext cx="685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How do I calculate how much life insurance I ne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91E5-2410-46FB-8B5E-B290036B0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76360" y="4724280"/>
            <a:ext cx="2514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6360" y="7430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y dog bit a neighbor, my child hurt a playmate &amp; I broke a neighbors window, are these things covere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44DE-146F-4089-9002-8DA48B90751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7040" y="1900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not covered by homeowner’s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EF63-3B73-4C6D-9AF4-FD74718DE1E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3840" y="884160"/>
            <a:ext cx="83041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b related accid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ntional harm to pers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idents operating a vehic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pact of a floo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mple neglect of mainten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mage from w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9563-DE88-4301-8B1E-AF7C408E7F1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2666880"/>
            <a:ext cx="74678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you can buy separate flood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111456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8520" y="9936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y house is on a flood plain, can I get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2323-C69E-4902-A667-4A6CC6FB55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usually, if you have valuable belongings you should get a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ersonal article’s float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n your homeowner’s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4572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 my homeowner’s insurance cover all my personal belonging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4634-85B9-4D09-BE4A-E46632388FE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520" y="320004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’s a little more expensive but replacement value is a better cover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838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buy replacement or present value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A9A2-3B24-49E7-9445-F3E27020ADE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covers bodily injury and legal costs when a claim is made against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295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umbrella liability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6009-7521-4568-8237-33DA79C7DB0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304812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protect you away from home when your negligence causes harm to someone el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7621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umbrella liability coverage protect me away from ho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C599-25A8-4059-96EE-DAED7CBC330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259704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17520" y="35053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35053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2133720" y="2743200"/>
            <a:ext cx="6019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net worth is more than $50,00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762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umbrella liability coverage good to hav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211E-7AC9-445D-BE8D-3CDB40FD40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295280" y="30477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e million dollars worth of liability coverage will cost you about $100 per y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06668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expensive is umbrella liabili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F94D-C682-4D17-9F41-B34F52D67CE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15328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How much money would your dependants need annually to maintain their standard of living should you di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Subtract the income they would make without insu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How much would they need at a 5% return to yield #2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2B37-6867-4086-9712-1E28127AC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supplement to your homeowner’s or automobile policy when these policies are from the same compa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7621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buy an umbrella poli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C688-8F7D-40CD-AF34-F5AA11943AD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295280" y="274284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similar to a homeowner’s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1981440" cy="952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143000" y="114300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enter’s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E94F-0B1D-4C92-B66D-FE355B62520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2640" y="25146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alth insurance pays for doctor, hospital and drug expen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942840" cy="1376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71600" y="762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ealth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74D1-6EE4-4BCA-B003-2ADB62000DD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057040" y="26665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a member of a large gro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990720" cy="1524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33520" y="7621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best way to buy health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E64A-4729-4038-9C34-B16851EC81D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are still covered for 18 months, but at a higher premium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923760" cy="1290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447920" y="10666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leave the group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2E4F-38C1-4759-9AF1-9572A2B34EA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3733920"/>
            <a:ext cx="8381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s for some portion of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295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individual basic medical expens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4D3D-5466-4733-83CD-B7E01823909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8520" y="669960"/>
            <a:ext cx="87994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patient &amp; outpatient surge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hospital medical visi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b tests and X-ray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spital roo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perating roo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4B2C-DF31-4C6F-8C8A-CB594367E1B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92280" y="2216160"/>
            <a:ext cx="3568680" cy="1054080"/>
          </a:xfrm>
          <a:custGeom>
            <a:avLst/>
            <a:gdLst>
              <a:gd name="textAreaLeft" fmla="*/ 132120 w 3568680"/>
              <a:gd name="textAreaRight" fmla="*/ 3436560 w 356868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06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usual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217520" y="35053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35053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133720" y="2514600"/>
            <a:ext cx="60958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31 day limit on hospital stays &amp; 80% coverage is standar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1430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get full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FFDF-FBCC-41DC-8D44-A466EE36279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0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vides additional protection beyond basic medical against costs of serious ill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121932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major medical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A4C0-2A83-40D0-8C77-82A82237949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61760" y="30481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s a fixed amount per day, week, or month while you are in the hospital regardless of cos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8380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hospital confinement indemnity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4B02-4511-4D2C-B4A4-090183186D2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18960" y="2590560"/>
            <a:ext cx="7010280" cy="21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rm life insurance is pure insurance with no cash build 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890640" cy="165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762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erm lif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6569-DD5E-4BAA-A69F-BC2EFB955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haps as a supplemental policy to pay for deductibles on your basic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9144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buy hospital confinement indemnity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35C5-2D82-4008-AF35-DB7578F30E2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218960" y="297144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vers only the expenses of a specific illness, such as canc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114300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limited benefit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90F7-7C49-45E6-B969-44ED5FA6D05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ly if you are not able to get basic insur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191120" y="4572000"/>
            <a:ext cx="2457360" cy="1219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066680" y="9907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buy limited benefit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133-B2DE-41C2-84EC-72BE4D65331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se policies cover death, loss of limb or sight, disability and medical care due to an accid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9144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ccident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B9A-9AE8-454F-B37D-551B4862E7E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219320" y="251424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se policies cover expenses while you are in the intensive care unit of a hospi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7621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intensive care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CD3F-7C24-4A86-8C23-323A2ABBAB4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2612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a federal program with two parts, Part A and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131904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35040" y="150336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Medica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4054-91D6-4CAD-B6AF-6C79E5240CD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t A is a limited no cost health insurance offered to anyone who is 65 years or ol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47920" y="7621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edicare Part 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F21F-5EAE-441A-8A0D-A3D28CBB721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67816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spitalization after deductions and coinsurance payments under other poli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266840" cy="1467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219320" y="5335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covered by  Medicare Part 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A697-DD90-4732-8DC5-3179828DC22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t B pays for doctor’s services both inside and outside a hospit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781680" y="4724280"/>
          <a:ext cx="838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724280"/>
                    <a:ext cx="838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219320" y="914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Medicare Part B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58CD-8D4C-49CF-A548-2DF591CBE46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219320" y="29718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lls the gap between what Medicare pays and the actual expen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edigap insuranc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18F3-BA19-438A-9806-3C775DD62DC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NRCC User</cp:lastModifiedBy>
  <cp:lastPrinted>1997-07-23T22:46:24Z</cp:lastPrinted>
  <dcterms:modified xsi:type="dcterms:W3CDTF">2000-01-21T20:38:27Z</dcterms:modified>
  <cp:revision>76</cp:revision>
  <dc:subject/>
  <dc:title>No Slide Title</dc:title>
</cp:coreProperties>
</file>