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27A96-31D9-4E1A-AF52-7B16DC801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2895120"/>
            <a:ext cx="800100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766040"/>
            <a:ext cx="800100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32411-ABB9-4D39-A0ED-42F4FC81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289512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120" y="289512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76604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5120" y="476604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FC803-C1F5-47DF-8BBF-A6641355C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2895120"/>
            <a:ext cx="257616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840" y="2895120"/>
            <a:ext cx="257616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6240" y="2895120"/>
            <a:ext cx="257616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766040"/>
            <a:ext cx="257616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840" y="4766040"/>
            <a:ext cx="257616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6240" y="4766040"/>
            <a:ext cx="257616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62920-1FD0-4F52-A7C3-28809ADD3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2895120"/>
            <a:ext cx="80010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8EC25-500B-455D-8FF6-3BDC4D8E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2895120"/>
            <a:ext cx="80010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8CE7A-0B88-477A-A565-84F1556A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2895120"/>
            <a:ext cx="39042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5120" y="2895120"/>
            <a:ext cx="39042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9D7B3-918E-409B-8885-5FFF9948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46130-29E2-4483-9688-90C63B1B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1236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01A10-C336-4AC9-A00D-85182422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289512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5120" y="2895120"/>
            <a:ext cx="39042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76604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117E6-BBE6-41F4-88F0-FE86035B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2895120"/>
            <a:ext cx="39042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120" y="289512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5120" y="476604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17A43-95F8-4AFD-B2E5-1C6E18B8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289512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120" y="289512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766040"/>
            <a:ext cx="800100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A5C41-AAA0-41E2-B0CD-917E7FC7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Click to edit the title text format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2895120"/>
            <a:ext cx="80010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1000"/>
          </a:bodyPr>
          <a:p>
            <a:pPr marL="209160" indent="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1" marL="209160" indent="-20916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2" marL="209160" indent="-20916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3" marL="209160" indent="-20916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9160" indent="-20916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9160" indent="-209160">
              <a:lnSpc>
                <a:spcPct val="80000"/>
              </a:lnSpc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9160" indent="-209160">
              <a:lnSpc>
                <a:spcPct val="80000"/>
              </a:lnSpc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AFE8-806E-46F1-9EA2-8F8CDC8CA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r.cc.va/fin107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ramresearch.com/cardtrak/homepage.html" TargetMode="External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4280" y="1671480"/>
            <a:ext cx="6783480" cy="289728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520" y="1676160"/>
            <a:ext cx="61722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00"/>
                </a:solidFill>
                <a:latin typeface="Times New Roman"/>
              </a:rPr>
              <a:t>Chapter 4</a:t>
            </a:r>
            <a:br>
              <a:rPr sz="88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Your Credit Report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71800" y="5181480"/>
            <a:ext cx="380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en Lo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River Community Colleg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ublin, VA 24084</a:t>
            </a:r>
            <a:br>
              <a:rPr sz="2000"/>
            </a:br>
            <a:r>
              <a:rPr b="0" lang="en-US" sz="20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http://www.nr.cc.va/fin107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D2170-5410-496A-BE7A-34AD9EA7F68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8960" y="685440"/>
            <a:ext cx="6553080" cy="17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on my credit report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74674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r nam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arital statu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dress (past &amp; present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ocial security numb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mployment histo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562720" y="2743200"/>
          <a:ext cx="68580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2743200"/>
                    <a:ext cx="6858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D78D2-1E7A-465D-910C-97A4F3AE9D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3059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accounting information is on my credit report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477120" y="4876920"/>
            <a:ext cx="1471320" cy="137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73451-9A6C-4541-95F6-38A44094C3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457200"/>
            <a:ext cx="7848720" cy="58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ypes of accounts &amp; ID number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ame and type of creditors with whom you have done busines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st of individual &amp; shared account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redit limit, present balance, highest amount charge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F3601-5B7B-439B-8493-737571249F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456840"/>
            <a:ext cx="609624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bad credit report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ach person who has reason to look at a credit report has their own standar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553080" y="4038480"/>
            <a:ext cx="117180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EF921-B3F9-42AB-8358-FB1083354F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3915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are looked for on a credit report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477120" y="4876920"/>
            <a:ext cx="1471320" cy="137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F1898-970D-437C-AE5F-5C3CF7DE56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04920" y="100080"/>
            <a:ext cx="8610480" cy="66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linquent child suppor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udgment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rge-offs (uncorrectable loan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st credit difficul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iminal convic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llection effor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st credit c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eclosur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0, 60, or 90 days past du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ivil sui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mber of late payments and to whom pai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x lie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8C73B-C63C-4836-82E5-B1754CFD7D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6560" y="588960"/>
            <a:ext cx="876276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 had a car repossessed, is this on my credit report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2444760"/>
            <a:ext cx="1663920" cy="1130400"/>
          </a:xfrm>
          <a:custGeom>
            <a:avLst/>
            <a:gdLst>
              <a:gd name="textAreaLeft" fmla="*/ 61560 w 1663920"/>
              <a:gd name="textAreaRight" fmla="*/ 1602360 w 1663920"/>
              <a:gd name="textAreaTop" fmla="*/ 41760 h 1130400"/>
              <a:gd name="textAreaBottom" fmla="*/ 902880 h 11304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885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Yes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836640" y="3657600"/>
          <a:ext cx="61128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6640" y="3657600"/>
                    <a:ext cx="61128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1674720" y="2590920"/>
            <a:ext cx="678348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illing and unwilling repossessions are on your credit repor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60644-FF9B-459A-9979-78DA5A72B3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7680" y="990720"/>
            <a:ext cx="80024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illing repossession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2817720"/>
            <a:ext cx="7315200" cy="297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akes place when you voluntarily return a car because you cannot make the payme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5B768-E928-4E6F-9C7B-F41B8E4694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97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n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unwilling repossession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2666520"/>
            <a:ext cx="74674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akes place when your creditor comes to you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486400" y="4191120"/>
            <a:ext cx="1752480" cy="15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BB1C3-3BC7-4CCF-8236-B0F9AFBFE4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f someone makes an inquiry on my credit report, is this bad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44560" y="2749680"/>
            <a:ext cx="2654280" cy="1054080"/>
          </a:xfrm>
          <a:custGeom>
            <a:avLst/>
            <a:gdLst>
              <a:gd name="textAreaLeft" fmla="*/ 98280 w 2654280"/>
              <a:gd name="textAreaRight" fmla="*/ 2556000 w 2654280"/>
              <a:gd name="textAreaTop" fmla="*/ 38880 h 1054080"/>
              <a:gd name="textAreaBottom" fmla="*/ 842040 h 1054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4481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depen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988920" y="3809880"/>
          <a:ext cx="611280" cy="22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3809880"/>
                    <a:ext cx="61128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1981080" y="2895480"/>
            <a:ext cx="6324840" cy="30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ore than 6 inquiries in a 6 month period is generally considered bad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93280-50F0-49C2-8996-7B427B53345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746784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y should I be concerned about my credit Report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477120" y="4876920"/>
            <a:ext cx="1471320" cy="137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08DAD-9B23-49AC-B465-729DF49193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76200" y="456840"/>
            <a:ext cx="83059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en I get a copy of my credit report is this considered an inquiry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2749680"/>
            <a:ext cx="1511280" cy="1206360"/>
          </a:xfrm>
          <a:custGeom>
            <a:avLst/>
            <a:gdLst>
              <a:gd name="textAreaLeft" fmla="*/ 55800 w 1511280"/>
              <a:gd name="textAreaRight" fmla="*/ 1455480 w 1511280"/>
              <a:gd name="textAreaTop" fmla="*/ 44640 h 1206360"/>
              <a:gd name="textAreaBottom" fmla="*/ 963360 h 12063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6344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No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04920" y="4038480"/>
          <a:ext cx="1087200" cy="22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038480"/>
                    <a:ext cx="108720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1600200" y="3124080"/>
            <a:ext cx="647712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 inquiry is only when other people request a copy of your credit repor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34169-0A52-4EAC-BA82-3B5D949D03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520" y="415440"/>
            <a:ext cx="876312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Can anyone request a copy of my credit report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3276720"/>
            <a:ext cx="1663560" cy="1130040"/>
          </a:xfrm>
          <a:custGeom>
            <a:avLst/>
            <a:gdLst>
              <a:gd name="textAreaLeft" fmla="*/ 61560 w 1663560"/>
              <a:gd name="textAreaRight" fmla="*/ 1602000 w 1663560"/>
              <a:gd name="textAreaTop" fmla="*/ 41760 h 1130040"/>
              <a:gd name="textAreaBottom" fmla="*/ 902520 h 11300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4163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Yes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295280" y="4419720"/>
          <a:ext cx="611280" cy="16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419720"/>
                    <a:ext cx="61128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1447920" y="2514600"/>
            <a:ext cx="655308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owever, inquiries are unlawful unless a person has a permissible busines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5A0F3-4F5D-4613-96CD-8371D721B79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0256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n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nvestigative report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2440" y="255708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 detailed report on your lifestyle, character, and reputation based on the opinions of your neighbors, friends, relativ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94756-4F99-4C66-A58E-D33FBAF85AF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81200" y="349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Do I have any protection against an investigative report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3680" y="2597040"/>
            <a:ext cx="1663560" cy="1130400"/>
          </a:xfrm>
          <a:custGeom>
            <a:avLst/>
            <a:gdLst>
              <a:gd name="textAreaLeft" fmla="*/ 61560 w 1663560"/>
              <a:gd name="textAreaRight" fmla="*/ 1602000 w 1663560"/>
              <a:gd name="textAreaTop" fmla="*/ 41760 h 1130400"/>
              <a:gd name="textAreaBottom" fmla="*/ 902880 h 11304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885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Yes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836640" y="3581280"/>
          <a:ext cx="611280" cy="22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6640" y="3581280"/>
                    <a:ext cx="61128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1827360" y="2819520"/>
            <a:ext cx="6553080" cy="30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nless the report is handled in-house by the investigator, you must be notified firs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B0FB3-7211-4AF6-BA20-1D9FAF45669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o might do an investigative report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rospective employers and insurance companies are the most comm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5257800" y="4572000"/>
          <a:ext cx="25146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4572000"/>
                    <a:ext cx="25146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B3C5C-D1BE-4916-9C10-E6144357A2C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s a credit report with little on it a good report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20880" y="2521080"/>
            <a:ext cx="1511280" cy="1206360"/>
          </a:xfrm>
          <a:custGeom>
            <a:avLst/>
            <a:gdLst>
              <a:gd name="textAreaLeft" fmla="*/ 55800 w 1511280"/>
              <a:gd name="textAreaRight" fmla="*/ 1455480 w 1511280"/>
              <a:gd name="textAreaTop" fmla="*/ 44640 h 1206360"/>
              <a:gd name="textAreaBottom" fmla="*/ 963360 h 12063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6344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No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65280" y="3879720"/>
          <a:ext cx="1087200" cy="22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280" y="3879720"/>
                    <a:ext cx="108720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1905120" y="2744640"/>
            <a:ext cx="647676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report with nothing or little on it is a bad credit repor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3A3BB-BA09-4B6E-8B26-B6556C0BDFB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do I establish a good credit report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27428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ut a lot of good stuff on your credit repor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48320" y="4419720"/>
            <a:ext cx="2724120" cy="122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787CD-1EAD-48C7-B35F-D96D3BBA4A2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do I put good stuff on my credit report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2438280"/>
            <a:ext cx="8153280" cy="35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pply for a secured credit card if need b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Open accounts at retail stores and pay off what you charge each month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8E4EA-1410-4E72-973D-08AAF27A711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secured credit card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560" y="251460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card is secured by money in your savings accou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248520" y="4419720"/>
            <a:ext cx="1442880" cy="135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6D1EC-C149-4272-886A-2D401F01D62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6201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ere can I get a list of banks offering secured cards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15328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ecured Card Repor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.O. Box 17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rederick, Maryland 2170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D8CA3-FD98-41C6-9769-7B9B8934027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1143000"/>
            <a:ext cx="8076960" cy="43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qualify for a promo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pass a job screen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qualify for insuranc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rent an apartmen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qualify for low rate loan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qualify for a loa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49F78-C067-4C6D-A1AE-91FAF03ABB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990360"/>
            <a:ext cx="723924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ere on the web can I find a list of secured cards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1760" y="342900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http://www.ramresearch.com/cardtrak/homepage.html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5A27D-6F95-4D4F-99D6-B14C1B6647A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9250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debit card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80010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unds are drawn against your bank account With some overdrafts are refused, with others your credit card is debit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E464C-0339-47C4-908A-DDDE3512FE0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happens if I have an overdraft with a debit card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3123720"/>
            <a:ext cx="80010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ith some overdrafts are refused, with others your credit card is debit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090EB-B4DC-4607-8850-236F163BB46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can I repair a bad credit report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266688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key to repairing a bad credit report is to bury bad news with good new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781680" y="4114800"/>
            <a:ext cx="1195560" cy="185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42324-4980-4DE2-B6B8-78EE47FD735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Give me examples of eliminating bad news 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95280" y="281916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o not have more than four credit cards and be aware of the debt limit on ea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132BC-36D3-42B5-B4E3-0B14FC06E1D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Are high limits are my credit cards bad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3429000"/>
            <a:ext cx="1663560" cy="1130400"/>
          </a:xfrm>
          <a:custGeom>
            <a:avLst/>
            <a:gdLst>
              <a:gd name="textAreaLeft" fmla="*/ 61560 w 1663560"/>
              <a:gd name="textAreaRight" fmla="*/ 1602000 w 1663560"/>
              <a:gd name="textAreaTop" fmla="*/ 41760 h 1130400"/>
              <a:gd name="textAreaBottom" fmla="*/ 902880 h 11304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885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Yes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19320" y="4495680"/>
          <a:ext cx="61092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495680"/>
                    <a:ext cx="61092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1295280" y="2666880"/>
            <a:ext cx="655344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is shows potential for excessive deb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003D7-F7D6-4020-8E87-4313BD96D31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114300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high debt limit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2444760"/>
            <a:ext cx="2959200" cy="1130400"/>
          </a:xfrm>
          <a:custGeom>
            <a:avLst/>
            <a:gdLst>
              <a:gd name="textAreaLeft" fmla="*/ 109440 w 2959200"/>
              <a:gd name="textAreaRight" fmla="*/ 2849760 w 2959200"/>
              <a:gd name="textAreaTop" fmla="*/ 41760 h 1130400"/>
              <a:gd name="textAreaBottom" fmla="*/ 902880 h 11304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4481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depen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065240" y="3581280"/>
          <a:ext cx="611280" cy="22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5240" y="3581280"/>
                    <a:ext cx="61128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1752480" y="2514600"/>
            <a:ext cx="670572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igher income persons have higher permissible debt limit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592E9-9A8D-47E7-B704-34BC4626823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f I have more than four cards what should I do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2362320"/>
            <a:ext cx="701064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rite a letter to the company and request cancellation of the car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447920" y="4648320"/>
            <a:ext cx="2090520" cy="121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C289C-F28E-4A02-AA6E-AC0F1FC8BBD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Do I need a zero balance before I can cancel a card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2640" y="259056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es, otherwise you cannot cancel the car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581280" y="4267080"/>
            <a:ext cx="2105280" cy="120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46598-5EC8-4B64-8456-9C9C8846CEC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8224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My credit limits are high on some of my cards, what should I do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30592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efuse any increases in your debt limit and request other limits to be lower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C043E-F90A-4C59-BD5A-6B91C942F1C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f I divorce, I am liable for my ex-spouses debts on my credit report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4560" y="2901960"/>
            <a:ext cx="1663560" cy="1130400"/>
          </a:xfrm>
          <a:custGeom>
            <a:avLst/>
            <a:gdLst>
              <a:gd name="textAreaLeft" fmla="*/ 61560 w 1663560"/>
              <a:gd name="textAreaRight" fmla="*/ 1602000 w 1663560"/>
              <a:gd name="textAreaTop" fmla="*/ 41760 h 1130400"/>
              <a:gd name="textAreaBottom" fmla="*/ 902880 h 11304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885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Yes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065240" y="3962520"/>
          <a:ext cx="61128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5240" y="3962520"/>
                    <a:ext cx="61128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676520" y="2971800"/>
            <a:ext cx="655308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f the debt is a joint debt with both names on it you are still liabl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F17C8-90B2-49E1-9CEF-0517EECA20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Should I take out a loan from a finance company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676520"/>
            <a:ext cx="8307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cause finance companies specialize in lending money to high risk people, you may be guilty by associa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interest rate, hidden costs, insurance and general fees tend to be very high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5EA0D-AC08-45E7-A864-0F8AB68D55A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82520" y="633240"/>
            <a:ext cx="8686800" cy="234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f I have questionable information on my credit report what can I do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credit bureau will attempt to verify entries on your credit report which you ques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A71E1-8BDC-4CFA-A7F0-484D84DA5CE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Must a creditor respond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5560" y="1674720"/>
            <a:ext cx="8915400" cy="419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fter receiving notice the creditor has 30 days to respond, if he cannot substantiate the negative entry or fails to respond, the entry is deleted from your repor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EA5A4-BA9C-436B-B51A-81C0D850EF0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2520" y="657360"/>
            <a:ext cx="861048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 disagree with an entry but am unable to have it taken off, what can I do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3152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 can write a less than 100 word statement and have it appended to your credit repor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29A1E-F809-4B7D-9477-65DB4DDCF09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60520" y="569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 have some past due debts on my report, what can I do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74400" y="2561760"/>
            <a:ext cx="838188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egotiate with your creditor to have the negative entries removed in exchange for making timely payments or paying off the deb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79877-D5F1-4576-B37F-56E21611719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15238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do creditors score my credit profile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477120" y="4876920"/>
            <a:ext cx="1471320" cy="137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07145-2D8C-4FE7-9F76-CC24A14866B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28600" y="304920"/>
            <a:ext cx="8610480" cy="60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ving in the same geographic location for at least 6 years is a poi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wning a house is 4 points, having a mortgage is 3 points, renting 1 point, living with parents 0 poi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nthly debt obligations is a factor, above a certain level is 0 poi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checking &amp; savings account is worth a poi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telephone in your name is a poi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66976-3F8E-49D8-8ACE-84034B30488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990720" y="2438280"/>
            <a:ext cx="739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520" y="378000"/>
            <a:ext cx="8763120" cy="62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same job for more than a year is a poi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ge, less than 25 years and more than 65 is 0 poi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riage will earn you a point, single is 0 poi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late have any late payments bee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many loan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o many credit cards is bad and too high limi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ave you made your payments on tim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73411-D93D-4043-BF97-6CE5337864E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ere can I seek help? 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2437920"/>
            <a:ext cx="792468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Consumer Credit Counseling Servic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ook in the telephone book or call 800-926-004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30574-E4E6-4E3E-A4F0-46467FC7BE2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43080" y="7891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 am being harassed by a creditor, what can I do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94920" y="2438280"/>
            <a:ext cx="70866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ccording to the Fair Debt Collection Practices Act, harassment is unlawfu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973080" y="3200400"/>
          <a:ext cx="62712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3080" y="3200400"/>
                    <a:ext cx="6271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26717-4A4C-4EB0-B4B2-4E70035A6ED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15328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f I get a divorce, what should I do concerning my credit report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3124080"/>
            <a:ext cx="853596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 payments on debts for which you are liabl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ake your name off of any debt that you ca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974A3-DAF5-430E-AB31-83E252C49B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240" y="1143000"/>
            <a:ext cx="853452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unlawful according to the Fair Debt Collections Act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477120" y="4876920"/>
            <a:ext cx="1471320" cy="137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30616-A069-4CB7-90EF-4BFF074DF08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62120" y="1143000"/>
            <a:ext cx="769608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eats of any kin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ntacting you at work after being told not to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ntacting you before 8:00 AM or after 9:00 PM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ntacting others about your deb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59C23-78B1-49C6-BD83-FCA6382D4E2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 bought a television with no payments for 6 months, is this a good deal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3680" y="2444760"/>
            <a:ext cx="2654280" cy="1130400"/>
          </a:xfrm>
          <a:custGeom>
            <a:avLst/>
            <a:gdLst>
              <a:gd name="textAreaLeft" fmla="*/ 98280 w 2654280"/>
              <a:gd name="textAreaRight" fmla="*/ 2556000 w 2654280"/>
              <a:gd name="textAreaTop" fmla="*/ 41760 h 1130400"/>
              <a:gd name="textAreaBottom" fmla="*/ 902880 h 11304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4481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depen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608040" y="3657600"/>
          <a:ext cx="61128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040" y="3657600"/>
                    <a:ext cx="61128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1676520" y="2666880"/>
            <a:ext cx="693396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y money owed at the 6 month point you will have to pay interest on going back to the date of purchas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DB21C-957A-4F24-A3CD-B3D044A6DD1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else is the problem if I do not pay before 6 months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720" y="3200400"/>
            <a:ext cx="72388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interest rate will be high &amp; will probably be based on the rule of 78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9046F-2706-44AA-869E-49ACB2642B8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the rule of 78s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176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ost of the interest paid is stacked up-front, so if you pay off the loan early you still pay most of the interes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FFE49-4F1D-4125-AFC5-981EEB56089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3818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f I make all payments on time will I pay more interest than with a simple interest loan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14400" y="2971800"/>
            <a:ext cx="1434960" cy="1054080"/>
          </a:xfrm>
          <a:custGeom>
            <a:avLst/>
            <a:gdLst>
              <a:gd name="textAreaLeft" fmla="*/ 52920 w 1434960"/>
              <a:gd name="textAreaRight" fmla="*/ 1382040 w 1434960"/>
              <a:gd name="textAreaTop" fmla="*/ 38880 h 1054080"/>
              <a:gd name="textAreaBottom" fmla="*/ 842040 h 1054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4328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No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609480" y="4038480"/>
          <a:ext cx="706680" cy="22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038480"/>
                    <a:ext cx="70668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1752480" y="3203640"/>
            <a:ext cx="708660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nterest you pay will be the same, the difference comes when you make larger than required payment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1EBE3-03E9-4662-9F9B-F11F35DE441E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01064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simple interest loan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2514240"/>
            <a:ext cx="784836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interest is calculated by multiplying the interest rate times the principle and is compounded monthl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0EBA7-EC99-4969-9120-CC0BDECD3B9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an example of a simple interest loan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23880" y="28954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ortgage loa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352680" y="4191120"/>
            <a:ext cx="2162160" cy="116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FF94C-19FF-49B6-AAEA-5B77F2EF09E1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ith a simple interest loan do I get credit for making extra payments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3680" y="2597040"/>
            <a:ext cx="1663560" cy="1130400"/>
          </a:xfrm>
          <a:custGeom>
            <a:avLst/>
            <a:gdLst>
              <a:gd name="textAreaLeft" fmla="*/ 61560 w 1663560"/>
              <a:gd name="textAreaRight" fmla="*/ 1602000 w 1663560"/>
              <a:gd name="textAreaTop" fmla="*/ 41760 h 1130400"/>
              <a:gd name="textAreaBottom" fmla="*/ 902880 h 11304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885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Yes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836640" y="3581280"/>
          <a:ext cx="611280" cy="22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6640" y="3581280"/>
                    <a:ext cx="61128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827360" y="2971800"/>
            <a:ext cx="655308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 only pay interest on the principle owed each month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45095-F222-4B15-9734-51B6B7AC1FF7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Do I get credit when I make early payments on my credit card? 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7360" y="2216160"/>
            <a:ext cx="1663560" cy="1130400"/>
          </a:xfrm>
          <a:custGeom>
            <a:avLst/>
            <a:gdLst>
              <a:gd name="textAreaLeft" fmla="*/ 61560 w 1663560"/>
              <a:gd name="textAreaRight" fmla="*/ 1602000 w 1663560"/>
              <a:gd name="textAreaTop" fmla="*/ 41760 h 1130400"/>
              <a:gd name="textAreaBottom" fmla="*/ 902880 h 11304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885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Yes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760320" y="3429000"/>
          <a:ext cx="61128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0320" y="3429000"/>
                    <a:ext cx="6112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1522440" y="2516040"/>
            <a:ext cx="7012080" cy="37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very day you make a payment early you get credit for it, provided the loan is not based on the two-cycle method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766E3-2DD3-48F6-A9C3-33F801936EC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Can someone else use my name and damage my credit report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2590920"/>
            <a:ext cx="1517760" cy="1136520"/>
          </a:xfrm>
          <a:custGeom>
            <a:avLst/>
            <a:gdLst>
              <a:gd name="textAreaLeft" fmla="*/ 56160 w 1517760"/>
              <a:gd name="textAreaRight" fmla="*/ 1461600 w 1517760"/>
              <a:gd name="textAreaTop" fmla="*/ 41760 h 1136520"/>
              <a:gd name="textAreaBottom" fmla="*/ 907920 h 11365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885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Yes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988920" y="3809880"/>
          <a:ext cx="611280" cy="22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3809880"/>
                    <a:ext cx="61128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676520" y="2973240"/>
            <a:ext cx="7162560" cy="37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yone can get a copy of your credit report and you can become the victim of a scam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FFC59-DB4A-40DB-A568-A0306AC2F4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1600200"/>
            <a:ext cx="69343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Give me some general advice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477120" y="4876920"/>
            <a:ext cx="1471320" cy="137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A57E3-424E-46E0-B076-8940F505FA22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473040" y="100080"/>
            <a:ext cx="8307360" cy="65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rrow money from yourself, like a short term loan to yourself from your savings accou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not pay off a short term loan with a long term loa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y off a loan based on the rule of 78s in the very early months, later than that, keep i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ways try to pay off high interest loans with lower interest loa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7CADC-DF20-4428-A501-CDDE1E850A36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01064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Are consolidation loans a good idea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1040" y="2063880"/>
            <a:ext cx="2654280" cy="1130040"/>
          </a:xfrm>
          <a:custGeom>
            <a:avLst/>
            <a:gdLst>
              <a:gd name="textAreaLeft" fmla="*/ 98280 w 2654280"/>
              <a:gd name="textAreaRight" fmla="*/ 2556000 w 2654280"/>
              <a:gd name="textAreaTop" fmla="*/ 41760 h 1130040"/>
              <a:gd name="textAreaBottom" fmla="*/ 902520 h 11300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4481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depen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684360" y="3352680"/>
          <a:ext cx="610920" cy="22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352680"/>
                    <a:ext cx="61092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1676520" y="2438280"/>
            <a:ext cx="6705360" cy="40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f your improved monthly cash flow is used to make larger payments on debts, then a consolidation loan is a good idea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1C53F-D986-4441-870E-F797B4D2FF7C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s overdraft protection a good idea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1040" y="2063880"/>
            <a:ext cx="2654280" cy="1130040"/>
          </a:xfrm>
          <a:custGeom>
            <a:avLst/>
            <a:gdLst>
              <a:gd name="textAreaLeft" fmla="*/ 98280 w 2654280"/>
              <a:gd name="textAreaRight" fmla="*/ 2556000 w 2654280"/>
              <a:gd name="textAreaTop" fmla="*/ 41760 h 1130040"/>
              <a:gd name="textAreaBottom" fmla="*/ 902520 h 11300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4481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depen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84360" y="3352680"/>
          <a:ext cx="610920" cy="22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352680"/>
                    <a:ext cx="61092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1600200" y="2440080"/>
            <a:ext cx="693432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f it is tied to your credit card you could end up with a large debt you did not anticipat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B4E5B-8471-4A1C-AB30-AE9B5A702681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15328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en is overdraft protection a good idea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2640" y="2895120"/>
            <a:ext cx="70102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en it is tied to your savings accou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752480" y="4572000"/>
            <a:ext cx="2152800" cy="11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60036-4417-45CE-B4FE-61015B05ADF0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 have a low income and need legal advice, where should I go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2120" y="2894040"/>
            <a:ext cx="7772400" cy="282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egal Aid is a national organization which offers free legal advice for people with low incom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ECF2A-CD83-4C92-9644-A582A097CCA1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106632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ere can I find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Legal Aid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2895480"/>
            <a:ext cx="7772400" cy="9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r local telephone boo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886200" y="4114800"/>
            <a:ext cx="1281240" cy="134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E5B0C-B2DE-4B71-ACF9-D914BDBFDB69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9246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 am considering declaring bankruptcy, is this a good idea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880" y="2666880"/>
            <a:ext cx="8458200" cy="37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7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are desperate enough, bankruptcy may be your only op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almost always better to negotiate with your creditors for reduced paym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7A903-6C11-4F60-A254-DA863F25AD0F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792468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f I declare bankruptcy, how long is this on my record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514600" y="32763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en yea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3581280" y="4267080"/>
          <a:ext cx="160020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4267080"/>
                    <a:ext cx="16002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531DF-E8D8-4E99-9C02-6EE9A0054119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772400" cy="18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are the two types of bankruptcy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66880" y="2819160"/>
            <a:ext cx="43452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hapter 7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hapter 1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1590840" cy="15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AFB98-FAC7-44C0-8756-2112F0D2C7CC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99072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can I do to protect myself from a scam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Get a copy of your credit report at least once a year, if you are concerned, at least once every six month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EF3CC-83A7-4FDE-87C2-8AF8DAEBA1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187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Chapter 7 bankruptcy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2743200"/>
            <a:ext cx="80773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Chapter 7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is when you pay off your creditors according to a schedule determined by the cour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F609A-CEA3-4E83-BE5E-1F49CC0E9158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7772400" cy="18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Chapter 13 bankruptcy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90720" y="2437920"/>
            <a:ext cx="723888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Chapter 13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is when you are absolved from the debts you chose. There is a limit to what you are allowed to kee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D1A9C-E32D-4B57-8B7F-5CF58979225F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0" y="2057040"/>
            <a:ext cx="45720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6600"/>
                </a:solidFill>
                <a:latin typeface="Times New Roman"/>
              </a:rPr>
              <a:t>END</a:t>
            </a:r>
            <a:endParaRPr b="1" lang="en-US" sz="129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AFE4A-DBA8-4EF0-9603-474BB239F229}" type="slidenum">
              <a:t>72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06668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o are the three big credit reporting bureaus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361960" y="2895480"/>
            <a:ext cx="419076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xperia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rans Un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quifa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371600" y="3276720"/>
            <a:ext cx="838080" cy="1800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010280" y="3429000"/>
            <a:ext cx="838440" cy="17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8D56F-64EC-48BA-A1BB-CE8E3C8C4E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do I know which one is in my area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716256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ook in the phone book under credit bureau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67240" y="4206960"/>
            <a:ext cx="2314440" cy="140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7AA54-2A60-4A6A-9651-40426FE2BF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1T19:22:34Z</dcterms:created>
  <dc:creator>NRCC Faculty</dc:creator>
  <dc:description/>
  <dc:language>en-US</dc:language>
  <cp:lastModifiedBy>NRCC User</cp:lastModifiedBy>
  <cp:lastPrinted>1997-08-21T22:24:52Z</cp:lastPrinted>
  <dcterms:modified xsi:type="dcterms:W3CDTF">2000-01-19T20:11:54Z</dcterms:modified>
  <cp:revision>72</cp:revision>
  <dc:subject/>
  <dc:title>No Slide Title</dc:title>
</cp:coreProperties>
</file>