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7.wmf" ContentType="image/x-wmf"/>
  <Override PartName="/ppt/media/image7.wmf" ContentType="image/x-wmf"/>
  <Override PartName="/ppt/media/image2.wmf" ContentType="image/x-wmf"/>
  <Override PartName="/ppt/media/image32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126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24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118.xml" ContentType="application/vnd.openxmlformats-officedocument.presentationml.slide+xml"/>
  <Override PartName="/ppt/slides/slide7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4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B9A90-78F2-4990-A5E5-48E77147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511880"/>
            <a:ext cx="8534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2CD5-904B-48BC-A617-DBB571DC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5118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45118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B5246-C9C8-4EED-9475-B3A3CE84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236232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236232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5118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45118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45118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F0D6F-7F8F-4F8C-83DC-5228603E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F2711-C153-4686-BC87-6BA273AA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84DF6-D5DD-499B-8D56-BD212668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C74B1-CCC6-4393-B94D-DD1290BE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3CFFF-8744-4E13-A70C-1E98BAA1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34160" cy="9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67F4-D3DA-459F-B53B-4B23E3D3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5118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499BB-FFCF-49BB-92F1-F94F01A0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45118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A8894-ECDA-4560-B146-AEA58404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511880"/>
            <a:ext cx="8534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F86A-4B23-4207-99B7-783A6508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23623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4000"/>
          </a:bodyPr>
          <a:p>
            <a:pPr marL="219240" indent="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9240" indent="-21924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2" marL="219240" indent="-21924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3" marL="219240" indent="-21924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9240" indent="-21924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9240" indent="-21924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9240" indent="-21924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556A-07B8-4C23-8127-2060B8306E4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r.cc.va/fin107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frb.ny.org/" TargetMode="External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85680" y="1370160"/>
            <a:ext cx="7623360" cy="365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77120" y="5334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1523880"/>
            <a:ext cx="73915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Times New Roman"/>
              </a:rPr>
              <a:t>Chapter 9</a:t>
            </a:r>
            <a:br>
              <a:rPr sz="88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onds and Mutual Fund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518148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en Lo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River Community Colle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ublin, VA 24084</a:t>
            </a:r>
            <a:br>
              <a:rPr sz="2000"/>
            </a:br>
            <a:r>
              <a:rPr b="0" lang="en-US" sz="20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nr.cc.va/fin10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2FF22-4143-4845-8A71-02ECB2F325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71680" y="781200"/>
            <a:ext cx="79246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xes are not paid on initial income and are deferred on income from investmen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xes are paid on income but are deferred on retur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xes are paid on initial income as well as on income from investmen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408D-DB32-4E7F-B60F-9D24E2169A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175248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bond that the seller can simply pay you off when it is in his favor to do s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990720" y="4191120"/>
          <a:ext cx="99540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191120"/>
                    <a:ext cx="9954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533520" y="121932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callable bon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6D97C-D884-453D-B594-B18E89784388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609480" y="274320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 times of falling interest rates, a corporation can save money by paying off high interest and replacing it with low interest deb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14400" y="38088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y would a corporation make a call on a bon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C6D4B-1C80-461B-9221-ADB5D806BD39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1378080" y="2749680"/>
            <a:ext cx="1892160" cy="1282680"/>
          </a:xfrm>
          <a:custGeom>
            <a:avLst/>
            <a:gdLst>
              <a:gd name="textAreaLeft" fmla="*/ 69840 w 1892160"/>
              <a:gd name="textAreaRight" fmla="*/ 1822320 w 1892160"/>
              <a:gd name="textAreaTop" fmla="*/ 47520 h 1282680"/>
              <a:gd name="textAreaBottom" fmla="*/ 1024560 h 1282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255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600200" y="2819520"/>
            <a:ext cx="20574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522440" y="4038480"/>
          <a:ext cx="68724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440" y="4038480"/>
                    <a:ext cx="6872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1981080" y="2895480"/>
            <a:ext cx="571680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2" marL="914400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are less susceptible to a bond cal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" y="60948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s there an advantage of owning bonds through a mutual fun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2EC2F-E9C6-4441-B981-6363593C2193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ach year mutual funds are required to distribute to shareholders any income that exceeds fund expenses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14400" y="838080"/>
            <a:ext cx="746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n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annual distributio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9FA18-ABAB-4F0E-B847-20B99040C14A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914400" y="2666880"/>
            <a:ext cx="7391520" cy="37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y income is subject to income taxes and any capital gains is subject to capital gains taxes in the year they are pai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0960" y="41436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o I pay taxes on annual distributions if I keep my money in a fun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4BAF-F617-4AD6-9488-80CF85F1CC03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828800" y="2895120"/>
            <a:ext cx="60199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hortly after the fund’s distribu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1523880" y="4343400"/>
          <a:ext cx="5749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343400"/>
                    <a:ext cx="574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228600" y="9907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n is the best time to buy into a mutual fun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9D898-DF8D-4B98-AEF0-3AF55FE5309D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685440" y="297180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can pay taxes on phantom income or capital gains because it represents the profits of ot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3520" y="7621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happens if I buy into a mutual fund just before the distributio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870C6-B4CF-442F-B1A4-4DE90ABD676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838080" y="2133720"/>
            <a:ext cx="769644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fter the first of the new year, take your combined money and buy back into the mutual fun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ceive your distribution in cash then sell all of your stock before the end of the ye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53352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can I avoid paying taxes on phantom gain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355DF-FBE3-42B6-8664-18707DAB351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1447920" y="2895480"/>
            <a:ext cx="6705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ecause your gains will be exactly offset by your los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6553080" y="4648320"/>
          <a:ext cx="762120" cy="14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4648320"/>
                    <a:ext cx="7621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187200" y="635040"/>
            <a:ext cx="883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y will selling and then buying back into the mutual fund save tax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738F6-DCAF-4369-9367-19B2B9C48751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83808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rmally during Decemb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3124080" y="4648320"/>
            <a:ext cx="1371600" cy="10731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380880" y="144792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n do mutual funds pay distribution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5783E-BDA7-46CD-93D3-44E3E80EC450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certificate of debt issued by a government or corporation guaranteeing payment of the original investment plus interest by a specified dat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685800"/>
            <a:ext cx="6476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bon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FDC9C-4B95-4C3C-B2BA-91BE7AF1B6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1142640" y="2819160"/>
            <a:ext cx="746748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en you receive distributions you receive IRS Form 1099-DI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99072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IRS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Form 1099-DIV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ABAF7-B058-465A-959C-2428048E33CD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838080" y="29714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epending on interest rate movement, there is a best time to buy into one of these three mark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6858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 I know when to buy stocks, bonds, or securiti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D6100-CDE3-4E78-BF9C-732C037C4B6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1828440" y="2742840"/>
            <a:ext cx="6172200" cy="25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en interest rates are falling bond prices are ris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206360" y="3276720"/>
          <a:ext cx="77472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6360" y="3276720"/>
                    <a:ext cx="7747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"/>
          <p:cNvSpPr/>
          <p:nvPr/>
        </p:nvSpPr>
        <p:spPr>
          <a:xfrm>
            <a:off x="0" y="10666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n is the best time to buy into the bond marke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44EF8-141D-4BB2-8A55-80E0038720D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2057040" y="312372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en interest rates are in a valle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1066680" y="3352680"/>
          <a:ext cx="79056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352680"/>
                    <a:ext cx="7905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0" y="13716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n is the best time to buy into the stock marke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0FC62-3A6C-4110-A0BA-10271A39D62A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1219320" y="29718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en interest rates are above a certain level and are rising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1447920" y="3962520"/>
          <a:ext cx="5634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962520"/>
                    <a:ext cx="5634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"/>
          <p:cNvSpPr/>
          <p:nvPr/>
        </p:nvSpPr>
        <p:spPr>
          <a:xfrm>
            <a:off x="1143000" y="609480"/>
            <a:ext cx="693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n is the best time to buy into the money marke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76BB0-CEAB-4E0D-871D-896D52132585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285920" y="2565360"/>
            <a:ext cx="2438280" cy="243828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7600" y="4952880"/>
            <a:ext cx="160020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181480" y="2285640"/>
            <a:ext cx="2438640" cy="268452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76520" y="3962520"/>
            <a:ext cx="5486400" cy="0"/>
          </a:xfrm>
          <a:prstGeom prst="line">
            <a:avLst/>
          </a:prstGeom>
          <a:ln w="127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10740000">
            <a:off x="294480" y="1224720"/>
            <a:ext cx="85500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me interest ra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514600" y="5259240"/>
            <a:ext cx="42670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nth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60720" y="4089240"/>
            <a:ext cx="26668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2640000">
            <a:off x="1329840" y="2647800"/>
            <a:ext cx="2133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n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rot="18840000">
            <a:off x="4919760" y="2571480"/>
            <a:ext cx="3047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uri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8080" y="685800"/>
            <a:ext cx="769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ney Movement Strateg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5F32-500A-424D-96AF-90CC0DB085D8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1295280" y="320040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ithin a tax deferred no-load mutual fu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7391520" y="3352680"/>
          <a:ext cx="76680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3352680"/>
                    <a:ext cx="7668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"/>
          <p:cNvSpPr/>
          <p:nvPr/>
        </p:nvSpPr>
        <p:spPr>
          <a:xfrm>
            <a:off x="457200" y="76212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n does the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money movement strategy work the bes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67402-56EB-4BCF-B671-D461796FEA29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990720" y="28954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bout 4,000 in U.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5029200" y="3962520"/>
            <a:ext cx="1143000" cy="152388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1219320" y="114300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many mutual funds are ther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FB404-7364-4604-9DBA-B43D9F99BE9D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914040" y="2666880"/>
            <a:ext cx="35053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alanc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2514600"/>
            <a:ext cx="4572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dustr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ternationa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ney marke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unicipa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0880" y="76212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the different kind of funds availabl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6109D-39CC-40B7-9CAA-9F27801DC8C1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09480" y="2512800"/>
            <a:ext cx="4648320" cy="34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arron’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b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nancial Wor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siness Wee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181480" y="2436840"/>
            <a:ext cx="373392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iplinger’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ne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tun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rningst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43000" y="6094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some helpful magazin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2C746-7199-49A0-8515-417FF4EB077D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980720" y="2666880"/>
            <a:ext cx="48769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ries E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ries H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438280" y="4800600"/>
          <a:ext cx="2133720" cy="8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800600"/>
                    <a:ext cx="213372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533520" y="68580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the two types of U. S. Savings Bond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2DFF2-2CE0-43D6-9333-DBD2AFC0B5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920880" y="1758960"/>
            <a:ext cx="1892160" cy="1282680"/>
          </a:xfrm>
          <a:custGeom>
            <a:avLst/>
            <a:gdLst>
              <a:gd name="textAreaLeft" fmla="*/ 69840 w 1892160"/>
              <a:gd name="textAreaRight" fmla="*/ 1822320 w 1892160"/>
              <a:gd name="textAreaTop" fmla="*/ 47520 h 1282680"/>
              <a:gd name="textAreaBottom" fmla="*/ 1024560 h 1282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4571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66680" y="1752480"/>
            <a:ext cx="20574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836640" y="3048120"/>
          <a:ext cx="83988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3048120"/>
                    <a:ext cx="8398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>
            <a:off x="990720" y="2286000"/>
            <a:ext cx="78483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2" marL="914400"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specially with companies who advertise with them and authors can be biase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447920" y="685800"/>
            <a:ext cx="67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an magazines be biase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2A090-DD97-4508-B8F1-BEF377B85C49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904760" y="2895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tock brok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nancial adviso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1676520" y="4114800"/>
          <a:ext cx="6490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114800"/>
                    <a:ext cx="6490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>
            <a:off x="380880" y="121932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re might be a better place to get advi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67F2A-5ED5-473C-B4B5-366FBD89E018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609480" y="3580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t usually, especially if the fund has changed manag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53352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s a fund’s past performance a good indicator of its future perform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046DB-D07D-4915-9B2C-B82DBB1AA1E5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1219320" y="2590560"/>
            <a:ext cx="670536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ES, large funds tend to be more stable than smaller fund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6248520" y="4267080"/>
          <a:ext cx="76176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4267080"/>
                    <a:ext cx="76176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685800" y="9144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Are some funds more stable than other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3251F-344E-4A60-A4B7-59B59B5E8614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990720" y="35812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$1,000 to $3,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3520" y="114300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much will it cost me to get started in a mutual fun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7F747-6CF2-4132-887A-3DA889257BBF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219320" y="1905120"/>
            <a:ext cx="731520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ith automatic withdrawal from your checking account monthly, as little as $100 could get you started with some fund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" y="76212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s there a cheaper wa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D6FB0-A549-43A6-A236-1EBC5531B1B2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752480" y="1905120"/>
            <a:ext cx="59436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6600"/>
                </a:solidFill>
                <a:latin typeface="Times New Roman"/>
              </a:rPr>
              <a:t>END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8FA78-4823-4416-AF52-C32A48BE1B9D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066320" y="2895480"/>
            <a:ext cx="716292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ries EE Savings Bond is bought at 50% of its face val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609480"/>
            <a:ext cx="693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much will I pay for a Series EE Savings Bon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0CE0B-3C5D-49BB-8D6E-639E022E92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3880" y="3580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ts face valu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70120" y="3419640"/>
            <a:ext cx="1452240" cy="2143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799320" y="4349880"/>
            <a:ext cx="1479600" cy="1349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85800" y="91440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much is a Series EE Savings Bond worth at maturi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FD84B-FA4E-4E49-AC6C-42476E0507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294920" y="2743200"/>
            <a:ext cx="6629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higher the interest rate, the shorter the time to ma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990720"/>
            <a:ext cx="900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can I compare the interest rate and maturi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460FB-4E76-47EB-903F-7B3FE4620C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143000" y="274284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y are purchased at face value and pay interest every 6 month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7621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 Series HH Savings Bonds work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05A0-47D0-48B4-8DA9-FF31CF2361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142640" y="3427200"/>
            <a:ext cx="662940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you put 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819520" y="4952880"/>
            <a:ext cx="1998720" cy="628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87280" y="111132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much do I get back at maturity with a Series HH Savings Bond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B688A-CC90-456E-9FBA-A979CFFB5F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838080" y="3045960"/>
            <a:ext cx="7315200" cy="17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nly with EE bonds held for more than a mon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2160" y="142236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can I purchase Series HH Savings Bond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2C89-BD48-4D11-8EE0-650169AA4A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return on an investment divided into 72 will tell you how long it will take the investment to double in valu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990720"/>
            <a:ext cx="78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rule of 72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0B6D3-2344-4C06-8BB8-60BAC05F2C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09320" y="3581280"/>
            <a:ext cx="4800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$1,264,87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14300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much would I have if I saved $200 a month for 40 years at 10%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1E871-D900-4AAA-B2DD-CB849CD0C8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040" y="2971440"/>
            <a:ext cx="71629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72 divided by a return of 10% equals 7.2 yea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248520" y="4800600"/>
            <a:ext cx="1133280" cy="1057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10666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Give an example of the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rule of 72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00F9-0A68-490A-AA80-648B48151B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447560" y="2286000"/>
            <a:ext cx="65530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onds bought late in the month you will earn interest for the whole mon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248520" y="4648320"/>
          <a:ext cx="914400" cy="14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4648320"/>
                    <a:ext cx="9144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871560" y="60948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n is the best time to buy savings bond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049BA-0801-4D1A-8FB6-A011AAE24F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14040" y="251424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you redeem it at the beginning of the month you will earn interest as if you held it for the entire month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838080"/>
            <a:ext cx="815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n is the best time to redeem savings bond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A1764-A178-4998-9E00-B7F73FCA8D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600200" y="3276720"/>
            <a:ext cx="6019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$15, 000 a ye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3809880"/>
          <a:ext cx="9907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809880"/>
                    <a:ext cx="9907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914400" y="83808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maximum I can invest in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savings bond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501AD-E802-4D1C-8358-6F03EAAEC8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840" y="2285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es, unless it is held to maturity at which time it is worth the fixed rate or 85% of what a five year Treasury note is paying at the tim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68580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s the return on a savings bond fixe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5AC85-AD9A-4812-9787-8D1257BE1B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600200" y="2895120"/>
            <a:ext cx="63244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t least 6 months to earn any intere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581280" y="4952880"/>
            <a:ext cx="2300400" cy="1019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36520" y="12952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long do I have to keep a U.S. savings bon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6B6A2-CE98-41EA-A92C-19C483D61B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1760" y="25909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deeming the bond before maturity will earn you the guaranteed interest up to the time of redemp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990720"/>
            <a:ext cx="670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an I cash in the bond at any tim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1355-17CD-465B-B41C-120AA4F0F92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5960" y="2139840"/>
            <a:ext cx="1511280" cy="1206720"/>
          </a:xfrm>
          <a:custGeom>
            <a:avLst/>
            <a:gdLst>
              <a:gd name="textAreaLeft" fmla="*/ 55800 w 1511280"/>
              <a:gd name="textAreaRight" fmla="*/ 1455480 w 1511280"/>
              <a:gd name="textAreaTop" fmla="*/ 44640 h 1206720"/>
              <a:gd name="textAreaBottom" fmla="*/ 963720 h 12067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344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12640" y="3346560"/>
          <a:ext cx="108756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40" y="3346560"/>
                    <a:ext cx="108756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981080" y="2973240"/>
            <a:ext cx="6782040" cy="30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can keep the bond and continue earning interest until the bond is 30 years old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60948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o I have to redeem a savings bond after it matur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171F8-FD4A-4909-9ECD-D346A4A6FAB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2120" y="144792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some advantages of U.S. Savings Bond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010280" y="5562720"/>
            <a:ext cx="1067040" cy="91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ABDC6-AA8C-4827-AD97-ABADC723172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06440" y="185760"/>
            <a:ext cx="8458200" cy="66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ceeds used for education is tax fre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nds can be bought in small denominations at same r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th HH bonds taxes are paid only as you receive the mon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can postpone taxes after redemption by buying HH bon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deral taxes not paid until bond is redeem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state or local taxes on retur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can purchase and redeem at bank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tomatic withdrawal from paychec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commissions or fe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70E1-7F7C-4996-8208-BF55799F129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8120" y="3352680"/>
            <a:ext cx="30477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$4,21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705720" y="3276720"/>
            <a:ext cx="663480" cy="1261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47920" y="914400"/>
            <a:ext cx="6705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would my monthly income be at a 4% retur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57F51-ED52-4B31-B203-AFD258F45B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581280" y="4572000"/>
            <a:ext cx="1543320" cy="10382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61760" y="312408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U.S. government bo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5486400"/>
            <a:ext cx="3279960" cy="426960"/>
          </a:xfrm>
          <a:custGeom>
            <a:avLst/>
            <a:gdLst/>
            <a:ahLst/>
            <a:rect l="l" t="t" r="r" b="b"/>
            <a:pathLst>
              <a:path w="2066" h="269">
                <a:moveTo>
                  <a:pt x="111" y="241"/>
                </a:moveTo>
                <a:lnTo>
                  <a:pt x="20" y="216"/>
                </a:lnTo>
                <a:lnTo>
                  <a:pt x="0" y="202"/>
                </a:lnTo>
                <a:lnTo>
                  <a:pt x="38" y="185"/>
                </a:lnTo>
                <a:lnTo>
                  <a:pt x="126" y="171"/>
                </a:lnTo>
                <a:lnTo>
                  <a:pt x="158" y="160"/>
                </a:lnTo>
                <a:lnTo>
                  <a:pt x="168" y="144"/>
                </a:lnTo>
                <a:lnTo>
                  <a:pt x="186" y="136"/>
                </a:lnTo>
                <a:lnTo>
                  <a:pt x="240" y="123"/>
                </a:lnTo>
                <a:lnTo>
                  <a:pt x="318" y="110"/>
                </a:lnTo>
                <a:lnTo>
                  <a:pt x="378" y="98"/>
                </a:lnTo>
                <a:lnTo>
                  <a:pt x="417" y="93"/>
                </a:lnTo>
                <a:lnTo>
                  <a:pt x="505" y="89"/>
                </a:lnTo>
                <a:lnTo>
                  <a:pt x="684" y="83"/>
                </a:lnTo>
                <a:lnTo>
                  <a:pt x="834" y="75"/>
                </a:lnTo>
                <a:lnTo>
                  <a:pt x="992" y="72"/>
                </a:lnTo>
                <a:lnTo>
                  <a:pt x="956" y="55"/>
                </a:lnTo>
                <a:lnTo>
                  <a:pt x="914" y="40"/>
                </a:lnTo>
                <a:lnTo>
                  <a:pt x="914" y="23"/>
                </a:lnTo>
                <a:lnTo>
                  <a:pt x="937" y="10"/>
                </a:lnTo>
                <a:lnTo>
                  <a:pt x="1054" y="0"/>
                </a:lnTo>
                <a:lnTo>
                  <a:pt x="1189" y="7"/>
                </a:lnTo>
                <a:lnTo>
                  <a:pt x="1360" y="14"/>
                </a:lnTo>
                <a:lnTo>
                  <a:pt x="1401" y="20"/>
                </a:lnTo>
                <a:lnTo>
                  <a:pt x="1406" y="28"/>
                </a:lnTo>
                <a:lnTo>
                  <a:pt x="1311" y="55"/>
                </a:lnTo>
                <a:lnTo>
                  <a:pt x="1300" y="62"/>
                </a:lnTo>
                <a:lnTo>
                  <a:pt x="1318" y="71"/>
                </a:lnTo>
                <a:lnTo>
                  <a:pt x="1466" y="80"/>
                </a:lnTo>
                <a:lnTo>
                  <a:pt x="1603" y="92"/>
                </a:lnTo>
                <a:lnTo>
                  <a:pt x="1733" y="106"/>
                </a:lnTo>
                <a:lnTo>
                  <a:pt x="1969" y="140"/>
                </a:lnTo>
                <a:lnTo>
                  <a:pt x="2065" y="159"/>
                </a:lnTo>
                <a:lnTo>
                  <a:pt x="2065" y="180"/>
                </a:lnTo>
                <a:lnTo>
                  <a:pt x="2054" y="196"/>
                </a:lnTo>
                <a:lnTo>
                  <a:pt x="2007" y="212"/>
                </a:lnTo>
                <a:lnTo>
                  <a:pt x="1940" y="223"/>
                </a:lnTo>
                <a:lnTo>
                  <a:pt x="1818" y="238"/>
                </a:lnTo>
                <a:lnTo>
                  <a:pt x="1712" y="252"/>
                </a:lnTo>
                <a:lnTo>
                  <a:pt x="1386" y="267"/>
                </a:lnTo>
                <a:lnTo>
                  <a:pt x="974" y="268"/>
                </a:lnTo>
                <a:lnTo>
                  <a:pt x="590" y="262"/>
                </a:lnTo>
                <a:lnTo>
                  <a:pt x="277" y="250"/>
                </a:lnTo>
                <a:lnTo>
                  <a:pt x="111" y="241"/>
                </a:lnTo>
              </a:path>
            </a:pathLst>
          </a:custGeom>
          <a:solidFill>
            <a:srgbClr val="a7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144792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U.S. Treasury Securi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2136C-0E14-4359-B482-232331490F9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219320" y="2665440"/>
            <a:ext cx="7315200" cy="24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tate and local taxes are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paid, but federal taxes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pai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172200" y="4495680"/>
          <a:ext cx="11430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4495680"/>
                    <a:ext cx="1143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457200" y="99072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Are taxes paid on Treasury Securiti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F2CA6-7488-46F9-A1A2-99062C3D4E8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14040" y="2819160"/>
            <a:ext cx="746748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market that a bond can be bought and sold after the initial purchase but before its matur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1143000"/>
            <a:ext cx="693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secondary marke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9A389-4723-4465-8610-AC733C18567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99840" y="320040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ond Mark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629400" y="3733920"/>
            <a:ext cx="1276200" cy="1352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286000" y="4800600"/>
            <a:ext cx="1447920" cy="1033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066680" y="1066680"/>
            <a:ext cx="7086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another name for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secondary marke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5C9F4-4FC7-4E9B-8D9B-4BA8987028C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523520" y="335232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the buyer and seller agree up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9907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determines the price of a bond in the secondary marke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61774-D9E3-4FA3-BAA2-E1BF76AF0B2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2895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reater risk and more time to use purchaser’s mone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38280" y="4724280"/>
            <a:ext cx="1314720" cy="990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371600" y="762120"/>
            <a:ext cx="670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y do longer term bonds pay a higher interes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CD080-E920-44A5-A9AB-5853288C12A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3160" y="297180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llers of bonds are in a better bargaining pos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29528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y do bond prices rise when interest rates fall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38D5C-9308-47CF-A911-B834B9CCBAA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7720" y="30481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uyers of bonds are in a better bargaining pos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37160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y do bond prices fall when interest rates ris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6108E-E596-4DF6-9A72-E1F892B59D4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80920" y="2666880"/>
            <a:ext cx="2514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il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o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70120" y="2819520"/>
            <a:ext cx="517320" cy="485640"/>
          </a:xfrm>
          <a:custGeom>
            <a:avLst/>
            <a:gdLst/>
            <a:ahLst/>
            <a:rect l="l" t="t" r="r" b="b"/>
            <a:pathLst>
              <a:path w="326" h="306">
                <a:moveTo>
                  <a:pt x="217" y="139"/>
                </a:moveTo>
                <a:lnTo>
                  <a:pt x="195" y="80"/>
                </a:lnTo>
                <a:lnTo>
                  <a:pt x="177" y="45"/>
                </a:lnTo>
                <a:lnTo>
                  <a:pt x="156" y="21"/>
                </a:lnTo>
                <a:lnTo>
                  <a:pt x="135" y="8"/>
                </a:lnTo>
                <a:lnTo>
                  <a:pt x="115" y="0"/>
                </a:lnTo>
                <a:lnTo>
                  <a:pt x="88" y="0"/>
                </a:lnTo>
                <a:lnTo>
                  <a:pt x="57" y="9"/>
                </a:lnTo>
                <a:lnTo>
                  <a:pt x="31" y="30"/>
                </a:lnTo>
                <a:lnTo>
                  <a:pt x="12" y="57"/>
                </a:lnTo>
                <a:lnTo>
                  <a:pt x="0" y="93"/>
                </a:lnTo>
                <a:lnTo>
                  <a:pt x="0" y="134"/>
                </a:lnTo>
                <a:lnTo>
                  <a:pt x="4" y="188"/>
                </a:lnTo>
                <a:lnTo>
                  <a:pt x="13" y="229"/>
                </a:lnTo>
                <a:lnTo>
                  <a:pt x="27" y="254"/>
                </a:lnTo>
                <a:lnTo>
                  <a:pt x="49" y="277"/>
                </a:lnTo>
                <a:lnTo>
                  <a:pt x="76" y="292"/>
                </a:lnTo>
                <a:lnTo>
                  <a:pt x="111" y="301"/>
                </a:lnTo>
                <a:lnTo>
                  <a:pt x="138" y="305"/>
                </a:lnTo>
                <a:lnTo>
                  <a:pt x="165" y="299"/>
                </a:lnTo>
                <a:lnTo>
                  <a:pt x="186" y="286"/>
                </a:lnTo>
                <a:lnTo>
                  <a:pt x="205" y="265"/>
                </a:lnTo>
                <a:lnTo>
                  <a:pt x="214" y="247"/>
                </a:lnTo>
                <a:lnTo>
                  <a:pt x="222" y="215"/>
                </a:lnTo>
                <a:lnTo>
                  <a:pt x="223" y="193"/>
                </a:lnTo>
                <a:lnTo>
                  <a:pt x="223" y="179"/>
                </a:lnTo>
                <a:lnTo>
                  <a:pt x="262" y="205"/>
                </a:lnTo>
                <a:lnTo>
                  <a:pt x="289" y="215"/>
                </a:lnTo>
                <a:lnTo>
                  <a:pt x="307" y="218"/>
                </a:lnTo>
                <a:lnTo>
                  <a:pt x="322" y="209"/>
                </a:lnTo>
                <a:lnTo>
                  <a:pt x="325" y="187"/>
                </a:lnTo>
                <a:lnTo>
                  <a:pt x="312" y="170"/>
                </a:lnTo>
                <a:lnTo>
                  <a:pt x="280" y="164"/>
                </a:lnTo>
                <a:lnTo>
                  <a:pt x="244" y="152"/>
                </a:lnTo>
                <a:lnTo>
                  <a:pt x="217" y="13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76320" y="3367080"/>
            <a:ext cx="533520" cy="855720"/>
          </a:xfrm>
          <a:custGeom>
            <a:avLst/>
            <a:gdLst/>
            <a:ahLst/>
            <a:rect l="l" t="t" r="r" b="b"/>
            <a:pathLst>
              <a:path w="336" h="539">
                <a:moveTo>
                  <a:pt x="43" y="13"/>
                </a:moveTo>
                <a:lnTo>
                  <a:pt x="76" y="3"/>
                </a:lnTo>
                <a:lnTo>
                  <a:pt x="120" y="0"/>
                </a:lnTo>
                <a:lnTo>
                  <a:pt x="152" y="7"/>
                </a:lnTo>
                <a:lnTo>
                  <a:pt x="191" y="25"/>
                </a:lnTo>
                <a:lnTo>
                  <a:pt x="215" y="48"/>
                </a:lnTo>
                <a:lnTo>
                  <a:pt x="249" y="86"/>
                </a:lnTo>
                <a:lnTo>
                  <a:pt x="273" y="122"/>
                </a:lnTo>
                <a:lnTo>
                  <a:pt x="296" y="166"/>
                </a:lnTo>
                <a:lnTo>
                  <a:pt x="317" y="216"/>
                </a:lnTo>
                <a:lnTo>
                  <a:pt x="329" y="264"/>
                </a:lnTo>
                <a:lnTo>
                  <a:pt x="335" y="303"/>
                </a:lnTo>
                <a:lnTo>
                  <a:pt x="335" y="347"/>
                </a:lnTo>
                <a:lnTo>
                  <a:pt x="331" y="392"/>
                </a:lnTo>
                <a:lnTo>
                  <a:pt x="317" y="430"/>
                </a:lnTo>
                <a:lnTo>
                  <a:pt x="299" y="470"/>
                </a:lnTo>
                <a:lnTo>
                  <a:pt x="276" y="497"/>
                </a:lnTo>
                <a:lnTo>
                  <a:pt x="249" y="519"/>
                </a:lnTo>
                <a:lnTo>
                  <a:pt x="215" y="534"/>
                </a:lnTo>
                <a:lnTo>
                  <a:pt x="182" y="538"/>
                </a:lnTo>
                <a:lnTo>
                  <a:pt x="141" y="532"/>
                </a:lnTo>
                <a:lnTo>
                  <a:pt x="111" y="520"/>
                </a:lnTo>
                <a:lnTo>
                  <a:pt x="85" y="497"/>
                </a:lnTo>
                <a:lnTo>
                  <a:pt x="66" y="457"/>
                </a:lnTo>
                <a:lnTo>
                  <a:pt x="58" y="421"/>
                </a:lnTo>
                <a:lnTo>
                  <a:pt x="61" y="380"/>
                </a:lnTo>
                <a:lnTo>
                  <a:pt x="72" y="343"/>
                </a:lnTo>
                <a:lnTo>
                  <a:pt x="88" y="321"/>
                </a:lnTo>
                <a:lnTo>
                  <a:pt x="98" y="298"/>
                </a:lnTo>
                <a:lnTo>
                  <a:pt x="96" y="277"/>
                </a:lnTo>
                <a:lnTo>
                  <a:pt x="92" y="256"/>
                </a:lnTo>
                <a:lnTo>
                  <a:pt x="81" y="225"/>
                </a:lnTo>
                <a:lnTo>
                  <a:pt x="63" y="203"/>
                </a:lnTo>
                <a:lnTo>
                  <a:pt x="43" y="175"/>
                </a:lnTo>
                <a:lnTo>
                  <a:pt x="18" y="148"/>
                </a:lnTo>
                <a:lnTo>
                  <a:pt x="4" y="114"/>
                </a:lnTo>
                <a:lnTo>
                  <a:pt x="0" y="74"/>
                </a:lnTo>
                <a:lnTo>
                  <a:pt x="9" y="43"/>
                </a:lnTo>
                <a:lnTo>
                  <a:pt x="25" y="25"/>
                </a:lnTo>
                <a:lnTo>
                  <a:pt x="43" y="1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89080" y="3402000"/>
            <a:ext cx="574920" cy="771480"/>
          </a:xfrm>
          <a:custGeom>
            <a:avLst/>
            <a:gdLst/>
            <a:ahLst/>
            <a:rect l="l" t="t" r="r" b="b"/>
            <a:pathLst>
              <a:path w="362" h="486">
                <a:moveTo>
                  <a:pt x="42" y="0"/>
                </a:moveTo>
                <a:lnTo>
                  <a:pt x="112" y="46"/>
                </a:lnTo>
                <a:lnTo>
                  <a:pt x="174" y="100"/>
                </a:lnTo>
                <a:lnTo>
                  <a:pt x="246" y="159"/>
                </a:lnTo>
                <a:lnTo>
                  <a:pt x="306" y="211"/>
                </a:lnTo>
                <a:lnTo>
                  <a:pt x="325" y="234"/>
                </a:lnTo>
                <a:lnTo>
                  <a:pt x="325" y="251"/>
                </a:lnTo>
                <a:lnTo>
                  <a:pt x="319" y="268"/>
                </a:lnTo>
                <a:lnTo>
                  <a:pt x="298" y="285"/>
                </a:lnTo>
                <a:lnTo>
                  <a:pt x="246" y="321"/>
                </a:lnTo>
                <a:lnTo>
                  <a:pt x="214" y="362"/>
                </a:lnTo>
                <a:lnTo>
                  <a:pt x="214" y="375"/>
                </a:lnTo>
                <a:lnTo>
                  <a:pt x="219" y="387"/>
                </a:lnTo>
                <a:lnTo>
                  <a:pt x="242" y="410"/>
                </a:lnTo>
                <a:lnTo>
                  <a:pt x="276" y="436"/>
                </a:lnTo>
                <a:lnTo>
                  <a:pt x="325" y="452"/>
                </a:lnTo>
                <a:lnTo>
                  <a:pt x="357" y="458"/>
                </a:lnTo>
                <a:lnTo>
                  <a:pt x="361" y="470"/>
                </a:lnTo>
                <a:lnTo>
                  <a:pt x="330" y="484"/>
                </a:lnTo>
                <a:lnTo>
                  <a:pt x="301" y="485"/>
                </a:lnTo>
                <a:lnTo>
                  <a:pt x="260" y="476"/>
                </a:lnTo>
                <a:lnTo>
                  <a:pt x="228" y="457"/>
                </a:lnTo>
                <a:lnTo>
                  <a:pt x="211" y="435"/>
                </a:lnTo>
                <a:lnTo>
                  <a:pt x="191" y="395"/>
                </a:lnTo>
                <a:lnTo>
                  <a:pt x="179" y="361"/>
                </a:lnTo>
                <a:lnTo>
                  <a:pt x="189" y="334"/>
                </a:lnTo>
                <a:lnTo>
                  <a:pt x="209" y="316"/>
                </a:lnTo>
                <a:lnTo>
                  <a:pt x="231" y="294"/>
                </a:lnTo>
                <a:lnTo>
                  <a:pt x="255" y="268"/>
                </a:lnTo>
                <a:lnTo>
                  <a:pt x="279" y="243"/>
                </a:lnTo>
                <a:lnTo>
                  <a:pt x="273" y="225"/>
                </a:lnTo>
                <a:lnTo>
                  <a:pt x="228" y="208"/>
                </a:lnTo>
                <a:lnTo>
                  <a:pt x="185" y="188"/>
                </a:lnTo>
                <a:lnTo>
                  <a:pt x="145" y="166"/>
                </a:lnTo>
                <a:lnTo>
                  <a:pt x="89" y="131"/>
                </a:lnTo>
                <a:lnTo>
                  <a:pt x="24" y="74"/>
                </a:lnTo>
                <a:lnTo>
                  <a:pt x="0" y="33"/>
                </a:lnTo>
                <a:lnTo>
                  <a:pt x="1" y="4"/>
                </a:lnTo>
                <a:lnTo>
                  <a:pt x="19" y="0"/>
                </a:lnTo>
                <a:lnTo>
                  <a:pt x="42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51000" y="4091040"/>
            <a:ext cx="486000" cy="1162080"/>
          </a:xfrm>
          <a:custGeom>
            <a:avLst/>
            <a:gdLst/>
            <a:ahLst/>
            <a:rect l="l" t="t" r="r" b="b"/>
            <a:pathLst>
              <a:path w="306" h="732">
                <a:moveTo>
                  <a:pt x="51" y="0"/>
                </a:moveTo>
                <a:lnTo>
                  <a:pt x="77" y="16"/>
                </a:lnTo>
                <a:lnTo>
                  <a:pt x="105" y="57"/>
                </a:lnTo>
                <a:lnTo>
                  <a:pt x="150" y="135"/>
                </a:lnTo>
                <a:lnTo>
                  <a:pt x="190" y="232"/>
                </a:lnTo>
                <a:lnTo>
                  <a:pt x="215" y="316"/>
                </a:lnTo>
                <a:lnTo>
                  <a:pt x="215" y="339"/>
                </a:lnTo>
                <a:lnTo>
                  <a:pt x="215" y="368"/>
                </a:lnTo>
                <a:lnTo>
                  <a:pt x="206" y="461"/>
                </a:lnTo>
                <a:lnTo>
                  <a:pt x="188" y="546"/>
                </a:lnTo>
                <a:lnTo>
                  <a:pt x="172" y="604"/>
                </a:lnTo>
                <a:lnTo>
                  <a:pt x="167" y="619"/>
                </a:lnTo>
                <a:lnTo>
                  <a:pt x="175" y="638"/>
                </a:lnTo>
                <a:lnTo>
                  <a:pt x="194" y="650"/>
                </a:lnTo>
                <a:lnTo>
                  <a:pt x="238" y="660"/>
                </a:lnTo>
                <a:lnTo>
                  <a:pt x="281" y="674"/>
                </a:lnTo>
                <a:lnTo>
                  <a:pt x="305" y="690"/>
                </a:lnTo>
                <a:lnTo>
                  <a:pt x="304" y="700"/>
                </a:lnTo>
                <a:lnTo>
                  <a:pt x="283" y="722"/>
                </a:lnTo>
                <a:lnTo>
                  <a:pt x="260" y="731"/>
                </a:lnTo>
                <a:lnTo>
                  <a:pt x="235" y="722"/>
                </a:lnTo>
                <a:lnTo>
                  <a:pt x="208" y="700"/>
                </a:lnTo>
                <a:lnTo>
                  <a:pt x="176" y="685"/>
                </a:lnTo>
                <a:lnTo>
                  <a:pt x="141" y="678"/>
                </a:lnTo>
                <a:lnTo>
                  <a:pt x="119" y="681"/>
                </a:lnTo>
                <a:lnTo>
                  <a:pt x="105" y="669"/>
                </a:lnTo>
                <a:lnTo>
                  <a:pt x="104" y="654"/>
                </a:lnTo>
                <a:lnTo>
                  <a:pt x="117" y="628"/>
                </a:lnTo>
                <a:lnTo>
                  <a:pt x="137" y="604"/>
                </a:lnTo>
                <a:lnTo>
                  <a:pt x="154" y="573"/>
                </a:lnTo>
                <a:lnTo>
                  <a:pt x="166" y="518"/>
                </a:lnTo>
                <a:lnTo>
                  <a:pt x="163" y="465"/>
                </a:lnTo>
                <a:lnTo>
                  <a:pt x="154" y="408"/>
                </a:lnTo>
                <a:lnTo>
                  <a:pt x="152" y="364"/>
                </a:lnTo>
                <a:lnTo>
                  <a:pt x="152" y="326"/>
                </a:lnTo>
                <a:lnTo>
                  <a:pt x="144" y="294"/>
                </a:lnTo>
                <a:lnTo>
                  <a:pt x="113" y="236"/>
                </a:lnTo>
                <a:lnTo>
                  <a:pt x="68" y="179"/>
                </a:lnTo>
                <a:lnTo>
                  <a:pt x="36" y="130"/>
                </a:lnTo>
                <a:lnTo>
                  <a:pt x="11" y="83"/>
                </a:lnTo>
                <a:lnTo>
                  <a:pt x="0" y="43"/>
                </a:lnTo>
                <a:lnTo>
                  <a:pt x="6" y="9"/>
                </a:lnTo>
                <a:lnTo>
                  <a:pt x="20" y="0"/>
                </a:lnTo>
                <a:lnTo>
                  <a:pt x="38" y="0"/>
                </a:lnTo>
                <a:lnTo>
                  <a:pt x="5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98640" y="4040280"/>
            <a:ext cx="270000" cy="1217520"/>
          </a:xfrm>
          <a:custGeom>
            <a:avLst/>
            <a:gdLst/>
            <a:ahLst/>
            <a:rect l="l" t="t" r="r" b="b"/>
            <a:pathLst>
              <a:path w="170" h="767">
                <a:moveTo>
                  <a:pt x="64" y="84"/>
                </a:moveTo>
                <a:lnTo>
                  <a:pt x="74" y="24"/>
                </a:lnTo>
                <a:lnTo>
                  <a:pt x="103" y="0"/>
                </a:lnTo>
                <a:lnTo>
                  <a:pt x="160" y="22"/>
                </a:lnTo>
                <a:lnTo>
                  <a:pt x="169" y="66"/>
                </a:lnTo>
                <a:lnTo>
                  <a:pt x="163" y="145"/>
                </a:lnTo>
                <a:lnTo>
                  <a:pt x="146" y="242"/>
                </a:lnTo>
                <a:lnTo>
                  <a:pt x="140" y="319"/>
                </a:lnTo>
                <a:lnTo>
                  <a:pt x="135" y="387"/>
                </a:lnTo>
                <a:lnTo>
                  <a:pt x="141" y="490"/>
                </a:lnTo>
                <a:lnTo>
                  <a:pt x="144" y="595"/>
                </a:lnTo>
                <a:lnTo>
                  <a:pt x="154" y="651"/>
                </a:lnTo>
                <a:lnTo>
                  <a:pt x="163" y="675"/>
                </a:lnTo>
                <a:lnTo>
                  <a:pt x="164" y="691"/>
                </a:lnTo>
                <a:lnTo>
                  <a:pt x="158" y="704"/>
                </a:lnTo>
                <a:lnTo>
                  <a:pt x="140" y="709"/>
                </a:lnTo>
                <a:lnTo>
                  <a:pt x="108" y="719"/>
                </a:lnTo>
                <a:lnTo>
                  <a:pt x="76" y="741"/>
                </a:lnTo>
                <a:lnTo>
                  <a:pt x="40" y="766"/>
                </a:lnTo>
                <a:lnTo>
                  <a:pt x="21" y="766"/>
                </a:lnTo>
                <a:lnTo>
                  <a:pt x="5" y="744"/>
                </a:lnTo>
                <a:lnTo>
                  <a:pt x="0" y="710"/>
                </a:lnTo>
                <a:lnTo>
                  <a:pt x="14" y="701"/>
                </a:lnTo>
                <a:lnTo>
                  <a:pt x="63" y="691"/>
                </a:lnTo>
                <a:lnTo>
                  <a:pt x="95" y="682"/>
                </a:lnTo>
                <a:lnTo>
                  <a:pt x="112" y="666"/>
                </a:lnTo>
                <a:lnTo>
                  <a:pt x="117" y="634"/>
                </a:lnTo>
                <a:lnTo>
                  <a:pt x="114" y="578"/>
                </a:lnTo>
                <a:lnTo>
                  <a:pt x="99" y="499"/>
                </a:lnTo>
                <a:lnTo>
                  <a:pt x="76" y="418"/>
                </a:lnTo>
                <a:lnTo>
                  <a:pt x="64" y="366"/>
                </a:lnTo>
                <a:lnTo>
                  <a:pt x="63" y="301"/>
                </a:lnTo>
                <a:lnTo>
                  <a:pt x="60" y="211"/>
                </a:lnTo>
                <a:lnTo>
                  <a:pt x="63" y="142"/>
                </a:lnTo>
                <a:lnTo>
                  <a:pt x="64" y="8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0360" y="3038400"/>
            <a:ext cx="308160" cy="287280"/>
          </a:xfrm>
          <a:custGeom>
            <a:avLst/>
            <a:gdLst/>
            <a:ahLst/>
            <a:rect l="l" t="t" r="r" b="b"/>
            <a:pathLst>
              <a:path w="194" h="181">
                <a:moveTo>
                  <a:pt x="0" y="157"/>
                </a:moveTo>
                <a:lnTo>
                  <a:pt x="144" y="0"/>
                </a:lnTo>
                <a:lnTo>
                  <a:pt x="193" y="64"/>
                </a:lnTo>
                <a:lnTo>
                  <a:pt x="17" y="180"/>
                </a:lnTo>
                <a:lnTo>
                  <a:pt x="0" y="15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58880" y="3346560"/>
            <a:ext cx="365400" cy="190440"/>
          </a:xfrm>
          <a:custGeom>
            <a:avLst/>
            <a:gdLst/>
            <a:ahLst/>
            <a:rect l="l" t="t" r="r" b="b"/>
            <a:pathLst>
              <a:path w="230" h="120">
                <a:moveTo>
                  <a:pt x="0" y="88"/>
                </a:moveTo>
                <a:lnTo>
                  <a:pt x="202" y="0"/>
                </a:lnTo>
                <a:lnTo>
                  <a:pt x="229" y="74"/>
                </a:lnTo>
                <a:lnTo>
                  <a:pt x="12" y="119"/>
                </a:lnTo>
                <a:lnTo>
                  <a:pt x="0" y="102"/>
                </a:lnTo>
                <a:lnTo>
                  <a:pt x="0" y="8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25560" y="3795840"/>
            <a:ext cx="368640" cy="172800"/>
          </a:xfrm>
          <a:custGeom>
            <a:avLst/>
            <a:gdLst/>
            <a:ahLst/>
            <a:rect l="l" t="t" r="r" b="b"/>
            <a:pathLst>
              <a:path w="232" h="109">
                <a:moveTo>
                  <a:pt x="14" y="0"/>
                </a:moveTo>
                <a:lnTo>
                  <a:pt x="231" y="19"/>
                </a:lnTo>
                <a:lnTo>
                  <a:pt x="220" y="108"/>
                </a:lnTo>
                <a:lnTo>
                  <a:pt x="0" y="31"/>
                </a:lnTo>
                <a:lnTo>
                  <a:pt x="1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54240" y="3141720"/>
            <a:ext cx="398520" cy="250920"/>
          </a:xfrm>
          <a:custGeom>
            <a:avLst/>
            <a:gdLst/>
            <a:ahLst/>
            <a:rect l="l" t="t" r="r" b="b"/>
            <a:pathLst>
              <a:path w="251" h="158">
                <a:moveTo>
                  <a:pt x="250" y="131"/>
                </a:moveTo>
                <a:lnTo>
                  <a:pt x="34" y="0"/>
                </a:lnTo>
                <a:lnTo>
                  <a:pt x="0" y="83"/>
                </a:lnTo>
                <a:lnTo>
                  <a:pt x="243" y="157"/>
                </a:lnTo>
                <a:lnTo>
                  <a:pt x="250" y="13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81080" y="3578400"/>
            <a:ext cx="371520" cy="139680"/>
          </a:xfrm>
          <a:custGeom>
            <a:avLst/>
            <a:gdLst/>
            <a:ahLst/>
            <a:rect l="l" t="t" r="r" b="b"/>
            <a:pathLst>
              <a:path w="234" h="88">
                <a:moveTo>
                  <a:pt x="233" y="40"/>
                </a:moveTo>
                <a:lnTo>
                  <a:pt x="0" y="0"/>
                </a:lnTo>
                <a:lnTo>
                  <a:pt x="8" y="87"/>
                </a:lnTo>
                <a:lnTo>
                  <a:pt x="233" y="73"/>
                </a:lnTo>
                <a:lnTo>
                  <a:pt x="233" y="4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57400" y="3898800"/>
            <a:ext cx="303120" cy="192240"/>
          </a:xfrm>
          <a:custGeom>
            <a:avLst/>
            <a:gdLst/>
            <a:ahLst/>
            <a:rect l="l" t="t" r="r" b="b"/>
            <a:pathLst>
              <a:path w="191" h="121">
                <a:moveTo>
                  <a:pt x="182" y="0"/>
                </a:moveTo>
                <a:lnTo>
                  <a:pt x="0" y="50"/>
                </a:lnTo>
                <a:lnTo>
                  <a:pt x="75" y="120"/>
                </a:lnTo>
                <a:lnTo>
                  <a:pt x="190" y="26"/>
                </a:lnTo>
                <a:lnTo>
                  <a:pt x="182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281240" y="4060800"/>
            <a:ext cx="907920" cy="863640"/>
            <a:chOff x="1281240" y="4060800"/>
            <a:chExt cx="907920" cy="863640"/>
          </a:xfrm>
        </p:grpSpPr>
        <p:sp>
          <p:nvSpPr>
            <p:cNvPr id="151" name=""/>
            <p:cNvSpPr/>
            <p:nvPr/>
          </p:nvSpPr>
          <p:spPr>
            <a:xfrm>
              <a:off x="1300320" y="4081320"/>
              <a:ext cx="876240" cy="824040"/>
            </a:xfrm>
            <a:custGeom>
              <a:avLst/>
              <a:gdLst/>
              <a:ahLst/>
              <a:rect l="l" t="t" r="r" b="b"/>
              <a:pathLst>
                <a:path w="552" h="519">
                  <a:moveTo>
                    <a:pt x="71" y="0"/>
                  </a:moveTo>
                  <a:lnTo>
                    <a:pt x="243" y="110"/>
                  </a:lnTo>
                  <a:lnTo>
                    <a:pt x="443" y="214"/>
                  </a:lnTo>
                  <a:lnTo>
                    <a:pt x="493" y="301"/>
                  </a:lnTo>
                  <a:lnTo>
                    <a:pt x="535" y="411"/>
                  </a:lnTo>
                  <a:lnTo>
                    <a:pt x="551" y="453"/>
                  </a:lnTo>
                  <a:lnTo>
                    <a:pt x="471" y="518"/>
                  </a:lnTo>
                  <a:lnTo>
                    <a:pt x="264" y="462"/>
                  </a:lnTo>
                  <a:lnTo>
                    <a:pt x="21" y="358"/>
                  </a:lnTo>
                  <a:lnTo>
                    <a:pt x="0" y="337"/>
                  </a:lnTo>
                  <a:lnTo>
                    <a:pt x="0" y="223"/>
                  </a:lnTo>
                  <a:lnTo>
                    <a:pt x="12" y="143"/>
                  </a:lnTo>
                  <a:lnTo>
                    <a:pt x="34" y="37"/>
                  </a:lnTo>
                  <a:lnTo>
                    <a:pt x="71" y="0"/>
                  </a:lnTo>
                </a:path>
              </a:pathLst>
            </a:custGeom>
            <a:solidFill>
              <a:srgbClr val="ac8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281240" y="4060800"/>
              <a:ext cx="907920" cy="863640"/>
              <a:chOff x="1281240" y="4060800"/>
              <a:chExt cx="907920" cy="863640"/>
            </a:xfrm>
          </p:grpSpPr>
          <p:sp>
            <p:nvSpPr>
              <p:cNvPr id="153" name=""/>
              <p:cNvSpPr/>
              <p:nvPr/>
            </p:nvSpPr>
            <p:spPr>
              <a:xfrm>
                <a:off x="1281240" y="4060800"/>
                <a:ext cx="907920" cy="863640"/>
              </a:xfrm>
              <a:custGeom>
                <a:avLst/>
                <a:gdLst/>
                <a:ahLst/>
                <a:rect l="l" t="t" r="r" b="b"/>
                <a:pathLst>
                  <a:path w="572" h="544">
                    <a:moveTo>
                      <a:pt x="101" y="39"/>
                    </a:moveTo>
                    <a:lnTo>
                      <a:pt x="305" y="159"/>
                    </a:lnTo>
                    <a:lnTo>
                      <a:pt x="421" y="226"/>
                    </a:lnTo>
                    <a:lnTo>
                      <a:pt x="437" y="248"/>
                    </a:lnTo>
                    <a:lnTo>
                      <a:pt x="437" y="317"/>
                    </a:lnTo>
                    <a:lnTo>
                      <a:pt x="439" y="401"/>
                    </a:lnTo>
                    <a:lnTo>
                      <a:pt x="457" y="476"/>
                    </a:lnTo>
                    <a:lnTo>
                      <a:pt x="459" y="504"/>
                    </a:lnTo>
                    <a:lnTo>
                      <a:pt x="406" y="496"/>
                    </a:lnTo>
                    <a:lnTo>
                      <a:pt x="314" y="472"/>
                    </a:lnTo>
                    <a:lnTo>
                      <a:pt x="222" y="438"/>
                    </a:lnTo>
                    <a:lnTo>
                      <a:pt x="123" y="396"/>
                    </a:lnTo>
                    <a:lnTo>
                      <a:pt x="36" y="349"/>
                    </a:lnTo>
                    <a:lnTo>
                      <a:pt x="30" y="322"/>
                    </a:lnTo>
                    <a:lnTo>
                      <a:pt x="27" y="211"/>
                    </a:lnTo>
                    <a:lnTo>
                      <a:pt x="43" y="110"/>
                    </a:lnTo>
                    <a:lnTo>
                      <a:pt x="78" y="47"/>
                    </a:lnTo>
                    <a:lnTo>
                      <a:pt x="78" y="27"/>
                    </a:lnTo>
                    <a:lnTo>
                      <a:pt x="61" y="16"/>
                    </a:lnTo>
                    <a:lnTo>
                      <a:pt x="36" y="44"/>
                    </a:lnTo>
                    <a:lnTo>
                      <a:pt x="25" y="105"/>
                    </a:lnTo>
                    <a:lnTo>
                      <a:pt x="9" y="181"/>
                    </a:lnTo>
                    <a:lnTo>
                      <a:pt x="0" y="266"/>
                    </a:lnTo>
                    <a:lnTo>
                      <a:pt x="0" y="349"/>
                    </a:lnTo>
                    <a:lnTo>
                      <a:pt x="7" y="366"/>
                    </a:lnTo>
                    <a:lnTo>
                      <a:pt x="67" y="402"/>
                    </a:lnTo>
                    <a:lnTo>
                      <a:pt x="185" y="447"/>
                    </a:lnTo>
                    <a:lnTo>
                      <a:pt x="305" y="491"/>
                    </a:lnTo>
                    <a:lnTo>
                      <a:pt x="424" y="527"/>
                    </a:lnTo>
                    <a:lnTo>
                      <a:pt x="487" y="543"/>
                    </a:lnTo>
                    <a:lnTo>
                      <a:pt x="525" y="513"/>
                    </a:lnTo>
                    <a:lnTo>
                      <a:pt x="571" y="473"/>
                    </a:lnTo>
                    <a:lnTo>
                      <a:pt x="571" y="451"/>
                    </a:lnTo>
                    <a:lnTo>
                      <a:pt x="540" y="465"/>
                    </a:lnTo>
                    <a:lnTo>
                      <a:pt x="513" y="496"/>
                    </a:lnTo>
                    <a:lnTo>
                      <a:pt x="485" y="509"/>
                    </a:lnTo>
                    <a:lnTo>
                      <a:pt x="467" y="416"/>
                    </a:lnTo>
                    <a:lnTo>
                      <a:pt x="459" y="323"/>
                    </a:lnTo>
                    <a:lnTo>
                      <a:pt x="461" y="264"/>
                    </a:lnTo>
                    <a:lnTo>
                      <a:pt x="476" y="277"/>
                    </a:lnTo>
                    <a:lnTo>
                      <a:pt x="516" y="359"/>
                    </a:lnTo>
                    <a:lnTo>
                      <a:pt x="543" y="459"/>
                    </a:lnTo>
                    <a:lnTo>
                      <a:pt x="571" y="442"/>
                    </a:lnTo>
                    <a:lnTo>
                      <a:pt x="531" y="344"/>
                    </a:lnTo>
                    <a:lnTo>
                      <a:pt x="490" y="255"/>
                    </a:lnTo>
                    <a:lnTo>
                      <a:pt x="464" y="211"/>
                    </a:lnTo>
                    <a:lnTo>
                      <a:pt x="366" y="168"/>
                    </a:lnTo>
                    <a:lnTo>
                      <a:pt x="274" y="113"/>
                    </a:lnTo>
                    <a:lnTo>
                      <a:pt x="176" y="56"/>
                    </a:lnTo>
                    <a:lnTo>
                      <a:pt x="105" y="9"/>
                    </a:lnTo>
                    <a:lnTo>
                      <a:pt x="78" y="0"/>
                    </a:lnTo>
                    <a:lnTo>
                      <a:pt x="84" y="22"/>
                    </a:lnTo>
                    <a:lnTo>
                      <a:pt x="101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398600" y="4253040"/>
                <a:ext cx="527040" cy="290520"/>
              </a:xfrm>
              <a:custGeom>
                <a:avLst/>
                <a:gdLst/>
                <a:ahLst/>
                <a:rect l="l" t="t" r="r" b="b"/>
                <a:pathLst>
                  <a:path w="332" h="183">
                    <a:moveTo>
                      <a:pt x="22" y="0"/>
                    </a:moveTo>
                    <a:lnTo>
                      <a:pt x="135" y="67"/>
                    </a:lnTo>
                    <a:lnTo>
                      <a:pt x="237" y="110"/>
                    </a:lnTo>
                    <a:lnTo>
                      <a:pt x="321" y="154"/>
                    </a:lnTo>
                    <a:lnTo>
                      <a:pt x="331" y="177"/>
                    </a:lnTo>
                    <a:lnTo>
                      <a:pt x="309" y="182"/>
                    </a:lnTo>
                    <a:lnTo>
                      <a:pt x="169" y="106"/>
                    </a:lnTo>
                    <a:lnTo>
                      <a:pt x="49" y="41"/>
                    </a:lnTo>
                    <a:lnTo>
                      <a:pt x="0" y="23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1569960" y="4091040"/>
              <a:ext cx="298440" cy="325440"/>
            </a:xfrm>
            <a:custGeom>
              <a:avLst/>
              <a:gdLst/>
              <a:ahLst/>
              <a:rect l="l" t="t" r="r" b="b"/>
              <a:pathLst>
                <a:path w="188" h="205">
                  <a:moveTo>
                    <a:pt x="0" y="104"/>
                  </a:moveTo>
                  <a:lnTo>
                    <a:pt x="35" y="18"/>
                  </a:lnTo>
                  <a:lnTo>
                    <a:pt x="52" y="0"/>
                  </a:lnTo>
                  <a:lnTo>
                    <a:pt x="85" y="3"/>
                  </a:lnTo>
                  <a:lnTo>
                    <a:pt x="172" y="44"/>
                  </a:lnTo>
                  <a:lnTo>
                    <a:pt x="185" y="77"/>
                  </a:lnTo>
                  <a:lnTo>
                    <a:pt x="187" y="125"/>
                  </a:lnTo>
                  <a:lnTo>
                    <a:pt x="176" y="204"/>
                  </a:lnTo>
                  <a:lnTo>
                    <a:pt x="132" y="172"/>
                  </a:lnTo>
                  <a:lnTo>
                    <a:pt x="150" y="120"/>
                  </a:lnTo>
                  <a:lnTo>
                    <a:pt x="153" y="93"/>
                  </a:lnTo>
                  <a:lnTo>
                    <a:pt x="141" y="73"/>
                  </a:lnTo>
                  <a:lnTo>
                    <a:pt x="94" y="49"/>
                  </a:lnTo>
                  <a:lnTo>
                    <a:pt x="68" y="49"/>
                  </a:lnTo>
                  <a:lnTo>
                    <a:pt x="49" y="87"/>
                  </a:lnTo>
                  <a:lnTo>
                    <a:pt x="37" y="125"/>
                  </a:lnTo>
                  <a:lnTo>
                    <a:pt x="0" y="104"/>
                  </a:lnTo>
                </a:path>
              </a:pathLst>
            </a:custGeom>
            <a:solidFill>
              <a:srgbClr val="ac8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49440" y="4081320"/>
              <a:ext cx="339840" cy="33984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08"/>
                  </a:moveTo>
                  <a:lnTo>
                    <a:pt x="36" y="24"/>
                  </a:lnTo>
                  <a:lnTo>
                    <a:pt x="61" y="0"/>
                  </a:lnTo>
                  <a:lnTo>
                    <a:pt x="95" y="0"/>
                  </a:lnTo>
                  <a:lnTo>
                    <a:pt x="195" y="50"/>
                  </a:lnTo>
                  <a:lnTo>
                    <a:pt x="213" y="91"/>
                  </a:lnTo>
                  <a:lnTo>
                    <a:pt x="198" y="192"/>
                  </a:lnTo>
                  <a:lnTo>
                    <a:pt x="193" y="213"/>
                  </a:lnTo>
                  <a:lnTo>
                    <a:pt x="172" y="204"/>
                  </a:lnTo>
                  <a:lnTo>
                    <a:pt x="190" y="99"/>
                  </a:lnTo>
                  <a:lnTo>
                    <a:pt x="177" y="55"/>
                  </a:lnTo>
                  <a:lnTo>
                    <a:pt x="117" y="23"/>
                  </a:lnTo>
                  <a:lnTo>
                    <a:pt x="66" y="11"/>
                  </a:lnTo>
                  <a:lnTo>
                    <a:pt x="49" y="41"/>
                  </a:lnTo>
                  <a:lnTo>
                    <a:pt x="23" y="123"/>
                  </a:lnTo>
                  <a:lnTo>
                    <a:pt x="0" y="10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17840" y="4151160"/>
              <a:ext cx="214200" cy="235080"/>
            </a:xfrm>
            <a:custGeom>
              <a:avLst/>
              <a:gdLst/>
              <a:ahLst/>
              <a:rect l="l" t="t" r="r" b="b"/>
              <a:pathLst>
                <a:path w="135" h="148">
                  <a:moveTo>
                    <a:pt x="0" y="87"/>
                  </a:moveTo>
                  <a:lnTo>
                    <a:pt x="19" y="28"/>
                  </a:lnTo>
                  <a:lnTo>
                    <a:pt x="33" y="0"/>
                  </a:lnTo>
                  <a:lnTo>
                    <a:pt x="56" y="0"/>
                  </a:lnTo>
                  <a:lnTo>
                    <a:pt x="115" y="28"/>
                  </a:lnTo>
                  <a:lnTo>
                    <a:pt x="134" y="55"/>
                  </a:lnTo>
                  <a:lnTo>
                    <a:pt x="112" y="147"/>
                  </a:lnTo>
                  <a:lnTo>
                    <a:pt x="89" y="138"/>
                  </a:lnTo>
                  <a:lnTo>
                    <a:pt x="117" y="68"/>
                  </a:lnTo>
                  <a:lnTo>
                    <a:pt x="111" y="39"/>
                  </a:lnTo>
                  <a:lnTo>
                    <a:pt x="69" y="19"/>
                  </a:lnTo>
                  <a:lnTo>
                    <a:pt x="41" y="15"/>
                  </a:lnTo>
                  <a:lnTo>
                    <a:pt x="16" y="82"/>
                  </a:lnTo>
                  <a:lnTo>
                    <a:pt x="16" y="98"/>
                  </a:lnTo>
                  <a:lnTo>
                    <a:pt x="0" y="8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554120" y="3446640"/>
            <a:ext cx="434880" cy="919080"/>
          </a:xfrm>
          <a:custGeom>
            <a:avLst/>
            <a:gdLst/>
            <a:ahLst/>
            <a:rect l="l" t="t" r="r" b="b"/>
            <a:pathLst>
              <a:path w="274" h="579">
                <a:moveTo>
                  <a:pt x="159" y="70"/>
                </a:moveTo>
                <a:lnTo>
                  <a:pt x="204" y="24"/>
                </a:lnTo>
                <a:lnTo>
                  <a:pt x="237" y="0"/>
                </a:lnTo>
                <a:lnTo>
                  <a:pt x="264" y="4"/>
                </a:lnTo>
                <a:lnTo>
                  <a:pt x="273" y="33"/>
                </a:lnTo>
                <a:lnTo>
                  <a:pt x="255" y="75"/>
                </a:lnTo>
                <a:lnTo>
                  <a:pt x="226" y="108"/>
                </a:lnTo>
                <a:lnTo>
                  <a:pt x="180" y="138"/>
                </a:lnTo>
                <a:lnTo>
                  <a:pt x="136" y="164"/>
                </a:lnTo>
                <a:lnTo>
                  <a:pt x="97" y="188"/>
                </a:lnTo>
                <a:lnTo>
                  <a:pt x="74" y="200"/>
                </a:lnTo>
                <a:lnTo>
                  <a:pt x="59" y="209"/>
                </a:lnTo>
                <a:lnTo>
                  <a:pt x="58" y="229"/>
                </a:lnTo>
                <a:lnTo>
                  <a:pt x="76" y="273"/>
                </a:lnTo>
                <a:lnTo>
                  <a:pt x="94" y="317"/>
                </a:lnTo>
                <a:lnTo>
                  <a:pt x="121" y="363"/>
                </a:lnTo>
                <a:lnTo>
                  <a:pt x="159" y="401"/>
                </a:lnTo>
                <a:lnTo>
                  <a:pt x="183" y="425"/>
                </a:lnTo>
                <a:lnTo>
                  <a:pt x="195" y="446"/>
                </a:lnTo>
                <a:lnTo>
                  <a:pt x="183" y="462"/>
                </a:lnTo>
                <a:lnTo>
                  <a:pt x="165" y="452"/>
                </a:lnTo>
                <a:lnTo>
                  <a:pt x="151" y="427"/>
                </a:lnTo>
                <a:lnTo>
                  <a:pt x="138" y="413"/>
                </a:lnTo>
                <a:lnTo>
                  <a:pt x="118" y="435"/>
                </a:lnTo>
                <a:lnTo>
                  <a:pt x="109" y="470"/>
                </a:lnTo>
                <a:lnTo>
                  <a:pt x="119" y="506"/>
                </a:lnTo>
                <a:lnTo>
                  <a:pt x="130" y="538"/>
                </a:lnTo>
                <a:lnTo>
                  <a:pt x="119" y="574"/>
                </a:lnTo>
                <a:lnTo>
                  <a:pt x="100" y="578"/>
                </a:lnTo>
                <a:lnTo>
                  <a:pt x="88" y="551"/>
                </a:lnTo>
                <a:lnTo>
                  <a:pt x="68" y="525"/>
                </a:lnTo>
                <a:lnTo>
                  <a:pt x="67" y="496"/>
                </a:lnTo>
                <a:lnTo>
                  <a:pt x="71" y="461"/>
                </a:lnTo>
                <a:lnTo>
                  <a:pt x="88" y="413"/>
                </a:lnTo>
                <a:lnTo>
                  <a:pt x="94" y="381"/>
                </a:lnTo>
                <a:lnTo>
                  <a:pt x="88" y="351"/>
                </a:lnTo>
                <a:lnTo>
                  <a:pt x="56" y="317"/>
                </a:lnTo>
                <a:lnTo>
                  <a:pt x="32" y="279"/>
                </a:lnTo>
                <a:lnTo>
                  <a:pt x="12" y="251"/>
                </a:lnTo>
                <a:lnTo>
                  <a:pt x="0" y="213"/>
                </a:lnTo>
                <a:lnTo>
                  <a:pt x="3" y="181"/>
                </a:lnTo>
                <a:lnTo>
                  <a:pt x="12" y="163"/>
                </a:lnTo>
                <a:lnTo>
                  <a:pt x="48" y="145"/>
                </a:lnTo>
                <a:lnTo>
                  <a:pt x="86" y="121"/>
                </a:lnTo>
                <a:lnTo>
                  <a:pt x="125" y="98"/>
                </a:lnTo>
                <a:lnTo>
                  <a:pt x="159" y="7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38160" y="3268800"/>
            <a:ext cx="397080" cy="242640"/>
          </a:xfrm>
          <a:custGeom>
            <a:avLst/>
            <a:gdLst/>
            <a:ahLst/>
            <a:rect l="l" t="t" r="r" b="b"/>
            <a:pathLst>
              <a:path w="250" h="153">
                <a:moveTo>
                  <a:pt x="139" y="48"/>
                </a:moveTo>
                <a:lnTo>
                  <a:pt x="184" y="11"/>
                </a:lnTo>
                <a:lnTo>
                  <a:pt x="217" y="0"/>
                </a:lnTo>
                <a:lnTo>
                  <a:pt x="229" y="37"/>
                </a:lnTo>
                <a:lnTo>
                  <a:pt x="249" y="85"/>
                </a:lnTo>
                <a:lnTo>
                  <a:pt x="231" y="97"/>
                </a:lnTo>
                <a:lnTo>
                  <a:pt x="181" y="103"/>
                </a:lnTo>
                <a:lnTo>
                  <a:pt x="153" y="94"/>
                </a:lnTo>
                <a:lnTo>
                  <a:pt x="138" y="90"/>
                </a:lnTo>
                <a:lnTo>
                  <a:pt x="115" y="93"/>
                </a:lnTo>
                <a:lnTo>
                  <a:pt x="101" y="103"/>
                </a:lnTo>
                <a:lnTo>
                  <a:pt x="86" y="126"/>
                </a:lnTo>
                <a:lnTo>
                  <a:pt x="36" y="152"/>
                </a:lnTo>
                <a:lnTo>
                  <a:pt x="23" y="106"/>
                </a:lnTo>
                <a:lnTo>
                  <a:pt x="0" y="65"/>
                </a:lnTo>
                <a:lnTo>
                  <a:pt x="54" y="57"/>
                </a:lnTo>
                <a:lnTo>
                  <a:pt x="99" y="66"/>
                </a:lnTo>
                <a:lnTo>
                  <a:pt x="115" y="66"/>
                </a:lnTo>
                <a:lnTo>
                  <a:pt x="127" y="65"/>
                </a:lnTo>
                <a:lnTo>
                  <a:pt x="139" y="48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8380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the types of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marketable securiti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1F23C-0052-46D4-9C9B-781C9A1A2D4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295280" y="2286000"/>
            <a:ext cx="693432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hort-term obligations issued with a term of 13 weeks, 26 weeks, or 52 wee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21932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treasury bill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DE1B5-0E19-4933-BA7D-614B07CC1D6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23520" y="2817720"/>
            <a:ext cx="6172200" cy="19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dexed to infl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orced savin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486400" y="4952880"/>
          <a:ext cx="167652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4952880"/>
                    <a:ext cx="16765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28600" y="106668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the advantages of social securi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F228A-99A5-4C06-9CCD-FED1DD6C83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160" y="28195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date a bill matur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562720" y="4419720"/>
            <a:ext cx="1487520" cy="1295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23880" y="1676520"/>
            <a:ext cx="609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pa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FA34A-7FB2-40AC-92FC-9F459693A24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294920" y="327672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bill only pays interest when it matur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99072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n does the purchaser of a bill receive paymen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E66F-CB6F-4BDA-A951-DC3D0BE6F4A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251424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medium-term obligation issued with a term of at least one year but no  more than ten yea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62120" y="3809880"/>
          <a:ext cx="73188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809880"/>
                    <a:ext cx="7318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828800" y="914400"/>
            <a:ext cx="56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treasury not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2ABB7-142F-4B56-9315-6BBEE7E7E55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981080" y="312408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mi-annuall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676520" y="4724280"/>
            <a:ext cx="1066680" cy="1165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90720" y="762120"/>
            <a:ext cx="723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n are interest payments made on treasury not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017FB-FA60-4EB2-BE13-B44BF1B379E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42640" y="2742840"/>
            <a:ext cx="71629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long-term obligation issued with a term greater than ten yea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99072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treasury bon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6174B-E426-47A6-9185-6377F6DF097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904760" y="3427560"/>
            <a:ext cx="525780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mi-annuall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809880" y="4724280"/>
            <a:ext cx="1852560" cy="9144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219320" y="99072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n are interest payments made on treasury bond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26901-0F18-44B9-AFDD-3A5A4F0BD1D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294920" y="2437920"/>
            <a:ext cx="48769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curity deal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ank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3200400"/>
            <a:ext cx="4343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ederal Reserve Bank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reau of the Public Deb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7621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Treasury securities can be purchased from ..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7255F-348E-422E-8524-3DF29FCA68A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4920" y="2819520"/>
            <a:ext cx="8610480" cy="34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veral option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will not have to pay a fee or commis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curity will be in your nam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30492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advantages of buying securities directly from the governmen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00E22-72E5-4BC3-A7F6-C91F96C4158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ually the Security will be in the name of the bank or brokerage house - called the “street name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6094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n I buy a security from a bank will it be in my nam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3BDA8-A061-430D-88F8-03E6A7D1FEB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62120" y="3276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ss time and paper 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809880" y="4724280"/>
            <a:ext cx="1962360" cy="1143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57200" y="91440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y does a bank or brokerage house want the security in its nam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3EE7E-653C-4582-93BD-0D407C3BADA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129528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the disadvantages of the social security system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010280" y="5562720"/>
            <a:ext cx="1067040" cy="91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C5E00-FBEF-489A-8222-69B9EB4FD0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04920" y="23619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the seller goes out of business you will have to deal with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curities Investor Protection Corporation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to have your money refund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83808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Am I taking a risk with a street nam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899CD-B59E-442C-98C6-18DF9CB7DBA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523880" y="4038120"/>
            <a:ext cx="601992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762120"/>
            <a:ext cx="754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an I buy a security from a bank or a brokerage house and have it in my nam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B9E94-CE6D-4B9F-A346-1DC6591BF07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828440" y="3276720"/>
            <a:ext cx="53341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you will not be able to sell i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91440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nother downside to holding a security in my nam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46DC-FFCF-4CA1-84A7-EE55E65AEFB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15960" y="2978280"/>
            <a:ext cx="8064360" cy="2882880"/>
          </a:xfrm>
          <a:prstGeom prst="roundRect">
            <a:avLst>
              <a:gd name="adj" fmla="val 12495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3352680"/>
            <a:ext cx="853416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reau of the Public Deb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vision of Customer Servi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shington, DC 20239-000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990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 I contact the Bureau of the Public Deb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3E405-75B3-429A-867C-E60E551D20A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301760" y="3359160"/>
            <a:ext cx="7074000" cy="2502000"/>
          </a:xfrm>
          <a:prstGeom prst="roundRect">
            <a:avLst>
              <a:gd name="adj" fmla="val 12495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295280" y="3581280"/>
            <a:ext cx="68580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202) 874-4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frb.ny.org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14479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 I contact the Federal Reserv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18C79-F651-4566-BB7D-8D796169759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21896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unicipal, corporate, or U.S. Treasury bonds issued at prices below their face val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1066680"/>
            <a:ext cx="678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zero-coupon bon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28626-4E5C-4B10-AA0C-83692A09EF7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219320" y="2819520"/>
            <a:ext cx="68580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y do not pay interest until they ma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962520" y="4800600"/>
            <a:ext cx="2647800" cy="11476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838080" y="106668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n do zero-coupon bonds pay interes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DA918-02E3-46B2-92C6-720E02F27AE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200040" y="3124080"/>
            <a:ext cx="2971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$25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819520" y="3886200"/>
          <a:ext cx="83808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886200"/>
                    <a:ext cx="8380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169920" y="68580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least amount of money I need to buy a zero-coupon bon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A0DAB-D22B-4B23-8D79-2FB4D1E5DF1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762120" y="2514600"/>
            <a:ext cx="807696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OU’s issued by state and local governments and by special purpose government agenc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19320" y="83808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municipal bon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7B741-E6A0-4836-BE78-3CBA4CE8D5D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160020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the advantages of municipal bond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010280" y="5562720"/>
            <a:ext cx="1067040" cy="91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D9C75-0C4F-4D7F-A3BE-105A551BF6D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762120"/>
            <a:ext cx="8610480" cy="52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turn on savings is much lower than on personal sav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have no control over your mone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inciple cannot be inherit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can be rule chang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ystem’s future is uncerta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2433F-8016-48B6-81A5-9536AA8908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09480" y="533520"/>
            <a:ext cx="8153640" cy="58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are guaranteed in case of defaul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unicipal bonds are usually not callable for at least 10 year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 state taxes have to be paid if the municipal is in your home stat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 federal taxes have to be paid on the retur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05A69-850F-4CBB-AEEB-2AE67E61733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219320" y="990720"/>
            <a:ext cx="6705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the disadvantages with municipal bond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010280" y="5562720"/>
            <a:ext cx="1067040" cy="91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EB689-4D58-41D1-8AF1-96739760482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33520" y="609480"/>
            <a:ext cx="815328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ees paid are not tax deductible when a capital gain is mad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interest rate offered is lower, everything else being equal, because of the tax advant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ofits are subject to state and local capital gains tax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BE019-C644-4A70-A00A-6B7693DEAFA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066320" y="28195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igh income peop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943600" y="4419720"/>
            <a:ext cx="1666800" cy="1285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7200" y="11430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o gains the most from municipal bond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7868E-2EA6-41CF-874F-22E456D4258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62120" y="266652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unicipalities prefer to sell bond issues to underwriters who sell them to brokerage hou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90720" y="91440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an municipal bonds be bought directl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44255-E2B2-4B6C-A825-A034C6E9ED2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09120" y="31240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ually for a $1,000 or l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257800" y="4724280"/>
            <a:ext cx="1967040" cy="1204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35000" y="143820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much will I have to pay for a municipal bon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D6A8D-A9C3-47C9-9F60-DD75DEF703E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676520" y="3048120"/>
            <a:ext cx="6324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eneral Oblig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ven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019920" y="4572000"/>
          <a:ext cx="97128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4572000"/>
                    <a:ext cx="9712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304920" y="114300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the two types of municipal bond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6C834-043D-4D7B-8310-7413EBEE508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142640" y="2971800"/>
            <a:ext cx="70102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obligation is met by tax revenu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5760" y="127944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 general obligation bon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41F8D-7607-4613-91B2-E03F525F478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752120" y="2590920"/>
            <a:ext cx="624852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bligation is met by revenues of specific projects, like roads, schools and bridg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371600" y="3657600"/>
          <a:ext cx="62856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657600"/>
                    <a:ext cx="6285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600200" y="91440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revenue bon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7C116-61D0-4E22-80EE-40E143DC78D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143000" y="23619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venue bonds tend to by more risky because the revenues from the projects may not live up to expect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914400"/>
            <a:ext cx="701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ich type of bond is most risk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1C99C-2DA1-4676-ADBB-CDDBAC913DE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0481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at which is given up in th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best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alternative endeav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129528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n opportunity cos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C96DD-CC4D-4E86-A673-C70D231017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990720" y="281916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amount of your gain considering tax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553080" y="3962520"/>
          <a:ext cx="573120" cy="14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3962520"/>
                    <a:ext cx="5731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914400" y="114300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tax equivalent yiel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9D2B3-B9AF-4724-BC6C-B5B87555B43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990360" y="30481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ffective interest ra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562720" y="4724280"/>
            <a:ext cx="1699920" cy="13240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57200" y="144792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tax equivalent yield calle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33644-CFEA-4CEB-B5A0-01DA2ADEDEF2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057400" y="2438280"/>
            <a:ext cx="59436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place where people buy and sell shares of stoc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752480" y="3276720"/>
          <a:ext cx="6098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276720"/>
                    <a:ext cx="6098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295200" y="1371600"/>
            <a:ext cx="8610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stock marke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A6AAB-6E72-43C1-87BC-A1614FA4D00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38080" y="2286000"/>
            <a:ext cx="79250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s ownership in the assets, earnings, and future direction of a corporate form of busin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1066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share of stock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411F7-4FA8-47C0-84E5-2159A9C3568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294920" y="2666880"/>
            <a:ext cx="678204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place where people buy and sell secur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91440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money marke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1DB7B-D103-41D9-86B8-5D7EEBAABB1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685440" y="228564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 investment company that combines the funds of investors who have purchased shares of ownership in the compan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5680" y="130320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mutual fun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7CECD-6C15-4EA0-A856-8D420349594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828440" y="2819520"/>
            <a:ext cx="52578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stock, bond or money mark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172200" y="4648320"/>
            <a:ext cx="1386000" cy="13143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33520" y="9907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re does a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mutual fund inves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BEA8-7FE4-49F9-A9FA-5B900637DCD9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218960" y="2590560"/>
            <a:ext cx="701028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as no commissions and fees when transactions are ma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15238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no-load fun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7133-E85E-4B54-BD4F-D16367B8F91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2285640" y="2666880"/>
            <a:ext cx="579132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ll funds have an expense ratio called 12b-1 fe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676520" y="3809880"/>
          <a:ext cx="8046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09880"/>
                    <a:ext cx="8046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1066680" y="83808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o no-load funds have any charg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C3145-A83E-4C06-8190-4707FDFBE7D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295280" y="2819520"/>
            <a:ext cx="693432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void paying 12b-1 fees of more than a quarter percent a ye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106668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much should I pay in 12-b1 Fe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27F39-151B-4AE2-B266-5E727DB09BE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2514240"/>
            <a:ext cx="81532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a savings account earns 3% interest, but you could have made 10% in the stock market, your opportunity cost is 7%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06560" y="83808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n example of opportunity cos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10D9E-C545-444A-9F8B-1FFC74B980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143000" y="23619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missions and fees are paid when transactions are ma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762120" y="3657600"/>
          <a:ext cx="76824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657600"/>
                    <a:ext cx="7682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1219320" y="1219320"/>
            <a:ext cx="701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load fun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667FA-9B6C-4899-B8DE-3E918165BA8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819160" y="28954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ont-e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ack-e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209680" y="3809880"/>
          <a:ext cx="9907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809880"/>
                    <a:ext cx="9907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457200" y="99072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the different kind of load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5EF69-0CBA-4166-B155-83483283E4D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533520" y="26665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fund where you pay commissions and fees at the time you buy from the fu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8080" y="990720"/>
            <a:ext cx="746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front-end load fun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17DA0-0248-4A23-8A6D-66E33EDA22CD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95280" y="2819160"/>
            <a:ext cx="68580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pay a commission or fee when you sell from the fu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121932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back-end loa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9C57-DB78-433E-A591-52A54007420B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743200" y="2819160"/>
            <a:ext cx="495288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toc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o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ney Mark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791320" y="2895480"/>
            <a:ext cx="904680" cy="154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33520" y="9907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can I buy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through a mutual fun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A563-A360-430B-9F12-9F9D0D0F9A1D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218960" y="2895120"/>
            <a:ext cx="6629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pecializes in purely interest earning 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121932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 money marke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4899C-81AD-44A7-BB2F-728189FE7B29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752120" y="3048120"/>
            <a:ext cx="67820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y supply and demand of the particular stoc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838080" y="2362320"/>
          <a:ext cx="99072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9907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1066680" y="685800"/>
            <a:ext cx="723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determines the prices of stocks in the stock marke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F36D0-0DEB-4A88-971F-7331508C0F51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6120" y="609480"/>
            <a:ext cx="6859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ffff66"/>
                </a:solidFill>
                <a:latin typeface="Times New Roman"/>
              </a:rPr>
              <a:t>Demand Curve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371600"/>
            <a:ext cx="0" cy="426708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57480" y="5638680"/>
            <a:ext cx="678168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62320" y="1752480"/>
            <a:ext cx="4572000" cy="2514600"/>
          </a:xfrm>
          <a:prstGeom prst="line">
            <a:avLst/>
          </a:prstGeom>
          <a:ln w="152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86600" y="3581280"/>
            <a:ext cx="9144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1981080"/>
            <a:ext cx="914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7920" y="2743200"/>
            <a:ext cx="2817720" cy="7776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67080" y="2819520"/>
            <a:ext cx="0" cy="266688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4727520"/>
            <a:ext cx="990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3581280"/>
            <a:ext cx="8380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71600" y="3581280"/>
            <a:ext cx="4191120" cy="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91120" y="64771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3657600"/>
            <a:ext cx="0" cy="1828800"/>
          </a:xfrm>
          <a:prstGeom prst="line">
            <a:avLst/>
          </a:prstGeom>
          <a:ln w="76320">
            <a:solidFill>
              <a:srgbClr val="ff9900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5000" y="4708440"/>
            <a:ext cx="10666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2895480"/>
            <a:ext cx="0" cy="609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449568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61C2-C360-4BDD-BEEE-D3B2CA4B932C}" type="slidenum">
              <a:t>87</a:t>
            </a:fld>
          </a:p>
        </p:txBody>
      </p:sp>
    </p:spTree>
  </p:cSld>
  <p:transition spd="med">
    <p:zoom dir="out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90720" y="380880"/>
            <a:ext cx="7238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imes New Roman"/>
              </a:rPr>
              <a:t>Supply Curve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50960" y="5522760"/>
            <a:ext cx="617220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3200040" y="1828800"/>
            <a:ext cx="3429000" cy="2743200"/>
          </a:xfrm>
          <a:prstGeom prst="line">
            <a:avLst/>
          </a:prstGeom>
          <a:ln w="152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29400" y="1752480"/>
            <a:ext cx="53352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3581280"/>
            <a:ext cx="838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76520" y="3581280"/>
            <a:ext cx="2743200" cy="0"/>
          </a:xfrm>
          <a:prstGeom prst="line">
            <a:avLst/>
          </a:prstGeom>
          <a:ln w="50760">
            <a:solidFill>
              <a:srgbClr val="ff99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5680" y="3581280"/>
            <a:ext cx="0" cy="1828800"/>
          </a:xfrm>
          <a:prstGeom prst="line">
            <a:avLst/>
          </a:prstGeom>
          <a:ln w="50760">
            <a:solidFill>
              <a:srgbClr val="ff99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05320" y="4651200"/>
            <a:ext cx="990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Q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52480" y="1905120"/>
            <a:ext cx="9907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743200"/>
            <a:ext cx="3809880" cy="0"/>
          </a:xfrm>
          <a:prstGeom prst="line">
            <a:avLst/>
          </a:prstGeom>
          <a:ln w="50760">
            <a:solidFill>
              <a:srgbClr val="ff99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2819520"/>
            <a:ext cx="0" cy="2666880"/>
          </a:xfrm>
          <a:prstGeom prst="line">
            <a:avLst/>
          </a:prstGeom>
          <a:ln w="50760">
            <a:solidFill>
              <a:srgbClr val="ff99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638680" y="4632480"/>
            <a:ext cx="10670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Q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95480" y="2819520"/>
            <a:ext cx="0" cy="68580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19720" y="4114800"/>
            <a:ext cx="9903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76520" y="1447920"/>
            <a:ext cx="0" cy="411480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7B145-1EA3-41D8-B46C-ED8069A928C3}" type="slidenum">
              <a:t>88</a:t>
            </a:fld>
          </a:p>
        </p:txBody>
      </p:sp>
    </p:spTree>
  </p:cSld>
  <p:transition spd="med">
    <p:zoom dir="out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33720" y="1600200"/>
            <a:ext cx="4419360" cy="320040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53080" y="3657600"/>
            <a:ext cx="8384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057040" y="1523880"/>
            <a:ext cx="4800600" cy="335304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05120" y="1143000"/>
            <a:ext cx="0" cy="4114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05120" y="5257800"/>
            <a:ext cx="54864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0" y="1219320"/>
            <a:ext cx="6858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2666880"/>
            <a:ext cx="9907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3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05120" y="3200400"/>
            <a:ext cx="2514600" cy="0"/>
          </a:xfrm>
          <a:prstGeom prst="line">
            <a:avLst/>
          </a:prstGeom>
          <a:ln w="475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9880" y="5181480"/>
            <a:ext cx="1219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Q3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19720" y="3276720"/>
            <a:ext cx="0" cy="1904760"/>
          </a:xfrm>
          <a:prstGeom prst="line">
            <a:avLst/>
          </a:prstGeom>
          <a:ln w="475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1371600"/>
            <a:ext cx="1067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1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05120" y="1828800"/>
            <a:ext cx="4419360" cy="0"/>
          </a:xfrm>
          <a:prstGeom prst="line">
            <a:avLst/>
          </a:prstGeom>
          <a:ln w="507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19520" y="1676520"/>
            <a:ext cx="3047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imes New Roman"/>
              </a:rPr>
              <a:t>Surplu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68440" y="1835280"/>
            <a:ext cx="139680" cy="1358640"/>
          </a:xfrm>
          <a:prstGeom prst="downArrow">
            <a:avLst>
              <a:gd name="adj1" fmla="val 50000"/>
              <a:gd name="adj2" fmla="val 486385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" y="4114800"/>
            <a:ext cx="9144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2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05120" y="4648320"/>
            <a:ext cx="4419360" cy="0"/>
          </a:xfrm>
          <a:prstGeom prst="line">
            <a:avLst/>
          </a:prstGeom>
          <a:ln w="507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71800" y="3733920"/>
            <a:ext cx="3048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imes New Roman"/>
              </a:rPr>
              <a:t>Short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368440" y="3130560"/>
            <a:ext cx="139680" cy="1511280"/>
          </a:xfrm>
          <a:prstGeom prst="upArrow">
            <a:avLst>
              <a:gd name="adj1" fmla="val 50000"/>
              <a:gd name="adj2" fmla="val 540929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58643-67B2-476E-940E-67D247BDA345}" type="slidenum">
              <a:t>89</a:t>
            </a:fld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19320" y="76212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different ways that taxes effect saving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010280" y="5562720"/>
            <a:ext cx="1067040" cy="91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79D9B-53D8-4C4E-9783-50980C9510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380880"/>
            <a:ext cx="68580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imes New Roman"/>
              </a:rPr>
              <a:t>Shift in Demand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28800" y="1295280"/>
            <a:ext cx="0" cy="457200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790640" y="5869080"/>
            <a:ext cx="598032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57400" y="1981080"/>
            <a:ext cx="5105520" cy="2819520"/>
          </a:xfrm>
          <a:prstGeom prst="line">
            <a:avLst/>
          </a:prstGeom>
          <a:ln w="152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238880" y="44956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D1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48120" y="1447920"/>
            <a:ext cx="4343400" cy="2438280"/>
          </a:xfrm>
          <a:prstGeom prst="line">
            <a:avLst/>
          </a:prstGeom>
          <a:ln w="152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543800" y="3352680"/>
            <a:ext cx="10666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Times New Roman"/>
              </a:rPr>
              <a:t>D2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320" y="3581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91120" y="64771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90720" y="1219320"/>
            <a:ext cx="8380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5880" y="4767120"/>
            <a:ext cx="83844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1DA6-CBD0-4546-B67B-FA918DA8AF52}" type="slidenum">
              <a:t>90</a:t>
            </a:fld>
          </a:p>
        </p:txBody>
      </p:sp>
    </p:spTree>
  </p:cSld>
  <p:transition spd="med">
    <p:zoom dir="out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905120" y="1523880"/>
            <a:ext cx="0" cy="37339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41400" y="5257800"/>
            <a:ext cx="617220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438280" y="2057400"/>
            <a:ext cx="3353040" cy="2362320"/>
          </a:xfrm>
          <a:prstGeom prst="line">
            <a:avLst/>
          </a:prstGeom>
          <a:ln w="152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1295280"/>
            <a:ext cx="1067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S1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962520" y="2666880"/>
            <a:ext cx="3200400" cy="2210040"/>
          </a:xfrm>
          <a:prstGeom prst="line">
            <a:avLst/>
          </a:prstGeom>
          <a:ln w="152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237440" y="236232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Times New Roman"/>
              </a:rPr>
              <a:t>S2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320" y="3581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91120" y="64771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43000" y="1066680"/>
            <a:ext cx="5335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934320" y="4040280"/>
            <a:ext cx="8380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05120" y="304920"/>
            <a:ext cx="51814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Shift Supply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34C7C-4B95-418A-90AD-3CC0E5F7911F}" type="slidenum">
              <a:t>91</a:t>
            </a:fld>
          </a:p>
        </p:txBody>
      </p:sp>
    </p:spTree>
  </p:cSld>
  <p:transition spd="med">
    <p:zoom dir="out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28800" y="1371600"/>
            <a:ext cx="0" cy="380988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28800" y="5181480"/>
            <a:ext cx="556272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200400" y="1981080"/>
            <a:ext cx="3581280" cy="2438640"/>
          </a:xfrm>
          <a:prstGeom prst="line">
            <a:avLst/>
          </a:prstGeom>
          <a:ln w="152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934320" y="1523880"/>
            <a:ext cx="685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14800" y="1600200"/>
            <a:ext cx="3200400" cy="2133720"/>
          </a:xfrm>
          <a:prstGeom prst="line">
            <a:avLst/>
          </a:prstGeom>
          <a:ln w="152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467480" y="2971800"/>
            <a:ext cx="12193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Times New Roman"/>
              </a:rPr>
              <a:t>D2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320" y="3581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191120" y="64771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3048120"/>
            <a:ext cx="1066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52480" y="304920"/>
            <a:ext cx="579132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Shift Demand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62320" y="1828800"/>
            <a:ext cx="4267080" cy="2895480"/>
          </a:xfrm>
          <a:prstGeom prst="line">
            <a:avLst/>
          </a:prstGeom>
          <a:ln w="152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1980720" y="3429000"/>
            <a:ext cx="2667240" cy="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514600" y="2666880"/>
            <a:ext cx="0" cy="76212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1904760" y="2666880"/>
            <a:ext cx="3809880" cy="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14400" y="2133720"/>
            <a:ext cx="1066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24280" y="4343400"/>
            <a:ext cx="9907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715000" y="2743200"/>
            <a:ext cx="0" cy="22860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15000" y="5106960"/>
            <a:ext cx="1066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Q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724280" y="3429000"/>
            <a:ext cx="0" cy="167652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09880" y="5105520"/>
            <a:ext cx="10670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Q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629400" y="388620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D1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92906-F698-4614-B128-3A012348D200}" type="slidenum">
              <a:t>92</a:t>
            </a:fld>
          </a:p>
        </p:txBody>
      </p:sp>
    </p:spTree>
  </p:cSld>
  <p:transition spd="med">
    <p:zoom dir="out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28800" y="1523880"/>
            <a:ext cx="0" cy="358164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828800" y="5105520"/>
            <a:ext cx="563868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3124080" y="2209680"/>
            <a:ext cx="3200400" cy="2286000"/>
          </a:xfrm>
          <a:prstGeom prst="line">
            <a:avLst/>
          </a:prstGeom>
          <a:ln w="152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24480" y="190512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1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876560" y="2743200"/>
            <a:ext cx="2971800" cy="1981080"/>
          </a:xfrm>
          <a:prstGeom prst="line">
            <a:avLst/>
          </a:prstGeom>
          <a:ln w="152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694640" y="274320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Times New Roman"/>
              </a:rPr>
              <a:t>S2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6320" y="3581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91120" y="64771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90720" y="2819520"/>
            <a:ext cx="1066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523880" y="609480"/>
            <a:ext cx="601992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Shift in Supply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209680"/>
            <a:ext cx="3581640" cy="2362320"/>
          </a:xfrm>
          <a:prstGeom prst="line">
            <a:avLst/>
          </a:prstGeom>
          <a:ln w="152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905120" y="3429000"/>
            <a:ext cx="2743200" cy="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1828440" y="4191120"/>
            <a:ext cx="3886200" cy="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90720" y="3733920"/>
            <a:ext cx="1066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191120"/>
            <a:ext cx="0" cy="8380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10080" y="5106960"/>
            <a:ext cx="10670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Q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666880" y="3429000"/>
            <a:ext cx="0" cy="7621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3429000"/>
            <a:ext cx="0" cy="167652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5105520"/>
            <a:ext cx="1066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Q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724280" y="4800600"/>
            <a:ext cx="9907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77120" y="3962520"/>
            <a:ext cx="11430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AF857-96B4-481B-A89C-BC879021C142}" type="slidenum">
              <a:t>93</a:t>
            </a:fld>
          </a:p>
        </p:txBody>
      </p:sp>
    </p:spTree>
  </p:cSld>
  <p:transition spd="med">
    <p:zoom dir="out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609120" y="26668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en you sell a stock for more than you paid for it, you owe a capital gains ta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38080" y="9144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 capital gains taxes relate to stock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4DBA8-315A-4394-90CA-C8B07BAA2C8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4920" y="28191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en you receive a dividend from the stock, you owe income tax on that inco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14400" y="106668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 income taxes relate to stock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44C16-BFA2-4E0F-B047-0E8DAE6FE35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85800" y="2895480"/>
            <a:ext cx="7924680" cy="34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tere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ll the bond for more than you paid for i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invest your accrued interest back into the fun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43000" y="38088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three ways to make money in the bond marke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82478-15C0-4771-B360-BC0281F4AF39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85440" y="30481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ecause mutual funds sell bonds before they matur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6858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y am I vulnerable to the market when I buy bonds through a mutual fun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B671-0B1F-4AA2-AC7D-1DCDD0CD552F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812880" y="2278080"/>
            <a:ext cx="8001000" cy="44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en interest rates rise by 1 percent, bond prices fall by about 10 percen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en interest rates fall by 1 percent, bond prices rise by about 10 percen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228600"/>
            <a:ext cx="6934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effect of a change in interest rates on bond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5B36E-9012-4750-B3C9-EC3EE9B43503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539640" y="2444760"/>
            <a:ext cx="1511280" cy="1206360"/>
          </a:xfrm>
          <a:custGeom>
            <a:avLst/>
            <a:gdLst>
              <a:gd name="textAreaLeft" fmla="*/ 55800 w 1511280"/>
              <a:gd name="textAreaRight" fmla="*/ 1455480 w 1511280"/>
              <a:gd name="textAreaTop" fmla="*/ 44640 h 1206360"/>
              <a:gd name="textAreaBottom" fmla="*/ 963360 h 120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344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838080" y="3803760"/>
          <a:ext cx="762120" cy="19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3760"/>
                    <a:ext cx="76212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1905120" y="2819520"/>
            <a:ext cx="67816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have the choice of keeping or selling it when bond prices fal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106668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f I owned the bond myself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1F9F-33C1-4F51-BD16-125DF10BB1E1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1T19:22:34Z</dcterms:created>
  <dc:creator>NRCC Faculty</dc:creator>
  <dc:description/>
  <dc:language>en-US</dc:language>
  <cp:lastModifiedBy>Ken Long</cp:lastModifiedBy>
  <dcterms:modified xsi:type="dcterms:W3CDTF">2000-01-24T13:01:16Z</dcterms:modified>
  <cp:revision>77</cp:revision>
  <dc:subject/>
  <dc:title>No Slide Title</dc:title>
</cp:coreProperties>
</file>