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9758-BA77-4FB4-BC7C-A3D0DB42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853452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761720"/>
            <a:ext cx="853452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F0C9-2F0C-4CDF-869A-A0A28BF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76172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76172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E807-A927-46AF-9233-F6F63B85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288576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288576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76172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76172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761720"/>
            <a:ext cx="274788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8663-F3ED-471E-9EFF-205F48EB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885760"/>
            <a:ext cx="853452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4BD7-BA86-4888-8891-15DC01B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853452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AC0C-9984-42A9-A58A-F3DAC81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416484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2885760"/>
            <a:ext cx="416484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F27D-1B1B-4EDE-8BAC-93F3130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7008-4F39-47B3-A8F6-C602770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EC84-19FC-4E0D-96D8-E1FFD1D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2885760"/>
            <a:ext cx="416484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76172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F5C3-D69B-45BD-8584-63F2F35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416484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76172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E30C-8A7D-45B7-B27B-D966EEA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2885760"/>
            <a:ext cx="416484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761720"/>
            <a:ext cx="8534520" cy="17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7645-A4DC-443E-90AD-F460CD6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2885760"/>
            <a:ext cx="8534520" cy="35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880" indent="-191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880" indent="-191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880" indent="-191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0E6-385E-48E9-BD3C-67F8C4A9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62120" y="1243080"/>
            <a:ext cx="5932440" cy="339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4720" y="1541160"/>
            <a:ext cx="6343560" cy="23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3</a:t>
            </a:r>
            <a:br>
              <a:rPr sz="8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redit Cards</a:t>
            </a:r>
            <a:endParaRPr b="1" lang="en-US" sz="6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3903-882E-4AF8-8438-68F75875E9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8680" y="560160"/>
            <a:ext cx="8534160" cy="23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Suppose I owe $1,500 and pay $500, what is my balance the second month?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4200" y="2954160"/>
            <a:ext cx="6450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average daily balance method</a:t>
            </a:r>
            <a:br>
              <a:rPr sz="48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1,0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540D-BD26-406C-A723-4DFDE93F8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2080" y="842760"/>
            <a:ext cx="8534160" cy="23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Suppose I owe $1,500 and pay $500, what is my balance the second month?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6720" y="3227400"/>
            <a:ext cx="76834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two-cycle method</a:t>
            </a:r>
            <a:br>
              <a:rPr sz="48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1,50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F7B6-70CF-48AF-BAAC-EE4FEC3980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5040" y="739800"/>
            <a:ext cx="7753320" cy="20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ll else being equal, what is the differenc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200" y="2849040"/>
            <a:ext cx="7799400" cy="27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pay about twice as much with the two-cycle method on any balance carried o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12880" y="3805200"/>
            <a:ext cx="1852560" cy="15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4E2F-7259-46C5-BCBC-20301FD63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2680" y="618840"/>
            <a:ext cx="650556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ich credit card company uses the two-cycle metho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2520" y="2859120"/>
            <a:ext cx="6719760" cy="25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iscover C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sterCard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ISA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35040" y="3684600"/>
          <a:ext cx="85572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684600"/>
                    <a:ext cx="85572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EEF5-A43D-4060-A37E-A9D08C95E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9760" y="1106280"/>
            <a:ext cx="853128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ime tiered interest calculation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960" y="2800080"/>
            <a:ext cx="7886880" cy="22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interest rate is different for old purchases and new purcha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A53D-542F-4BEE-A8C6-20D7726D39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7534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new purchase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2771640"/>
            <a:ext cx="8537760" cy="23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rchases made in the current billing cycle and previous are considered n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1D70-A64E-4906-8105-9B15934B32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40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old purchase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95200" y="2447640"/>
            <a:ext cx="7027560" cy="26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rchases made more than two billing cycles ago and carried forward are 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3440" y="4110120"/>
            <a:ext cx="126216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BD3D-4F96-4A77-A38C-1C4B53FDDE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954000"/>
            <a:ext cx="8226720" cy="20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difference in interest rate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3080" y="2776320"/>
            <a:ext cx="6956640" cy="23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ypically new purchas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.9%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for old prime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.9%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49280" y="2208240"/>
            <a:ext cx="820800" cy="16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F7B3-3D1F-4B63-B038-AECFAE02FF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9160" y="744480"/>
            <a:ext cx="7459920" cy="20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name of this cred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4640" y="2531880"/>
            <a:ext cx="7670880" cy="10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me Option MasterCar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43480" y="3700440"/>
            <a:ext cx="24588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6BD5-660F-4002-8C29-D64D07CA1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7760" y="731520"/>
            <a:ext cx="85262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Does it make any difference when I pay my bill as long as it is paid on time?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2640" y="2782800"/>
            <a:ext cx="1663560" cy="113040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44600" y="372600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372600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78080" y="3259080"/>
            <a:ext cx="646596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ery day the bill is not paid you owe another day of interes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CCF6-9A17-4B8E-8D05-514BDC3E1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3680" y="926640"/>
            <a:ext cx="8307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switch to a lower rate cred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7760" y="2496960"/>
            <a:ext cx="2485800" cy="1312920"/>
          </a:xfrm>
          <a:custGeom>
            <a:avLst/>
            <a:gdLst>
              <a:gd name="textAreaLeft" fmla="*/ 91800 w 2485800"/>
              <a:gd name="textAreaRight" fmla="*/ 2394000 w 2485800"/>
              <a:gd name="textAreaTop" fmla="*/ 48600 h 1312920"/>
              <a:gd name="textAreaBottom" fmla="*/ 1048680 h 13129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080" y="2658960"/>
            <a:ext cx="2619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be  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04800" y="380376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380376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674800" y="2657520"/>
            <a:ext cx="61628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the new card uses the two-cycle method of interest calcul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7059-DED9-4CF3-A0A4-ED7D1A448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1387080"/>
            <a:ext cx="8491680" cy="104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grace perio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6720" y="2449080"/>
            <a:ext cx="6703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 time which you are not charged interest on a purch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61040" y="2658960"/>
            <a:ext cx="1079640" cy="19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0281-94BC-4DB4-BB20-B88F99C846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93200"/>
            <a:ext cx="863280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a grace period if I carry over a balance from month to month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1560" y="273384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4440" y="3925800"/>
          <a:ext cx="7761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3925800"/>
                    <a:ext cx="776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368440" y="2917800"/>
            <a:ext cx="60073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grace period applies only if you start the month with a zero bal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2E8D-FC0C-47F0-8D02-3953D50C9B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6160" y="1066680"/>
            <a:ext cx="7537680" cy="20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there a credit card that always gives me a  grace perio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87320" y="3238560"/>
            <a:ext cx="7742160" cy="15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merican Express Optima True Grace Car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EBD6-7E81-4B05-8805-7D3EFD5902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920520"/>
            <a:ext cx="8339040" cy="186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pay off my balance each month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6000" y="2573280"/>
            <a:ext cx="7012080" cy="31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take advantage of the grace period and to avoid interest and possibly other char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196040" y="2863800"/>
          <a:ext cx="11271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6040" y="2863800"/>
                    <a:ext cx="11271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5F0B-1B85-4FC2-8D0B-5CF429D2A8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5880" y="5792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low minimum payment a good th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3600" y="2462040"/>
            <a:ext cx="1511640" cy="1206720"/>
          </a:xfrm>
          <a:custGeom>
            <a:avLst/>
            <a:gdLst>
              <a:gd name="textAreaLeft" fmla="*/ 55800 w 1511640"/>
              <a:gd name="textAreaRight" fmla="*/ 1455840 w 1511640"/>
              <a:gd name="textAreaTop" fmla="*/ 44640 h 1206720"/>
              <a:gd name="textAreaBottom" fmla="*/ 963720 h 1206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19000" y="3656160"/>
          <a:ext cx="10875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656160"/>
                    <a:ext cx="10875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101680" y="2692440"/>
            <a:ext cx="6180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wer the monthly payments you make the longer and the more interest you will pay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A0FA-D33F-4E06-8D9E-CAEB9645C4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47720"/>
            <a:ext cx="9144000" cy="22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ometimes I can skip payments without penalty, is this a good th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0800" y="297180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8360" y="4032360"/>
          <a:ext cx="10872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4032360"/>
                    <a:ext cx="10872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484360" y="3351240"/>
            <a:ext cx="55818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est charges continue to be accrued each day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061C-4A18-4C44-9E96-818F0F3679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1414440"/>
            <a:ext cx="783756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credit cards make mone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4FDE-72F6-4FFA-B87B-10A10F9220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08120" y="1122480"/>
            <a:ext cx="777384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rging retail store owners a percentage of every purchase made with their car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nalty f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nual fe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6757-1278-4DFE-BC47-658072C4FB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5600" y="1631880"/>
            <a:ext cx="7837560" cy="20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compare different credit car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C11E-7AF0-4541-8C8F-F17C48692E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69960" y="873000"/>
            <a:ext cx="802152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sh advance f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nalty f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xed or variable interest r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lling metho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nual fe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0074-AA2F-481D-A53C-3FFC81C581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360" y="1236240"/>
            <a:ext cx="85867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two interest calculation metho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6160" y="3328920"/>
            <a:ext cx="746136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verage daily bal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7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wo-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3440" y="4245120"/>
            <a:ext cx="1793880" cy="178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B38B-3DF8-4E57-8EFE-35DD7DB3D4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6520" y="1036440"/>
            <a:ext cx="6864480" cy="23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perks that go along with credit car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629D-CE33-403E-9A10-FD78CFCDE2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143000"/>
            <a:ext cx="803412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light and hotel arrange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arante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ord keep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veni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E9E8-E161-4B2A-A96B-A5C8CF29F5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5760" y="1358640"/>
            <a:ext cx="6864480" cy="20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qualify for a low interest rate credit car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4F9B-732C-4AA6-A5A8-BC6F06F30A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533520"/>
            <a:ext cx="87454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se any accounts not need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y down high balanc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areful not to have a high debt to income rati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mention consolid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ply to no more than 2 card companies in any 6 month perio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0F9E-22F2-4B5D-82F1-70C236649E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7440" y="1012680"/>
            <a:ext cx="7804080" cy="20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tips in using credit card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E03C-E5A5-44BF-8BFC-C97A017DE0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1200" y="281160"/>
            <a:ext cx="8902800" cy="65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ware insurance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to a lower interes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impulse bu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l payments as soon as you 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track of purchases in checkbook - avoid double spen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off balance in full each mon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hort term savings accou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D79D-75CD-4E39-9CEC-15C3004B35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893880"/>
            <a:ext cx="799308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mail my payments in promptl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7160" y="2669760"/>
            <a:ext cx="7351920" cy="30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 carry over a balance, the sooner you make a payment the more money you s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D2DE-20ED-4F95-AF71-A1AAD22730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2600" y="780840"/>
            <a:ext cx="7881840" cy="173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uble spend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891252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you charge something but feel like you still have the money - you spend the money ag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9200" y="4449600"/>
            <a:ext cx="763560" cy="16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1BCC-8388-4E13-81F4-7906CB3329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240" y="850680"/>
            <a:ext cx="6891480" cy="173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avoid double spend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8800" y="2628720"/>
            <a:ext cx="7894800" cy="34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tract from your checkbook any money spent when using your credit card if you plan to pay it off with the next b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8E88-6CD9-45B2-90C4-E9A24162A0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762120"/>
            <a:ext cx="892944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use my short term savings accoun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9200" y="2550600"/>
            <a:ext cx="8460000" cy="32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any unusual or large outlays that you plan to pay off, take the money from your short term sav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9BB6-EAE6-4C74-8E71-810280C40A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3080" y="899640"/>
            <a:ext cx="7769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Average Daily Balance metho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5600" y="2600280"/>
            <a:ext cx="791532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est at time of billing is calculated by adding up the interest charges for each day of a 25 day 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7A4B-99FD-48A3-B76B-20BA87100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5920" y="731880"/>
            <a:ext cx="7413480" cy="17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mpulse buy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2635200"/>
            <a:ext cx="6885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feeling that you are using play mone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6680" y="4452840"/>
            <a:ext cx="158580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CC65-F76E-40B0-963C-885216930A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6440" y="585360"/>
            <a:ext cx="7242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feel a loyalty to my credit card company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6120" y="2498760"/>
            <a:ext cx="1566720" cy="1122480"/>
          </a:xfrm>
          <a:custGeom>
            <a:avLst/>
            <a:gdLst>
              <a:gd name="textAreaLeft" fmla="*/ 57960 w 1566720"/>
              <a:gd name="textAreaRight" fmla="*/ 1508760 w 1566720"/>
              <a:gd name="textAreaTop" fmla="*/ 41400 h 1122480"/>
              <a:gd name="textAreaBottom" fmla="*/ 896400 h 1122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38160" y="3538440"/>
          <a:ext cx="10875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3538440"/>
                    <a:ext cx="10875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171880" y="3000240"/>
            <a:ext cx="6399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ver hesitate to cancel a card if another card can give you a better de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1F0A-6E16-46B3-B2EC-DFC9D2E98A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0600" y="479160"/>
            <a:ext cx="7242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 insurance's that come with a card a good th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920" y="2508120"/>
            <a:ext cx="5040000" cy="1206720"/>
          </a:xfrm>
          <a:custGeom>
            <a:avLst/>
            <a:gdLst>
              <a:gd name="textAreaLeft" fmla="*/ 186480 w 5040000"/>
              <a:gd name="textAreaRight" fmla="*/ 4853520 w 5040000"/>
              <a:gd name="textAreaTop" fmla="*/ 44640 h 1206720"/>
              <a:gd name="textAreaBottom" fmla="*/ 963720 h 1206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77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ll depends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9400" y="3821040"/>
          <a:ext cx="64152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3821040"/>
                    <a:ext cx="6415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797120" y="3529080"/>
            <a:ext cx="68533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ly they are much more expensive than the same insurance coverage elsewhe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78BE-D3BE-4767-8B05-29D08B2D95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5840" y="645840"/>
            <a:ext cx="68054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I challenge a rate increas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8240" y="2216160"/>
            <a:ext cx="1663920" cy="1130400"/>
          </a:xfrm>
          <a:custGeom>
            <a:avLst/>
            <a:gdLst>
              <a:gd name="textAreaLeft" fmla="*/ 61560 w 1663920"/>
              <a:gd name="textAreaRight" fmla="*/ 1602360 w 1663920"/>
              <a:gd name="textAreaTop" fmla="*/ 41760 h 1130400"/>
              <a:gd name="textAreaBottom" fmla="*/ 902880 h 1130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882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370160" y="3276720"/>
          <a:ext cx="76356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3276720"/>
                    <a:ext cx="763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354400" y="2871720"/>
            <a:ext cx="637524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me card companies will offer you a lower rate if you as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5ABC-DB8B-4697-A38F-0B55D24E831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39400"/>
            <a:ext cx="8939160" cy="21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have a credit card with my ex-spouse, am I liable for all charges mad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4520" y="2354400"/>
            <a:ext cx="1663560" cy="1130040"/>
          </a:xfrm>
          <a:custGeom>
            <a:avLst/>
            <a:gdLst>
              <a:gd name="textAreaLeft" fmla="*/ 61560 w 1663560"/>
              <a:gd name="textAreaRight" fmla="*/ 1602000 w 1663560"/>
              <a:gd name="textAreaTop" fmla="*/ 41760 h 1130040"/>
              <a:gd name="textAreaBottom" fmla="*/ 902520 h 1130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7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39560" y="3711600"/>
          <a:ext cx="7639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3711600"/>
                    <a:ext cx="7639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265400" y="2936880"/>
            <a:ext cx="74642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your ex-spouse does not pay - you must pay or be sued and suffer a bad credit repo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1181-56B6-440A-9A94-6BBCD1D0DD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35000" y="1926720"/>
            <a:ext cx="5151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1" lang="en-US" sz="129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9461-EA1C-4BE9-87B4-35DC9B71F4BE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9042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ith an interest of 18% and a balance of $1,500 the interest the first day is?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8760" y="3350880"/>
            <a:ext cx="853452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1,500 x .18 = $27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$270/360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57880" y="4124160"/>
            <a:ext cx="1984320" cy="1098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6DA6-6C78-4F55-81AD-33FFD30D1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756720"/>
            <a:ext cx="8534520" cy="21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interest the second day of the cycl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0400" y="2725200"/>
            <a:ext cx="748188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1,500 + .75 = $1,500.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1,500.75 x .18 = $270.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270.14 / 36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51520" y="4226040"/>
            <a:ext cx="2554200" cy="1336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1737-ADC2-48DA-A616-E35ADFD42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" y="730080"/>
            <a:ext cx="8534520" cy="20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interest the  third day of the cycl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0320" y="2488680"/>
            <a:ext cx="71532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1,500.75 + .75 = $1,501.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1,501.50 x .18 = $270.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270.27 / 36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35400" y="3975120"/>
            <a:ext cx="2302200" cy="1309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A87B-F38E-4DC1-B812-B78D4CCA2E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6480" y="928800"/>
            <a:ext cx="6505560" cy="21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nterest will I owe at the end of the cycl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36680" y="3662280"/>
          <a:ext cx="1865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3662280"/>
                    <a:ext cx="1865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519360" y="3357720"/>
            <a:ext cx="2845080" cy="17208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22.50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E7AD-815F-44AA-9198-1E4B6254F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0" y="729720"/>
            <a:ext cx="7534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es the two-cycle method work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68240"/>
            <a:ext cx="6761160" cy="27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ach billing cycle is two months instead of one month despite monthly bi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63720" y="3938760"/>
            <a:ext cx="2052360" cy="164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188D-4EE1-430C-96D7-268C0074C8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07-12T18:05:48Z</cp:lastPrinted>
  <dcterms:modified xsi:type="dcterms:W3CDTF">2000-01-18T14:29:02Z</dcterms:modified>
  <cp:revision>56</cp:revision>
  <dc:subject/>
  <dc:title>No Slide Title</dc:title>
</cp:coreProperties>
</file>