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9B4F-C12C-4EAE-BB29-50C32E97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6197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690440"/>
            <a:ext cx="76197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40AE-402B-4EC7-A7A1-0E7A709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81952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69044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69044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0432-5565-40E2-B2AE-9BC56EBB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28195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28195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6904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6904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6904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E866-F175-47CF-ACB1-AC604493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C48F-32EF-47E1-90DE-A91B159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C9E0-04F1-4340-A068-4FE65B23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3718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819520"/>
            <a:ext cx="3718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BF1E-FEA4-47B3-9402-929638CB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D2AD-D6A2-456E-AAE6-0624853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80010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6342-FFC8-4315-816E-9F42D3D0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819520"/>
            <a:ext cx="3718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69044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996E-7C89-4482-9941-AD6818C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3718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81952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69044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0036-7BE9-42B4-AADF-D558EAA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819520"/>
            <a:ext cx="3718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690440"/>
            <a:ext cx="76197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A3B1-AE79-4D5E-AB21-03258F40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81952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880" indent="-1918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880" indent="-1918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AF53-499F-4BDE-9A9E-6EF2E87A001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sdinc.com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vest-faq.com/articles/trade-electronic.html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nterlearn.com/summary/nasd.htm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investorama.com/dripcent.shtml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nvest-faq.com/" TargetMode="Externa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pfa.org/" TargetMode="External"/><Relationship Id="rId2" Type="http://schemas.openxmlformats.org/officeDocument/2006/relationships/hyperlink" Target="http://www.aicpa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1297080"/>
            <a:ext cx="6937200" cy="35002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5334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600200"/>
            <a:ext cx="64771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10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ocks &amp; Annuiti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18148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7270-6404-4D12-8AB4-FC5C6F560C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22860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market whereby you agree to buy or sell a certain commodity, such as grain, juice, metals, and even currencies et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838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mmoditie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19C5-943B-4CFC-94DA-CCFCE3FF0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828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make money in the commoditie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1623-13D6-4EFF-A076-144438F03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505320"/>
            <a:ext cx="79264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a seller, if the market price goes below the contract price on the  date you agreed to sell, you ga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82310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a buyer, if the market price goes above the contract price on the  date you agreed to buy, you ga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94C3-D0E7-4F4F-A05B-913E0EAD3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1995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lose money in the commoditie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27A5-21EC-4388-9EB5-82211FF353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3430440"/>
            <a:ext cx="79261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a seller, if the market price goes above the contract price on the date you agreed to sell, you lo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762120"/>
            <a:ext cx="82314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a buyer, if the market price goes below the contract price on the  date you agreed to buy, you lo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225B-6462-482B-B074-1431F9C75B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266652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no control over your investment, you have to stick to the contr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010280" y="2666880"/>
          <a:ext cx="854280" cy="18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2666880"/>
                    <a:ext cx="85428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14400" y="68580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isadvantage of the commoditie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65A9-AD35-4E9B-8568-80D2ADFBD7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31237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brokers buy and sell often, sales commissions can add up fa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7621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re commissions to be paid in the commoditie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5197-29B6-4107-A495-B76CED149A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71240" y="26665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market where stocks are bought and s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4495680"/>
            <a:ext cx="1295280" cy="1355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106668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tock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3CC8-CC46-4235-9BB3-05FCD5C4A4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01760" y="4730760"/>
            <a:ext cx="120636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8280" y="4044960"/>
            <a:ext cx="1206360" cy="82548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0760" y="3892680"/>
            <a:ext cx="1206360" cy="97776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7280" y="539640"/>
            <a:ext cx="1206360" cy="4330800"/>
          </a:xfrm>
          <a:prstGeom prst="rect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47880" y="4925880"/>
            <a:ext cx="73152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200" y="4995720"/>
            <a:ext cx="2209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 Mark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16200" y="502920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502920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502920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990720"/>
            <a:ext cx="38862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turn on investment over the last 60 ye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8EB0-59D5-483E-BE10-60CA01A71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3520" y="2666520"/>
            <a:ext cx="62485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in the short run there can be big market dro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739800" cy="1490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160" y="1219320"/>
            <a:ext cx="90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esn’t everyone invest in the stock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FEFA-133B-4EE0-A210-5E8EBD0825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25909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dvisor who gives advice for a fee but does not make money on the products he se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9144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fee only financial advis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0CC2-6DFA-45C7-9C7E-267FD26B1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5238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characteristics of stock investo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EAAD-8D4F-4A38-8CDC-192FCD264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7320" y="563400"/>
            <a:ext cx="883908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 funds doubled since 1990 while number of participants have tripl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9% are investing for their retir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s doubled from 1990 – 199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7% of investors are wo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investor is under 50 years of 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EE25-F3D7-49DD-85E2-0DEEA06D82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281952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tional Assoc. of Investors Corp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810) 583-624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sdinc.co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can help me learn the fundamentals of invest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322D-AB67-49F5-947D-9E2311C2B4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ne Up on Wall Stre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 Peter Ly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Warren Buffet W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 Robert G. Hagstrom J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8380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good books to rea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2621-F08A-44C6-A99D-6E96A25A17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2438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good books to rea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69AE-84B7-4071-AE1F-592C1254D3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609480"/>
            <a:ext cx="838224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est in companies with high debt when the economy is expan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est in companies with low debt during economic uncertain ti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est in companies that have a niche in the mark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est in companies that are in a no growth indus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ACDB-34FB-4FD5-9FAA-1F370A08E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9960" y="1396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est in companies that are in a disgusting or depressing occupation, dull and bo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vest in humdrum companies that are in a simple market with little competi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 stock in smaller companies rather than big compan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 stocks in a field you are familiar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gnore the stock market and concentrate on the comp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FB35-36CA-4E1D-A2E8-107B03BC98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ives you personal ad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sonal relationsh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n keep you inform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762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a Full service stock brok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05D1-7357-4D85-84E3-E2A4FBCD9C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62320" y="304776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exp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9880"/>
          <a:ext cx="11239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11239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990720" y="83808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a full service stock brok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9A1D-9BF7-404F-B4FF-803D3180C6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firm trades in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d out re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rket quotes over ph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s expensive than full ser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5335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a discount brok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4C25-002C-44BB-B2A1-0B61BC8FD6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9480" y="2901960"/>
            <a:ext cx="1587240" cy="1206360"/>
          </a:xfrm>
          <a:custGeom>
            <a:avLst/>
            <a:gdLst>
              <a:gd name="textAreaLeft" fmla="*/ 58680 w 1587240"/>
              <a:gd name="textAreaRight" fmla="*/ 1528560 w 158724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9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895480"/>
            <a:ext cx="1523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74760" y="4184640"/>
          <a:ext cx="93492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4184640"/>
                    <a:ext cx="93492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981080" y="2897280"/>
            <a:ext cx="6172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ock brokers tend to give quality time to the larger accou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33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a small investor get same consideration as a larger inves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CA90-197D-4B51-B90B-CFC3837A2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not promote stoc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free resear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monitoring your accou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6094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isadvantages of a discount brok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CD6F-3E4C-4FDC-BAAF-4D914DF682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28800" y="297180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 frills service at the lowest pr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934320" y="3429000"/>
          <a:ext cx="93348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429000"/>
                    <a:ext cx="9334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915840" y="7524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a deep discount brok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F3C2-3229-4F3D-A06C-B58FF88088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atch for hidden f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eck out what’s offe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 aware of restri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68580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should I consider with a discount brok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FEF8-8FEC-422B-A74A-9D11CED837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tlinks to 30 compan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invest-faq.com/articles/trade-electronic.htm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7621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trade on the Intern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5CB3-51C9-4AA3-A758-A2EC842458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tional Association of Securities Deal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212) 480-488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interlearn.com/summary/nasd.ht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490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think my broker is guilty of fraud, what can I d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C907-E2EE-4421-A593-F8B3DE2983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1760" y="266688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ives you the option to sell a specified number of shares at a specified price before a specified d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914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buying stock, what is a pu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653E-2AF7-4E24-83AF-26B6FA0070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040" y="25909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ives you the right to buy a specified number of shares at a specified price before a specified d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91440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buy stock, what is a ca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C705-AAF8-46CF-805D-3FF30A4681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057040" y="26668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y cost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71600" y="2819520"/>
          <a:ext cx="62712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62712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990720" y="9144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one problem with puts and call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F3B0-F251-4F82-BC8C-93E46C41E1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057040" y="2666520"/>
            <a:ext cx="541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ising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46280" y="3422520"/>
          <a:ext cx="803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3422520"/>
                    <a:ext cx="803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38080" y="1752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bull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CBE9-3140-4F0C-9B5C-CF394281FD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981080" y="31240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alling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49160" y="2508120"/>
          <a:ext cx="152892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508120"/>
                    <a:ext cx="152892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04920" y="1371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bear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9DF2-BFDF-4B53-977E-664B89744B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124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every time he buys or sells a share of stock for you he makes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762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 some stock brokers encourage me to buy and sell ofte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61E5-D261-44ED-A9D7-E325F96AE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mon stock mutual funds that focus on matching the performance of some index of the stock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index fu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2138-7FF9-4CB5-914D-E6CF18E014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tock broker takes action and buys and sells according to market tre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396120" y="4419720"/>
          <a:ext cx="137628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6120" y="4419720"/>
                    <a:ext cx="137628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371600" y="10666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ctive manage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5C81-AFCE-4E91-884E-8303F2674B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19320" y="259056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tock broker who simply buys a basket of stocks in some 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0120" y="4343400"/>
          <a:ext cx="91728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4343400"/>
                    <a:ext cx="91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838080" y="91440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passive manage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D032-21C3-4561-908F-B005FFE806B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wer co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vests more of every dollar you give him to inv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s turn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335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passive manage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0DAB-9F0C-47E4-A6A7-763BDF4E60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RIPs allow you to buy stocks directly from a company rather than through a stock brok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8380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ividend reinvestment pl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AC4D-5A8E-4651-A02D-6804A9966C3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1760" y="28195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DRIP that automatically drafts your bank account month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1430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optional cash pay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803F-5D89-4579-BF1E-EF1B250A76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42640" y="30481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investorama.com/dripcent.shtm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2952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do I find out more about DRIP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7E5C-40E7-42BF-9F2F-C449136742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281952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lan that has you invest the same amount every month on a regular b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914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llar cost averag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FCA4-C78A-470A-81D5-547B15C507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76197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money buys less when stock prices go up and more when stock prices go d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335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dollar cost averag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107C-4C3D-49EF-93AF-1395A0794FA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investment which you receive fixed monthly payments for a lifetime or a specified number of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143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CC7F-355E-4BB6-BED9-B2CDCD4498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banker may advise you to buy the bank’s house-brand mutual funds, these may or may not be the best for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7621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my bank always give me the best advi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86AC-3BAF-4E3C-B00A-09026DDDE0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inherit $100,000 and purchase an annuity with it, you then receive a certain amount monthly for life after certain 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7621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an example of a single premium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C1EE-B069-453F-83B9-2333744B44B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23880" y="2743200"/>
            <a:ext cx="65534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monthly income will remain the same your whole life after a certain 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1430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ixed rate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3ED2-B3EE-4907-B0FB-D6F83055E1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income will depend upon how well the annuity’s investments 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06668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variable annu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F097-9DD4-409B-B9E6-01168D3177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21337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void these plunders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118D-8BEB-4B5F-BCED-F2CFD5D2CBD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380880"/>
            <a:ext cx="855036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bonds beware of what is said to be guaranteed, the price of bonds fluctuate with interest r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ver get emotionally involved in a sto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not buy stocks based solely on past perform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ways see a prospectus before taking any 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ware of solicitations over the ph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33DF-B753-4EC3-9F6A-9A51812E779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32767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invest-faq.com/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8380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find answers to almost any investment ques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66D7-0279-4F33-8667-EE0476F5B07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57400" y="1752480"/>
            <a:ext cx="541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36B2-48B9-4F0F-B423-CB8FB7309D3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28191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one who considers your age, income, assets, risk tolerance, and goa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makes for a good advis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B8BA-35AE-46ED-AAA2-5CC11501A9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2286000"/>
            <a:ext cx="1517760" cy="1365120"/>
          </a:xfrm>
          <a:custGeom>
            <a:avLst/>
            <a:gdLst>
              <a:gd name="textAreaLeft" fmla="*/ 56160 w 1517760"/>
              <a:gd name="textAreaRight" fmla="*/ 1461600 w 1517760"/>
              <a:gd name="textAreaTop" fmla="*/ 50400 h 1365120"/>
              <a:gd name="textAreaBottom" fmla="*/ 1090440 h 1365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02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362320"/>
            <a:ext cx="1371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3352680"/>
          <a:ext cx="61128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6112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76520" y="2590920"/>
            <a:ext cx="70102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 companies will     even demote sales reps who give advice based on their own self interes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sue a sales rep who gives me advice based on his own interes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CD4B-195C-4D9A-AD29-9E6863D5F3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14479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find the best source for financial advi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358C-16D8-4753-B16F-38E77F80D0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3581280"/>
            <a:ext cx="79264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tional Assoc. of Personal Financial Advisors           (800-366-2732) </a:t>
            </a: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apfa.or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57200"/>
            <a:ext cx="82314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merican Institute of Certified Public Accountants (800-862-4272) </a:t>
            </a: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www.aicpa.or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2A90-0DF1-4F85-BC75-0385F92845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11-06T15:56:14Z</cp:lastPrinted>
  <dcterms:modified xsi:type="dcterms:W3CDTF">2000-01-25T02:44:02Z</dcterms:modified>
  <cp:revision>72</cp:revision>
  <dc:subject/>
  <dc:title>No Slide Title</dc:title>
</cp:coreProperties>
</file>