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1DFF-0073-44C8-84BA-A5C7F3F3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511880"/>
            <a:ext cx="8534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CB08-8225-446D-9779-95804D9C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5118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45118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48115-B8F2-4E4E-9E76-69240732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236232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236232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5118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45118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45118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251D-4174-4F03-A3C0-7032898A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98837-7BA9-4B64-8B3C-992EB5F5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6BC1D-F9D7-4E7B-8BBE-CB82E9BA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AE0FA-A802-4ED9-AA38-6B69F3E7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E4D2-8614-4297-AB5E-ECAB3E85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34160" cy="9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8D8C4-8D90-4777-ABBD-640BE96F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5118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8F06D-24DA-4810-8660-20ADA8A6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45118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5DAF4-471E-4245-BDA6-B66BF2FE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511880"/>
            <a:ext cx="8534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C713D-7A9C-4C10-B10E-E3BAD572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2362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4000"/>
          </a:bodyPr>
          <a:p>
            <a:pPr marL="219240" indent="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9240" indent="-21924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2" marL="219240" indent="-21924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3" marL="219240" indent="-21924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9240" indent="-21924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9240" indent="-2192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9240" indent="-2192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B2B8-5A3B-402D-A9D9-5AB39E821D2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r.cc.va/fin107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1480" y="1442880"/>
            <a:ext cx="6024600" cy="31291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77120" y="5334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6002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1600200"/>
            <a:ext cx="7086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Times New Roman"/>
              </a:rPr>
              <a:t>Chapter 8</a:t>
            </a:r>
            <a:br>
              <a:rPr sz="8800"/>
            </a:b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axe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90720" y="5056200"/>
            <a:ext cx="381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n Lo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River Community Colle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blin, VA 24084</a:t>
            </a:r>
            <a:br>
              <a:rPr sz="2000"/>
            </a:br>
            <a:r>
              <a:rPr b="0" lang="en-US" sz="2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nr.cc.va/fin10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2FE3C-667D-4385-850C-7678489DC1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09120" y="3047760"/>
            <a:ext cx="81536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y changing the number of exemptions on your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-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3716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 control my payroll deductio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DAE1B-0E85-40A0-B930-1A15BB7BC1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251424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ecrease the number of exemptions on your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-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47920" y="4800600"/>
            <a:ext cx="1141200" cy="1481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19320" y="99072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f I want more money taken ou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6DECE-36C8-4EB1-8498-FCBA7BC2D6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251424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crease the number of exemptions on your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-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5880" y="4495680"/>
            <a:ext cx="1143000" cy="1557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5800" y="10666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do I do if I want less money taken ou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4254F-F90A-4771-A979-E72A7C62C2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3160" y="33523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en you file your tax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0666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do I claim the correct number of exemption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EF9BE-6EE9-486C-8483-DF1673C09B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447920" y="2514600"/>
            <a:ext cx="670536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et an extension until August 15th with form 466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029200" y="4800600"/>
            <a:ext cx="2233440" cy="838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49400" y="100008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 can’t meet the April 15th deadline, what can I do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578F-1922-4CB4-AAEE-352755EA5B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920" y="3048120"/>
            <a:ext cx="853416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will have to pay interest on the money you owe going back to April 15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7621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f I file for an extension and  end up owing tax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36528-B062-4F4C-95B9-90469BA68F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523880" y="2743200"/>
            <a:ext cx="6019920" cy="27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re are no penalty charges if you file form 4668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14300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I file late and owe taxes is there a penal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5C83B-C1CB-4C72-8512-4A72122C18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371600" y="2209680"/>
            <a:ext cx="63244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ach exemption is a subtraction from your taxable incom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0" y="4876920"/>
            <a:ext cx="928800" cy="1261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04920" y="1143000"/>
            <a:ext cx="8610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Times New Roman"/>
              </a:rPr>
              <a:t>What is an exemption?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5D27-F8BF-4DBC-A682-8BA9B5B8BD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295280" y="2209320"/>
            <a:ext cx="6858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ach deduction is a subtraction from your taxable incom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00200" y="4572000"/>
            <a:ext cx="18478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14400" y="11430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deductio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4AA2-4C5F-479F-B537-5B34D84E6E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066320" y="2666520"/>
            <a:ext cx="723924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your total deductions do not add up to the standard deduction, use the standard deductio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99072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standard deductio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FBBC7-EFEE-4EF9-9D64-6AA6921C7B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676520"/>
            <a:ext cx="792468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x Attorney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ccountant (but not a CPA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puter software program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ercial Ag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nrolled Ag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ertified Public Accounta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2286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can I get help with my tax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8C86F-15FB-414F-8E35-D925B75E9F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523520" y="25909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short EZ Form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010280" y="4114800"/>
            <a:ext cx="438120" cy="1492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106668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form do I use with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standard deductio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00EC-23EC-41F6-B579-68A011753C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23520" y="3200040"/>
            <a:ext cx="6629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must file the long form and itemize your deduction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38920" y="4191120"/>
          <a:ext cx="781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4191120"/>
                    <a:ext cx="781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457200" y="83808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f my deductions add up to more than the standard deductio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4F9A-9754-4E62-88E5-5E907F925F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676160" y="2971440"/>
            <a:ext cx="60958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interest paid on a mortgage and/or a home equity loa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295280" y="2895480"/>
          <a:ext cx="53352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895480"/>
                    <a:ext cx="5335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914400" y="7621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largest tax deduction for most peopl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5A7B-496C-4D15-9A0B-EBC18FFCDF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47560" y="2666880"/>
            <a:ext cx="601956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nly if you file the Long Form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14600" y="4114800"/>
            <a:ext cx="1066680" cy="1409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106668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s money to my church a tax deductio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B4A95-A3C0-4B44-A025-E04D1DC2E9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819520"/>
            <a:ext cx="769644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can claim a loss on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chedule C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as the owner of a small busin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114300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can I do to save money on my tax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C014-FADE-44AE-ADD6-F2176EF90D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92280" y="2901960"/>
            <a:ext cx="1739880" cy="1282680"/>
          </a:xfrm>
          <a:custGeom>
            <a:avLst/>
            <a:gdLst>
              <a:gd name="textAreaLeft" fmla="*/ 64440 w 1739880"/>
              <a:gd name="textAreaRight" fmla="*/ 1675440 w 1739880"/>
              <a:gd name="textAreaTop" fmla="*/ 47520 h 1282680"/>
              <a:gd name="textAreaBottom" fmla="*/ 1024560 h 1282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23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895480"/>
            <a:ext cx="1752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88920" y="3886200"/>
          <a:ext cx="6876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3886200"/>
                    <a:ext cx="687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828800" y="3048120"/>
            <a:ext cx="670572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m 1040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there is a place to take away a loss from a busines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533520"/>
            <a:ext cx="723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an I claim a loss on Schedule C even if I file the short form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10614-229E-45BD-8F08-8D52B4BE5C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42640" y="3198600"/>
            <a:ext cx="7010280" cy="25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y 2 of 5 years, 3 of 5 years if you make a request in writ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838080"/>
            <a:ext cx="73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For how many years can I claim a loss from a busines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F963-A5BD-4971-B408-D103CCA217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447920" y="3048120"/>
            <a:ext cx="63244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le IRS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m 5213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Election to Postpone Determination That Activity is for Profi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76212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the IRS challenges my sideline business, what can I do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B797-F5BB-42DE-A912-F6A158743C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520" y="2819160"/>
            <a:ext cx="807696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t delays the business status until after you have been in business for five ye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1430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does filing Form 5213 do for m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1321-34C6-4976-A48A-0FD6782C0F7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42640" y="2590920"/>
            <a:ext cx="3505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amer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l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ark roo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hemica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osta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2743200"/>
            <a:ext cx="388620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5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blicatio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minati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nk charg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py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 trave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2860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Give me some examples of  tax deductions for a photography busines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9CAF9-C2EE-4A5B-BFDE-C70E56F861E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00200" y="2971440"/>
            <a:ext cx="67816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are responsible for the accuracy of your tax retur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00800" y="4800600"/>
            <a:ext cx="927000" cy="1365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762120"/>
            <a:ext cx="678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o is responsible for the accuracy of my tax retur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6FD0-943E-4228-8EC7-FAF076B8F9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90360" y="3048120"/>
            <a:ext cx="74674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have to put a plan into operation this ye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83808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is a good time to save money on my tax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0371F-EF7C-422E-AB74-2241D4EF698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320" y="2284560"/>
            <a:ext cx="7239240" cy="31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t is critical that you keep careful records and receipts whenever possib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934320" y="4114800"/>
            <a:ext cx="1109520" cy="1552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52480" y="762120"/>
            <a:ext cx="58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Must I keep careful record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D0769-7D9C-48FC-8320-3B22493D11B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676160" y="2514600"/>
            <a:ext cx="64767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ually you simply need to give your business a name and fill out a Schedule 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5800" y="3429000"/>
          <a:ext cx="114768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429000"/>
                    <a:ext cx="11476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533520" y="83808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 I need a license to go into my own busines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23C9-B7C3-457D-9F2B-E39E4A4F089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447920" y="32000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 sole proprietorship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9880" y="4495680"/>
            <a:ext cx="1181160" cy="1295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62120" y="83808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kind of business do I have when I fill out Schedule C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9436C-309B-4A51-844F-1222B6B73A1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3520" y="685800"/>
            <a:ext cx="80769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other types of business organizations can I hav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3048120"/>
            <a:ext cx="678168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hapter S Corpora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imited Liability Corpora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306A9-3FEB-4FDD-BED1-A0474AB2B5F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32763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en liability is an iss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543800" y="3048120"/>
            <a:ext cx="1219320" cy="1380960"/>
            <a:chOff x="7543800" y="3048120"/>
            <a:chExt cx="1219320" cy="1380960"/>
          </a:xfrm>
        </p:grpSpPr>
        <p:sp>
          <p:nvSpPr>
            <p:cNvPr id="137" name=""/>
            <p:cNvSpPr/>
            <p:nvPr/>
          </p:nvSpPr>
          <p:spPr>
            <a:xfrm>
              <a:off x="8399520" y="3048120"/>
              <a:ext cx="363600" cy="317160"/>
            </a:xfrm>
            <a:custGeom>
              <a:avLst/>
              <a:gdLst/>
              <a:ahLst/>
              <a:rect l="l" t="t" r="r" b="b"/>
              <a:pathLst>
                <a:path w="267" h="255">
                  <a:moveTo>
                    <a:pt x="110" y="46"/>
                  </a:moveTo>
                  <a:lnTo>
                    <a:pt x="136" y="29"/>
                  </a:lnTo>
                  <a:lnTo>
                    <a:pt x="166" y="21"/>
                  </a:lnTo>
                  <a:lnTo>
                    <a:pt x="198" y="15"/>
                  </a:lnTo>
                  <a:lnTo>
                    <a:pt x="232" y="22"/>
                  </a:lnTo>
                  <a:lnTo>
                    <a:pt x="251" y="39"/>
                  </a:lnTo>
                  <a:lnTo>
                    <a:pt x="262" y="61"/>
                  </a:lnTo>
                  <a:lnTo>
                    <a:pt x="266" y="90"/>
                  </a:lnTo>
                  <a:lnTo>
                    <a:pt x="262" y="120"/>
                  </a:lnTo>
                  <a:lnTo>
                    <a:pt x="253" y="150"/>
                  </a:lnTo>
                  <a:lnTo>
                    <a:pt x="235" y="181"/>
                  </a:lnTo>
                  <a:lnTo>
                    <a:pt x="214" y="203"/>
                  </a:lnTo>
                  <a:lnTo>
                    <a:pt x="187" y="224"/>
                  </a:lnTo>
                  <a:lnTo>
                    <a:pt x="157" y="239"/>
                  </a:lnTo>
                  <a:lnTo>
                    <a:pt x="127" y="250"/>
                  </a:lnTo>
                  <a:lnTo>
                    <a:pt x="90" y="254"/>
                  </a:lnTo>
                  <a:lnTo>
                    <a:pt x="65" y="247"/>
                  </a:lnTo>
                  <a:lnTo>
                    <a:pt x="51" y="232"/>
                  </a:lnTo>
                  <a:lnTo>
                    <a:pt x="42" y="209"/>
                  </a:lnTo>
                  <a:lnTo>
                    <a:pt x="37" y="178"/>
                  </a:lnTo>
                  <a:lnTo>
                    <a:pt x="42" y="152"/>
                  </a:lnTo>
                  <a:lnTo>
                    <a:pt x="53" y="120"/>
                  </a:lnTo>
                  <a:lnTo>
                    <a:pt x="65" y="95"/>
                  </a:lnTo>
                  <a:lnTo>
                    <a:pt x="76" y="79"/>
                  </a:lnTo>
                  <a:lnTo>
                    <a:pt x="71" y="64"/>
                  </a:lnTo>
                  <a:lnTo>
                    <a:pt x="44" y="54"/>
                  </a:lnTo>
                  <a:lnTo>
                    <a:pt x="17" y="44"/>
                  </a:lnTo>
                  <a:lnTo>
                    <a:pt x="3" y="33"/>
                  </a:lnTo>
                  <a:lnTo>
                    <a:pt x="0" y="15"/>
                  </a:lnTo>
                  <a:lnTo>
                    <a:pt x="12" y="1"/>
                  </a:lnTo>
                  <a:lnTo>
                    <a:pt x="23" y="0"/>
                  </a:lnTo>
                  <a:lnTo>
                    <a:pt x="35" y="10"/>
                  </a:lnTo>
                  <a:lnTo>
                    <a:pt x="51" y="22"/>
                  </a:lnTo>
                  <a:lnTo>
                    <a:pt x="70" y="31"/>
                  </a:lnTo>
                  <a:lnTo>
                    <a:pt x="92" y="40"/>
                  </a:lnTo>
                  <a:lnTo>
                    <a:pt x="11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269920" y="3378960"/>
              <a:ext cx="382680" cy="589680"/>
            </a:xfrm>
            <a:custGeom>
              <a:avLst/>
              <a:gdLst/>
              <a:ahLst/>
              <a:rect l="l" t="t" r="r" b="b"/>
              <a:pathLst>
                <a:path w="281" h="474">
                  <a:moveTo>
                    <a:pt x="125" y="9"/>
                  </a:moveTo>
                  <a:lnTo>
                    <a:pt x="152" y="0"/>
                  </a:lnTo>
                  <a:lnTo>
                    <a:pt x="186" y="9"/>
                  </a:lnTo>
                  <a:lnTo>
                    <a:pt x="217" y="29"/>
                  </a:lnTo>
                  <a:lnTo>
                    <a:pt x="235" y="55"/>
                  </a:lnTo>
                  <a:lnTo>
                    <a:pt x="254" y="98"/>
                  </a:lnTo>
                  <a:lnTo>
                    <a:pt x="269" y="142"/>
                  </a:lnTo>
                  <a:lnTo>
                    <a:pt x="276" y="192"/>
                  </a:lnTo>
                  <a:lnTo>
                    <a:pt x="280" y="238"/>
                  </a:lnTo>
                  <a:lnTo>
                    <a:pt x="276" y="291"/>
                  </a:lnTo>
                  <a:lnTo>
                    <a:pt x="267" y="330"/>
                  </a:lnTo>
                  <a:lnTo>
                    <a:pt x="256" y="360"/>
                  </a:lnTo>
                  <a:lnTo>
                    <a:pt x="239" y="389"/>
                  </a:lnTo>
                  <a:lnTo>
                    <a:pt x="214" y="419"/>
                  </a:lnTo>
                  <a:lnTo>
                    <a:pt x="184" y="445"/>
                  </a:lnTo>
                  <a:lnTo>
                    <a:pt x="152" y="462"/>
                  </a:lnTo>
                  <a:lnTo>
                    <a:pt x="104" y="473"/>
                  </a:lnTo>
                  <a:lnTo>
                    <a:pt x="63" y="466"/>
                  </a:lnTo>
                  <a:lnTo>
                    <a:pt x="32" y="453"/>
                  </a:lnTo>
                  <a:lnTo>
                    <a:pt x="14" y="427"/>
                  </a:lnTo>
                  <a:lnTo>
                    <a:pt x="3" y="402"/>
                  </a:lnTo>
                  <a:lnTo>
                    <a:pt x="0" y="374"/>
                  </a:lnTo>
                  <a:lnTo>
                    <a:pt x="0" y="339"/>
                  </a:lnTo>
                  <a:lnTo>
                    <a:pt x="10" y="314"/>
                  </a:lnTo>
                  <a:lnTo>
                    <a:pt x="30" y="296"/>
                  </a:lnTo>
                  <a:lnTo>
                    <a:pt x="65" y="282"/>
                  </a:lnTo>
                  <a:lnTo>
                    <a:pt x="93" y="262"/>
                  </a:lnTo>
                  <a:lnTo>
                    <a:pt x="108" y="235"/>
                  </a:lnTo>
                  <a:lnTo>
                    <a:pt x="113" y="209"/>
                  </a:lnTo>
                  <a:lnTo>
                    <a:pt x="113" y="178"/>
                  </a:lnTo>
                  <a:lnTo>
                    <a:pt x="107" y="155"/>
                  </a:lnTo>
                  <a:lnTo>
                    <a:pt x="97" y="126"/>
                  </a:lnTo>
                  <a:lnTo>
                    <a:pt x="86" y="101"/>
                  </a:lnTo>
                  <a:lnTo>
                    <a:pt x="84" y="73"/>
                  </a:lnTo>
                  <a:lnTo>
                    <a:pt x="90" y="47"/>
                  </a:lnTo>
                  <a:lnTo>
                    <a:pt x="99" y="27"/>
                  </a:lnTo>
                  <a:lnTo>
                    <a:pt x="113" y="10"/>
                  </a:lnTo>
                  <a:lnTo>
                    <a:pt x="125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934760" y="3428640"/>
              <a:ext cx="582840" cy="306000"/>
            </a:xfrm>
            <a:custGeom>
              <a:avLst/>
              <a:gdLst/>
              <a:ahLst/>
              <a:rect l="l" t="t" r="r" b="b"/>
              <a:pathLst>
                <a:path w="428" h="246">
                  <a:moveTo>
                    <a:pt x="362" y="57"/>
                  </a:moveTo>
                  <a:lnTo>
                    <a:pt x="371" y="28"/>
                  </a:lnTo>
                  <a:lnTo>
                    <a:pt x="385" y="0"/>
                  </a:lnTo>
                  <a:lnTo>
                    <a:pt x="407" y="3"/>
                  </a:lnTo>
                  <a:lnTo>
                    <a:pt x="423" y="29"/>
                  </a:lnTo>
                  <a:lnTo>
                    <a:pt x="427" y="83"/>
                  </a:lnTo>
                  <a:lnTo>
                    <a:pt x="403" y="119"/>
                  </a:lnTo>
                  <a:lnTo>
                    <a:pt x="359" y="158"/>
                  </a:lnTo>
                  <a:lnTo>
                    <a:pt x="318" y="200"/>
                  </a:lnTo>
                  <a:lnTo>
                    <a:pt x="285" y="234"/>
                  </a:lnTo>
                  <a:lnTo>
                    <a:pt x="258" y="242"/>
                  </a:lnTo>
                  <a:lnTo>
                    <a:pt x="220" y="238"/>
                  </a:lnTo>
                  <a:lnTo>
                    <a:pt x="175" y="207"/>
                  </a:lnTo>
                  <a:lnTo>
                    <a:pt x="122" y="175"/>
                  </a:lnTo>
                  <a:lnTo>
                    <a:pt x="92" y="160"/>
                  </a:lnTo>
                  <a:lnTo>
                    <a:pt x="77" y="167"/>
                  </a:lnTo>
                  <a:lnTo>
                    <a:pt x="68" y="194"/>
                  </a:lnTo>
                  <a:lnTo>
                    <a:pt x="50" y="228"/>
                  </a:lnTo>
                  <a:lnTo>
                    <a:pt x="17" y="245"/>
                  </a:lnTo>
                  <a:lnTo>
                    <a:pt x="8" y="242"/>
                  </a:lnTo>
                  <a:lnTo>
                    <a:pt x="0" y="223"/>
                  </a:lnTo>
                  <a:lnTo>
                    <a:pt x="12" y="206"/>
                  </a:lnTo>
                  <a:lnTo>
                    <a:pt x="8" y="188"/>
                  </a:lnTo>
                  <a:lnTo>
                    <a:pt x="10" y="168"/>
                  </a:lnTo>
                  <a:lnTo>
                    <a:pt x="27" y="160"/>
                  </a:lnTo>
                  <a:lnTo>
                    <a:pt x="51" y="151"/>
                  </a:lnTo>
                  <a:lnTo>
                    <a:pt x="69" y="136"/>
                  </a:lnTo>
                  <a:lnTo>
                    <a:pt x="74" y="119"/>
                  </a:lnTo>
                  <a:lnTo>
                    <a:pt x="65" y="105"/>
                  </a:lnTo>
                  <a:lnTo>
                    <a:pt x="51" y="78"/>
                  </a:lnTo>
                  <a:lnTo>
                    <a:pt x="53" y="58"/>
                  </a:lnTo>
                  <a:lnTo>
                    <a:pt x="71" y="50"/>
                  </a:lnTo>
                  <a:lnTo>
                    <a:pt x="89" y="79"/>
                  </a:lnTo>
                  <a:lnTo>
                    <a:pt x="96" y="117"/>
                  </a:lnTo>
                  <a:lnTo>
                    <a:pt x="110" y="136"/>
                  </a:lnTo>
                  <a:lnTo>
                    <a:pt x="141" y="150"/>
                  </a:lnTo>
                  <a:lnTo>
                    <a:pt x="183" y="165"/>
                  </a:lnTo>
                  <a:lnTo>
                    <a:pt x="220" y="178"/>
                  </a:lnTo>
                  <a:lnTo>
                    <a:pt x="240" y="190"/>
                  </a:lnTo>
                  <a:lnTo>
                    <a:pt x="252" y="196"/>
                  </a:lnTo>
                  <a:lnTo>
                    <a:pt x="284" y="168"/>
                  </a:lnTo>
                  <a:lnTo>
                    <a:pt x="305" y="143"/>
                  </a:lnTo>
                  <a:lnTo>
                    <a:pt x="334" y="107"/>
                  </a:lnTo>
                  <a:lnTo>
                    <a:pt x="350" y="85"/>
                  </a:lnTo>
                  <a:lnTo>
                    <a:pt x="362" y="5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43680" y="3208320"/>
              <a:ext cx="662040" cy="272520"/>
            </a:xfrm>
            <a:custGeom>
              <a:avLst/>
              <a:gdLst/>
              <a:ahLst/>
              <a:rect l="l" t="t" r="r" b="b"/>
              <a:pathLst>
                <a:path w="486" h="219">
                  <a:moveTo>
                    <a:pt x="420" y="121"/>
                  </a:moveTo>
                  <a:lnTo>
                    <a:pt x="465" y="147"/>
                  </a:lnTo>
                  <a:lnTo>
                    <a:pt x="485" y="174"/>
                  </a:lnTo>
                  <a:lnTo>
                    <a:pt x="461" y="211"/>
                  </a:lnTo>
                  <a:lnTo>
                    <a:pt x="410" y="218"/>
                  </a:lnTo>
                  <a:lnTo>
                    <a:pt x="392" y="193"/>
                  </a:lnTo>
                  <a:lnTo>
                    <a:pt x="352" y="157"/>
                  </a:lnTo>
                  <a:lnTo>
                    <a:pt x="321" y="126"/>
                  </a:lnTo>
                  <a:lnTo>
                    <a:pt x="301" y="96"/>
                  </a:lnTo>
                  <a:lnTo>
                    <a:pt x="266" y="72"/>
                  </a:lnTo>
                  <a:lnTo>
                    <a:pt x="227" y="60"/>
                  </a:lnTo>
                  <a:lnTo>
                    <a:pt x="181" y="47"/>
                  </a:lnTo>
                  <a:lnTo>
                    <a:pt x="133" y="27"/>
                  </a:lnTo>
                  <a:lnTo>
                    <a:pt x="107" y="35"/>
                  </a:lnTo>
                  <a:lnTo>
                    <a:pt x="85" y="47"/>
                  </a:lnTo>
                  <a:lnTo>
                    <a:pt x="76" y="64"/>
                  </a:lnTo>
                  <a:lnTo>
                    <a:pt x="73" y="83"/>
                  </a:lnTo>
                  <a:lnTo>
                    <a:pt x="80" y="114"/>
                  </a:lnTo>
                  <a:lnTo>
                    <a:pt x="85" y="133"/>
                  </a:lnTo>
                  <a:lnTo>
                    <a:pt x="74" y="144"/>
                  </a:lnTo>
                  <a:lnTo>
                    <a:pt x="53" y="139"/>
                  </a:lnTo>
                  <a:lnTo>
                    <a:pt x="31" y="118"/>
                  </a:lnTo>
                  <a:lnTo>
                    <a:pt x="23" y="85"/>
                  </a:lnTo>
                  <a:lnTo>
                    <a:pt x="8" y="64"/>
                  </a:lnTo>
                  <a:lnTo>
                    <a:pt x="0" y="45"/>
                  </a:lnTo>
                  <a:lnTo>
                    <a:pt x="8" y="25"/>
                  </a:lnTo>
                  <a:lnTo>
                    <a:pt x="37" y="6"/>
                  </a:lnTo>
                  <a:lnTo>
                    <a:pt x="76" y="0"/>
                  </a:lnTo>
                  <a:lnTo>
                    <a:pt x="127" y="0"/>
                  </a:lnTo>
                  <a:lnTo>
                    <a:pt x="179" y="6"/>
                  </a:lnTo>
                  <a:lnTo>
                    <a:pt x="226" y="21"/>
                  </a:lnTo>
                  <a:lnTo>
                    <a:pt x="278" y="35"/>
                  </a:lnTo>
                  <a:lnTo>
                    <a:pt x="308" y="47"/>
                  </a:lnTo>
                  <a:lnTo>
                    <a:pt x="337" y="64"/>
                  </a:lnTo>
                  <a:lnTo>
                    <a:pt x="382" y="97"/>
                  </a:lnTo>
                  <a:lnTo>
                    <a:pt x="42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810920" y="3865680"/>
              <a:ext cx="663120" cy="563400"/>
            </a:xfrm>
            <a:custGeom>
              <a:avLst/>
              <a:gdLst/>
              <a:ahLst/>
              <a:rect l="l" t="t" r="r" b="b"/>
              <a:pathLst>
                <a:path w="487" h="453">
                  <a:moveTo>
                    <a:pt x="329" y="38"/>
                  </a:moveTo>
                  <a:lnTo>
                    <a:pt x="383" y="16"/>
                  </a:lnTo>
                  <a:lnTo>
                    <a:pt x="429" y="0"/>
                  </a:lnTo>
                  <a:lnTo>
                    <a:pt x="462" y="6"/>
                  </a:lnTo>
                  <a:lnTo>
                    <a:pt x="486" y="34"/>
                  </a:lnTo>
                  <a:lnTo>
                    <a:pt x="484" y="66"/>
                  </a:lnTo>
                  <a:lnTo>
                    <a:pt x="444" y="85"/>
                  </a:lnTo>
                  <a:lnTo>
                    <a:pt x="380" y="105"/>
                  </a:lnTo>
                  <a:lnTo>
                    <a:pt x="331" y="111"/>
                  </a:lnTo>
                  <a:lnTo>
                    <a:pt x="266" y="119"/>
                  </a:lnTo>
                  <a:lnTo>
                    <a:pt x="217" y="124"/>
                  </a:lnTo>
                  <a:lnTo>
                    <a:pt x="203" y="133"/>
                  </a:lnTo>
                  <a:lnTo>
                    <a:pt x="199" y="154"/>
                  </a:lnTo>
                  <a:lnTo>
                    <a:pt x="196" y="189"/>
                  </a:lnTo>
                  <a:lnTo>
                    <a:pt x="205" y="229"/>
                  </a:lnTo>
                  <a:lnTo>
                    <a:pt x="212" y="270"/>
                  </a:lnTo>
                  <a:lnTo>
                    <a:pt x="209" y="324"/>
                  </a:lnTo>
                  <a:lnTo>
                    <a:pt x="200" y="356"/>
                  </a:lnTo>
                  <a:lnTo>
                    <a:pt x="192" y="395"/>
                  </a:lnTo>
                  <a:lnTo>
                    <a:pt x="192" y="426"/>
                  </a:lnTo>
                  <a:lnTo>
                    <a:pt x="185" y="441"/>
                  </a:lnTo>
                  <a:lnTo>
                    <a:pt x="161" y="452"/>
                  </a:lnTo>
                  <a:lnTo>
                    <a:pt x="137" y="443"/>
                  </a:lnTo>
                  <a:lnTo>
                    <a:pt x="112" y="432"/>
                  </a:lnTo>
                  <a:lnTo>
                    <a:pt x="80" y="429"/>
                  </a:lnTo>
                  <a:lnTo>
                    <a:pt x="41" y="432"/>
                  </a:lnTo>
                  <a:lnTo>
                    <a:pt x="21" y="439"/>
                  </a:lnTo>
                  <a:lnTo>
                    <a:pt x="3" y="437"/>
                  </a:lnTo>
                  <a:lnTo>
                    <a:pt x="0" y="419"/>
                  </a:lnTo>
                  <a:lnTo>
                    <a:pt x="3" y="405"/>
                  </a:lnTo>
                  <a:lnTo>
                    <a:pt x="33" y="397"/>
                  </a:lnTo>
                  <a:lnTo>
                    <a:pt x="82" y="395"/>
                  </a:lnTo>
                  <a:lnTo>
                    <a:pt x="118" y="394"/>
                  </a:lnTo>
                  <a:lnTo>
                    <a:pt x="139" y="398"/>
                  </a:lnTo>
                  <a:lnTo>
                    <a:pt x="158" y="391"/>
                  </a:lnTo>
                  <a:lnTo>
                    <a:pt x="170" y="372"/>
                  </a:lnTo>
                  <a:lnTo>
                    <a:pt x="173" y="331"/>
                  </a:lnTo>
                  <a:lnTo>
                    <a:pt x="170" y="274"/>
                  </a:lnTo>
                  <a:lnTo>
                    <a:pt x="164" y="226"/>
                  </a:lnTo>
                  <a:lnTo>
                    <a:pt x="157" y="185"/>
                  </a:lnTo>
                  <a:lnTo>
                    <a:pt x="160" y="133"/>
                  </a:lnTo>
                  <a:lnTo>
                    <a:pt x="173" y="101"/>
                  </a:lnTo>
                  <a:lnTo>
                    <a:pt x="191" y="77"/>
                  </a:lnTo>
                  <a:lnTo>
                    <a:pt x="221" y="66"/>
                  </a:lnTo>
                  <a:lnTo>
                    <a:pt x="269" y="55"/>
                  </a:lnTo>
                  <a:lnTo>
                    <a:pt x="305" y="48"/>
                  </a:lnTo>
                  <a:lnTo>
                    <a:pt x="329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43800" y="3755880"/>
              <a:ext cx="814320" cy="438120"/>
            </a:xfrm>
            <a:custGeom>
              <a:avLst/>
              <a:gdLst/>
              <a:ahLst/>
              <a:rect l="l" t="t" r="r" b="b"/>
              <a:pathLst>
                <a:path w="598" h="352">
                  <a:moveTo>
                    <a:pt x="508" y="14"/>
                  </a:moveTo>
                  <a:lnTo>
                    <a:pt x="556" y="3"/>
                  </a:lnTo>
                  <a:lnTo>
                    <a:pt x="584" y="0"/>
                  </a:lnTo>
                  <a:lnTo>
                    <a:pt x="597" y="29"/>
                  </a:lnTo>
                  <a:lnTo>
                    <a:pt x="591" y="71"/>
                  </a:lnTo>
                  <a:lnTo>
                    <a:pt x="567" y="98"/>
                  </a:lnTo>
                  <a:lnTo>
                    <a:pt x="522" y="98"/>
                  </a:lnTo>
                  <a:lnTo>
                    <a:pt x="428" y="103"/>
                  </a:lnTo>
                  <a:lnTo>
                    <a:pt x="335" y="103"/>
                  </a:lnTo>
                  <a:lnTo>
                    <a:pt x="305" y="109"/>
                  </a:lnTo>
                  <a:lnTo>
                    <a:pt x="278" y="124"/>
                  </a:lnTo>
                  <a:lnTo>
                    <a:pt x="254" y="159"/>
                  </a:lnTo>
                  <a:lnTo>
                    <a:pt x="214" y="205"/>
                  </a:lnTo>
                  <a:lnTo>
                    <a:pt x="183" y="245"/>
                  </a:lnTo>
                  <a:lnTo>
                    <a:pt x="147" y="262"/>
                  </a:lnTo>
                  <a:lnTo>
                    <a:pt x="100" y="301"/>
                  </a:lnTo>
                  <a:lnTo>
                    <a:pt x="73" y="323"/>
                  </a:lnTo>
                  <a:lnTo>
                    <a:pt x="61" y="341"/>
                  </a:lnTo>
                  <a:lnTo>
                    <a:pt x="53" y="351"/>
                  </a:lnTo>
                  <a:lnTo>
                    <a:pt x="40" y="351"/>
                  </a:lnTo>
                  <a:lnTo>
                    <a:pt x="32" y="344"/>
                  </a:lnTo>
                  <a:lnTo>
                    <a:pt x="26" y="319"/>
                  </a:lnTo>
                  <a:lnTo>
                    <a:pt x="27" y="293"/>
                  </a:lnTo>
                  <a:lnTo>
                    <a:pt x="30" y="252"/>
                  </a:lnTo>
                  <a:lnTo>
                    <a:pt x="26" y="221"/>
                  </a:lnTo>
                  <a:lnTo>
                    <a:pt x="14" y="194"/>
                  </a:lnTo>
                  <a:lnTo>
                    <a:pt x="3" y="181"/>
                  </a:lnTo>
                  <a:lnTo>
                    <a:pt x="0" y="169"/>
                  </a:lnTo>
                  <a:lnTo>
                    <a:pt x="5" y="156"/>
                  </a:lnTo>
                  <a:lnTo>
                    <a:pt x="26" y="149"/>
                  </a:lnTo>
                  <a:lnTo>
                    <a:pt x="49" y="162"/>
                  </a:lnTo>
                  <a:lnTo>
                    <a:pt x="64" y="181"/>
                  </a:lnTo>
                  <a:lnTo>
                    <a:pt x="70" y="216"/>
                  </a:lnTo>
                  <a:lnTo>
                    <a:pt x="65" y="252"/>
                  </a:lnTo>
                  <a:lnTo>
                    <a:pt x="65" y="276"/>
                  </a:lnTo>
                  <a:lnTo>
                    <a:pt x="71" y="284"/>
                  </a:lnTo>
                  <a:lnTo>
                    <a:pt x="88" y="265"/>
                  </a:lnTo>
                  <a:lnTo>
                    <a:pt x="129" y="217"/>
                  </a:lnTo>
                  <a:lnTo>
                    <a:pt x="172" y="166"/>
                  </a:lnTo>
                  <a:lnTo>
                    <a:pt x="205" y="134"/>
                  </a:lnTo>
                  <a:lnTo>
                    <a:pt x="246" y="92"/>
                  </a:lnTo>
                  <a:lnTo>
                    <a:pt x="275" y="76"/>
                  </a:lnTo>
                  <a:lnTo>
                    <a:pt x="302" y="57"/>
                  </a:lnTo>
                  <a:lnTo>
                    <a:pt x="355" y="44"/>
                  </a:lnTo>
                  <a:lnTo>
                    <a:pt x="415" y="31"/>
                  </a:lnTo>
                  <a:lnTo>
                    <a:pt x="470" y="22"/>
                  </a:lnTo>
                  <a:lnTo>
                    <a:pt x="508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143000" y="144792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should I form a corporatio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3F5C8-DC61-4A30-BB63-F4B3C7C3AC9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2590560"/>
            <a:ext cx="76964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y forming a corporation, your business becomes a legal person with its own ident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9144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am I protected with a corporatio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941B-544A-4F11-B0AB-C2384D80D96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294920" y="2971800"/>
            <a:ext cx="670572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imited Liability Corporation is simpler and better suited for some busines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60948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s there a difference between Chapter S &amp; Limited Liabili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A6B5-589F-4AD7-BB17-43631AD41B8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30592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federal tax credit for working families, with or without children, who earn less than a certain amount per ye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5335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Earned Income Credit (EIC)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8EFE7-D59D-49CB-BE18-86D6F2EB800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371600" y="2438280"/>
            <a:ext cx="6324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must file the EIC schedule along with your  tax retur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309680" cy="1238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3520" y="129528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can I file for EIC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94E76-B2BB-481F-85C7-5B5F18C8278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590920"/>
            <a:ext cx="8292960" cy="30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come tax brackets are high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ductions are more limit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emptions are worth less  than in earlier year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8380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some reasons for higher tax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8F5F-71AB-4DF0-BEB8-B39F7697BD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361960" y="2971440"/>
            <a:ext cx="47242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r income and family siz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1371600"/>
            <a:ext cx="65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determines my EIC benefi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E72D-062A-449D-AB1C-F2349DE2B9A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3520" y="1752480"/>
            <a:ext cx="822960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a reduction in the amount of income tax you must pay at the end of the ye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a monthly additions to your paychec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an addition to your income tax refund from the IR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48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 receive EIC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4655-E9F9-41E6-8C9E-0E2A6B42E0E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5257800" cy="47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f-em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itary p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1(K)-type contributions by emplo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2362320"/>
            <a:ext cx="4344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ability  benef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feteria-plan contributions by your employ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60948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constitutes income for EIC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B285-1A50-44E7-9A9D-6D351ACBE97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66320" y="259056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ES, if they meet the guidelines outlined abo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295280" y="4800600"/>
          <a:ext cx="19051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800600"/>
                    <a:ext cx="19051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371600" y="91440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 single people qualify for EIC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CA7A1-B36C-43DA-A719-E91359BD686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33520" y="2362320"/>
            <a:ext cx="1663560" cy="1282680"/>
          </a:xfrm>
          <a:custGeom>
            <a:avLst/>
            <a:gdLst>
              <a:gd name="textAreaLeft" fmla="*/ 61560 w 1663560"/>
              <a:gd name="textAreaRight" fmla="*/ 1602000 w 1663560"/>
              <a:gd name="textAreaTop" fmla="*/ 47520 h 1282680"/>
              <a:gd name="textAreaBottom" fmla="*/ 1024560 h 1282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047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2286000"/>
            <a:ext cx="2362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14400" y="3581280"/>
          <a:ext cx="6872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581280"/>
                    <a:ext cx="6872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828800" y="2514600"/>
            <a:ext cx="685800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r other benefits will not affect your eligibility for EIC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76212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 already get benefits do I qualify for EIC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23147-8570-492D-B892-DBE6D8F7EDA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44560" y="2292480"/>
            <a:ext cx="1892160" cy="1282680"/>
          </a:xfrm>
          <a:custGeom>
            <a:avLst/>
            <a:gdLst>
              <a:gd name="textAreaLeft" fmla="*/ 69840 w 1892160"/>
              <a:gd name="textAreaRight" fmla="*/ 1822320 w 1892160"/>
              <a:gd name="textAreaTop" fmla="*/ 47520 h 1282680"/>
              <a:gd name="textAreaBottom" fmla="*/ 1024560 h 1282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882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2362320"/>
            <a:ext cx="1752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293840" y="3429000"/>
          <a:ext cx="6872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3840" y="3429000"/>
                    <a:ext cx="6872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2514600" y="2514600"/>
            <a:ext cx="5334120" cy="30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ut only if you file a 1040 or 1040A return and a Schedule EIC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6094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m I eligible if I do not file a tax retur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2B01-B1B7-49FA-BA7F-A926D039779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61760" y="27432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e the 1040EZ For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743200" y="4572000"/>
          <a:ext cx="9907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572000"/>
                    <a:ext cx="9907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724280" y="3809880"/>
          <a:ext cx="762120" cy="14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809880"/>
                    <a:ext cx="762120" cy="14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6477120" y="3505320"/>
          <a:ext cx="45720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3505320"/>
                    <a:ext cx="457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523880" y="914400"/>
            <a:ext cx="586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f I have no childre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5F664-AA57-4C8B-A8A6-D08C6392B42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142640" y="2666520"/>
            <a:ext cx="70866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can apply for EIC for each or all of the last three years you qualified by filing an amended tax retur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99072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an I still get benefits from past year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A261B-F828-4173-9AE2-1B0E322EAA1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438280" y="2971800"/>
            <a:ext cx="47246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all the I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ublic libra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ost offic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1143000"/>
            <a:ext cx="62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 get a EIC Form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915E-F9A7-4269-857A-A38E917387C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80520" y="2209320"/>
            <a:ext cx="85345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tax audit occurs when the government calls you in to verify your tax retur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971800" y="5105520"/>
          <a:ext cx="152388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5105520"/>
                    <a:ext cx="15238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1066680" y="1143000"/>
            <a:ext cx="678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tax audi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FBFB-4767-408A-B35C-0FAB0C72244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8960" y="2819160"/>
            <a:ext cx="69339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tax that levies a lower tax rate on low income people than on high income peop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06668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progressive income tax system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FE39-CF00-4A1E-A375-C0527C2BD0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990720" y="2590920"/>
            <a:ext cx="76197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IF Score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justment Section of the computer cen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pecial Projects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9144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e 3 methods the IRS selects audit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3518-D305-4E0B-918A-0F4EF12246C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very personal income tax return is given a DIF score when it is processed through the IRS compu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3200" y="133992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DIR metho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75CC-8BD1-49FB-990E-0F9A2BD0E78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752120" y="2743200"/>
            <a:ext cx="63248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higher the score the greater the chance of an audi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43000" y="3657600"/>
          <a:ext cx="83808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657600"/>
                    <a:ext cx="8380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914400" y="11430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does a high DIR score mea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0619-BA60-4E03-A1B8-47EBF3F5DE4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914400" y="251424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you make a mistake in addition or completion of your tax form and auditors can’t figure it out, you may be audite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9144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adjustment section metho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ECF26-70BC-4737-991E-9C54DABBD15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920" y="2742840"/>
            <a:ext cx="8534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the IRS suspects that there is a abuse in a specialized area, all the tax returns in that area will be audit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76212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special projects metho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32E3A-AFB7-4368-9B2D-8EFF566E449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3087720"/>
            <a:ext cx="769608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IRS must tell you why the audit and give specific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2193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I am called in for an audit, will I know wh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A572-4043-49EE-8430-15C6085E0BF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0880" y="19810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onsider the following if you are audite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629400" y="4952880"/>
            <a:ext cx="1143000" cy="129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0926E-A4B2-4FE7-B5C0-66FE9424566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8600" y="762120"/>
            <a:ext cx="86868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n’t offer any information not asked fo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sure you have copies of all paper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ver complain and be polit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auditor has the right to look at your documents only on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6851-8AC4-460C-A34A-0FBBC1B66B5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914400" y="2437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ntact the Problem Resolutions Office of the IRS at (800) 829-104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657600" y="4724280"/>
          <a:ext cx="175248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724280"/>
                    <a:ext cx="17524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457200" y="7621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I have a problem with the IRS, what can I do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16041-E9B1-4CCD-962D-5DD4D3F5C8B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312372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may need the help of a tax lawyer as the process is more complicat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762120"/>
            <a:ext cx="693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happens if the amount in dispute is more than $10,000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E5CFC-7AB1-4752-9942-125E54309D9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1760" y="2055960"/>
            <a:ext cx="8001000" cy="44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ach dollar earned below $6,000 is tax fr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tween $6,001 and $22,000 is taxed at 15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tween $22,001 and $53,000 at 28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5720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Give me an example of a progressive income tax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AA2E-FF48-4216-A819-39968760CB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46320" y="1701720"/>
            <a:ext cx="50292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6600"/>
                </a:solidFill>
                <a:latin typeface="Times New Roman"/>
              </a:rPr>
              <a:t>END</a:t>
            </a:r>
            <a:endParaRPr b="0" lang="en-US" sz="1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A036F-2BB1-41FD-A877-E9F34F8576F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90720" y="25909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re are better ways to automatically sa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257800" y="4952880"/>
            <a:ext cx="2286000" cy="1219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19320" y="990720"/>
            <a:ext cx="701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s a tax return of $1,200 a good thing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7F987-C815-4459-9BA1-462C3C7ECB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837720" y="259056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r bank can take money out of your checking account and put it into your saving accoun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63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can I save automaticall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3216-9621-42BF-B50B-535A85B468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95280" y="3352320"/>
            <a:ext cx="7088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have more control and earn intere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553080" y="2133720"/>
            <a:ext cx="1035000" cy="1523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7621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is automatic saving better than getting a big tax retur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56AB-50B6-49B2-A9AD-0EB1D86E0D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1T19:22:34Z</dcterms:created>
  <dc:creator>NRCC Faculty</dc:creator>
  <dc:description/>
  <dc:language>en-US</dc:language>
  <cp:lastModifiedBy>Ken Long</cp:lastModifiedBy>
  <cp:lastPrinted>1997-10-27T17:23:31Z</cp:lastPrinted>
  <dcterms:modified xsi:type="dcterms:W3CDTF">2000-01-23T12:39:45Z</dcterms:modified>
  <cp:revision>64</cp:revision>
  <dc:subject/>
  <dc:title>No Slide Title</dc:title>
</cp:coreProperties>
</file>