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24220F-F0E8-4065-8EA5-2CB65CD17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2362320"/>
            <a:ext cx="8534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4511880"/>
            <a:ext cx="8534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29D8F9-187A-4CFA-90C3-EF88F19B7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2362320"/>
            <a:ext cx="4164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7840" y="2362320"/>
            <a:ext cx="4164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4511880"/>
            <a:ext cx="4164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7840" y="4511880"/>
            <a:ext cx="4164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CFE4ED-5DB3-4C4D-9127-D256ED1F5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2362320"/>
            <a:ext cx="274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0680" y="2362320"/>
            <a:ext cx="274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080" y="2362320"/>
            <a:ext cx="274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4511880"/>
            <a:ext cx="274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0680" y="4511880"/>
            <a:ext cx="274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080" y="4511880"/>
            <a:ext cx="274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B53A31-2F2B-45EA-8C5A-54D73139A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236232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AC7BA7-32FA-443C-B717-6D897A270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236232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5B2123-AC21-477B-8913-C383093F9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2362320"/>
            <a:ext cx="4164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7840" y="2362320"/>
            <a:ext cx="4164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AB5AF6-A859-49EF-ACE4-CF3621B76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01FD58-58BD-4961-9CFE-7F38DD8A7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4920" y="228240"/>
            <a:ext cx="8534160" cy="953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743849-E4A4-4D5F-89FC-20B099747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2362320"/>
            <a:ext cx="4164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2362320"/>
            <a:ext cx="4164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4511880"/>
            <a:ext cx="4164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76A1A4-5671-4B7B-A471-FC24D25C1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2362320"/>
            <a:ext cx="4164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7840" y="2362320"/>
            <a:ext cx="4164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7840" y="4511880"/>
            <a:ext cx="4164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BA23F7-2A9B-46ED-842F-B2BAD8BD0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2362320"/>
            <a:ext cx="4164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7840" y="2362320"/>
            <a:ext cx="4164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4511880"/>
            <a:ext cx="8534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26AAF7-86AA-41BF-B8E0-58C00F983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20574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Click to edit the title text format</a:t>
            </a:r>
            <a:endParaRPr b="1" lang="en-US" sz="60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236232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1000"/>
          </a:bodyPr>
          <a:p>
            <a:pPr marL="243360" indent="0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lvl="1" marL="243360" indent="-243360">
              <a:lnSpc>
                <a:spcPct val="80000"/>
              </a:lnSpc>
              <a:spcBef>
                <a:spcPts val="13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lvl="2" marL="243360" indent="-243360">
              <a:lnSpc>
                <a:spcPct val="80000"/>
              </a:lnSpc>
              <a:spcBef>
                <a:spcPts val="13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lvl="3" marL="243360" indent="-243360">
              <a:lnSpc>
                <a:spcPct val="80000"/>
              </a:lnSpc>
              <a:spcBef>
                <a:spcPts val="13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lvl="4" marL="243360" indent="-243360">
              <a:lnSpc>
                <a:spcPct val="80000"/>
              </a:lnSpc>
              <a:spcBef>
                <a:spcPts val="13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lvl="5" marL="243360" indent="-243360">
              <a:lnSpc>
                <a:spcPct val="80000"/>
              </a:lnSpc>
              <a:spcBef>
                <a:spcPts val="134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lvl="6" marL="243360" indent="-243360">
              <a:lnSpc>
                <a:spcPct val="80000"/>
              </a:lnSpc>
              <a:spcBef>
                <a:spcPts val="134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CCA5B-5BD0-43AD-9A1F-0858F2BA3404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nr.cc.va/fin107" TargetMode="External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www.nada.com/" TargetMode="External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20840" y="1224000"/>
            <a:ext cx="6399000" cy="3583080"/>
          </a:xfrm>
          <a:prstGeom prst="rect">
            <a:avLst/>
          </a:prstGeom>
          <a:solidFill>
            <a:srgbClr val="ffff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371600" y="1523880"/>
            <a:ext cx="6400800" cy="21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6600"/>
                </a:solidFill>
                <a:latin typeface="Times New Roman"/>
              </a:rPr>
              <a:t>Chapter 6</a:t>
            </a:r>
            <a:br>
              <a:rPr sz="8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uying &amp; Selling a Car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971800" y="5181480"/>
            <a:ext cx="38098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Ken Long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ew River Community College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ublin, VA 24084</a:t>
            </a:r>
            <a:br>
              <a:rPr sz="2000"/>
            </a:br>
            <a:r>
              <a:rPr b="0" lang="en-US" sz="2000" spc="-1" strike="noStrike" u="sng">
                <a:solidFill>
                  <a:srgbClr val="ff0033"/>
                </a:solidFill>
                <a:uFillTx/>
                <a:latin typeface="Times New Roman"/>
                <a:hlinkClick r:id="rId1"/>
              </a:rPr>
              <a:t>http://www.nr.cc.va/fin107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E7F150-170C-40A0-9402-68B76AE57433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2514240" y="3428640"/>
            <a:ext cx="44197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$25,500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2286000" y="3200400"/>
          <a:ext cx="762120" cy="175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3200400"/>
                    <a:ext cx="762120" cy="17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" name=""/>
          <p:cNvSpPr/>
          <p:nvPr/>
        </p:nvSpPr>
        <p:spPr>
          <a:xfrm>
            <a:off x="762120" y="1143000"/>
            <a:ext cx="7619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How much will I pay over 5 years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60D886-0F6B-453E-B290-8A8595E2FE9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609480" y="3504960"/>
            <a:ext cx="7925040" cy="289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Even if you make payments after the car is sold at  auction it will be recorded as a willing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repossessio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80880" y="457200"/>
            <a:ext cx="83059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If I can’t make payments and return my car does this hurt my credit report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5AB448-4DEC-4252-BEA9-27816292105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990360" y="3276720"/>
            <a:ext cx="7467480" cy="213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The market value will be about $10,000, you still owe the bank $3,480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685800" y="4800600"/>
            <a:ext cx="1219320" cy="130968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762120" y="838080"/>
            <a:ext cx="7619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What happens if I have an accident after two years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C6A95E-AF7F-410B-A2E8-62588551FF3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1752480" y="3048120"/>
            <a:ext cx="6400800" cy="24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80000"/>
              </a:lnSpc>
              <a:spcBef>
                <a:spcPts val="1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Insurance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Personal property tax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Sales tax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28600" y="1447920"/>
            <a:ext cx="853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What are other expenses when buying a car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32E806-29D2-467D-AB18-53427EA14DD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676520" y="1676520"/>
            <a:ext cx="5790960" cy="17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6600"/>
                </a:solidFill>
                <a:latin typeface="Times New Roman"/>
              </a:rPr>
              <a:t>How do I buy a new car?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6400800" y="4800600"/>
            <a:ext cx="1295280" cy="1219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D4C7A6-F9E1-488A-9822-BC5C50CF3F9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433440" y="325440"/>
            <a:ext cx="8305920" cy="61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7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e careful about financing and insurance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ook at the doorjam for date of manufacture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urn off the radio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est drive without the salesperson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ait till the end of the month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ffer 4% over dealer's cos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heck out a “no haggle” dealer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899C3E-4A81-477E-8C24-4B3A1E4134E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761760" y="1752480"/>
            <a:ext cx="792468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n assurance by a seller to a buyer that the goods purchased will service the buyer as promised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6553080" y="4038480"/>
            <a:ext cx="1076400" cy="15192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838080" y="762120"/>
            <a:ext cx="7620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What is a warranty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31297D-9671-43E2-B312-6FE372C3162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914400" y="2819520"/>
            <a:ext cx="7238880" cy="16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Offers protection beyond the standard warrant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914400" y="3962520"/>
          <a:ext cx="766800" cy="160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3962520"/>
                    <a:ext cx="76680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" name=""/>
          <p:cNvSpPr/>
          <p:nvPr/>
        </p:nvSpPr>
        <p:spPr>
          <a:xfrm>
            <a:off x="914400" y="1066680"/>
            <a:ext cx="7162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What is an </a:t>
            </a:r>
            <a:br>
              <a:rPr sz="6000"/>
            </a:b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extended warranty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A64E4F-8DA3-4885-BA78-3795503A987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685440" y="2895120"/>
            <a:ext cx="80010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Sometime, especially if you buy it just before the regular warranty expires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04920" y="990720"/>
            <a:ext cx="8458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Are extended warranties a good bargain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E8D621-B412-4DD2-B5E3-6882ECAF1E2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762120" y="28954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Pays for the maintenance not covered by the regular warranty, or kicks in after the warranty expir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62120" y="1219320"/>
            <a:ext cx="7696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What is an</a:t>
            </a:r>
            <a:br>
              <a:rPr sz="6000"/>
            </a:b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auto service contract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F13DF0-94FE-4B19-A6F3-4800EAAF77F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14400" y="1447920"/>
            <a:ext cx="7162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What are the advantages of a new car over a used car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6400800" y="4800600"/>
            <a:ext cx="1295280" cy="1219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0B7FDD-A238-4E11-B324-60B4EC61DDD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066320" y="2742840"/>
            <a:ext cx="75438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Sometimes, make sure you adhere to the strict guidelines in the contrac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6553080" y="4800600"/>
            <a:ext cx="776520" cy="10620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90520" y="1062000"/>
            <a:ext cx="868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Are auto service contracts a good bargain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07E20E-143F-47C7-9268-3DC9A3FBBB3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457200" y="1752480"/>
            <a:ext cx="8153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Why are people buying fewer new cars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6400800" y="4800600"/>
            <a:ext cx="1295280" cy="1219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F935DD-E88C-4D98-9467-B7E6B34530D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16080" y="785880"/>
            <a:ext cx="8381880" cy="494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average price is about $21,000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rs last longer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asing has become more popular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re are more good used car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rs are not the status symbol they used to b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w cars have fallen from 3 to 11 on the average person’s wish lis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949F4-0B3A-46FA-908A-A326C855388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1828800" y="2437920"/>
            <a:ext cx="6019920" cy="3659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1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sk friends, look ..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in the newspaper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long side the road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for auction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143000" y="762120"/>
            <a:ext cx="6781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How do I find a used car to buy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B732F0-A49B-41F8-AC0A-2D06F177B13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990360" y="2742840"/>
            <a:ext cx="75438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NADA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Official Used Car Guid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990720"/>
            <a:ext cx="7010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How do I know the value of a used car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39373F-A987-4DF1-ACDC-E40D06D710D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533520" y="2362320"/>
            <a:ext cx="8076960" cy="312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Most libraries, banks &amp; city hall have monthly issues, also on the Internet at </a:t>
            </a:r>
            <a:r>
              <a:rPr b="0" lang="en-US" sz="5400" spc="-1" strike="noStrike" u="sng">
                <a:solidFill>
                  <a:srgbClr val="ff0033"/>
                </a:solidFill>
                <a:uFillTx/>
                <a:latin typeface="Times New Roman"/>
                <a:hlinkClick r:id="rId1"/>
              </a:rPr>
              <a:t>http://www.nada.com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4038480"/>
            <a:ext cx="1187640" cy="12225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1676520" y="609480"/>
            <a:ext cx="5562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Where do I find a NADA Guide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1C4C62-9714-46E1-8E74-B88920E8B6F3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1904760" y="2742840"/>
            <a:ext cx="6172200" cy="289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1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verage trade-i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verage loa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verage retail pric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7640" y="101772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What three prices are listed in the NADA Guide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27336A-3726-4893-9BA3-07FF875426A3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2895480"/>
            <a:ext cx="784872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Not usually, car dealers use the average retail price which is higher than the average trade-in pric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295280" y="609480"/>
            <a:ext cx="6553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Car dealers sell cars at the NADA price, is this good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6ECC49-4DB6-4886-96B8-B544D884BFE4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219320" y="1828800"/>
            <a:ext cx="6553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How do I use the NADA Guide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6400800" y="4800600"/>
            <a:ext cx="1295280" cy="1219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40B5DB-8992-4180-8731-DB3C06BB703B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457200" y="990720"/>
            <a:ext cx="8381880" cy="50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7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Make adjustments for a car in better or worse than average condition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Use table to adjust price for low or high mileage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Use the trade-in price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ind make and model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ook up the year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3354E1-BC5A-4E35-AEEC-BE454DD6C342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762120" y="533520"/>
            <a:ext cx="8001000" cy="596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Dealer will take trade in on old car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ower monthly payments due to a longer term loan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ank loans are easier to obtain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More protection against unexpected expenses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terest rates are lower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ongevity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B4946A-D44C-4A3C-8D78-B35C0DD6495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304920" y="762120"/>
            <a:ext cx="8534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What are general tips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33520" y="1676520"/>
            <a:ext cx="8381880" cy="464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ffer the average trade-in price after making mileage and repairs adjustments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en in doubt have the car checked out by a mechanic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onsider sales person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Never be in a hurry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B66822-265F-46D5-9C9B-D8FCC18E3DEB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762120" y="2819520"/>
            <a:ext cx="7848360" cy="28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80000"/>
              </a:lnSpc>
              <a:spcBef>
                <a:spcPts val="1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Take advantage of special promotions from a dealer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Take out the loan for the shortest time possible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09480" y="1219320"/>
            <a:ext cx="8077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If I cannot pay cash, how do I finance a car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886999-A6D5-43C1-95E6-50CA91586C28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306360" y="2603520"/>
            <a:ext cx="8686800" cy="28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80000"/>
              </a:lnSpc>
              <a:spcBef>
                <a:spcPts val="1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n auto loan may be less expensive than a personal loan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With a personal loan you get the title instead of a bank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95160" y="1054080"/>
            <a:ext cx="7848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Should I get a personal loan or an auto loan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13DD9B-E715-4F40-99E2-B8FEE2FFC362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49400" y="1930320"/>
            <a:ext cx="883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What are references beside the NADA Guide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400800" y="4800600"/>
            <a:ext cx="1295280" cy="1219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F1A65B-E72D-4E3E-BFD9-C018085652F1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249120" y="604800"/>
            <a:ext cx="8763120" cy="56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80000"/>
              </a:lnSpc>
              <a:spcBef>
                <a:spcPts val="1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ompuserve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&amp;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Delphi Internet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Car Price Network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omplete Guide to Used Cars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onsumer Reports December Buying Guide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onsumer Reports Auto Price Service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Edmunds New Car Prices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7DA110-A14D-4C6F-A8E9-C463C0CB09EC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685800" y="2057400"/>
            <a:ext cx="7696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How do I sell a car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6400800" y="4800600"/>
            <a:ext cx="1295280" cy="1219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7D94AE-70A5-49A5-BF23-53D189094104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457200" y="685800"/>
            <a:ext cx="8305920" cy="553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Never let a stranger take the car for a test drive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tipulate time people can call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dvertise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Determine the market price using the NADA Guide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lean the car inside and ou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Use newspaper to compare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F67A19-2A82-412D-99A9-D75B0C08687F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146240" y="1870200"/>
            <a:ext cx="670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Give me some tips when selling a car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6400800" y="4800600"/>
            <a:ext cx="1295280" cy="1219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83058C-1FC3-4D8F-B9D1-3A09EF782AB9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155520" y="525600"/>
            <a:ext cx="8839080" cy="584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quest a down payment to take the car off the marke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ancel the insurance after any loan is paid off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ign the title &amp; registration &amp; make out a bill of sale, keep a copy for yourself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tact division of motor vehicles to determine transferring of titl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cept only cash, money order or convenience check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You must pay off any lien that a bank has on the car to obtain the titl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C3A556-BE83-4B70-A674-802F2A1310C7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838080" y="2438280"/>
            <a:ext cx="7467840" cy="27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Leasing may offer lower payments, but is not the most cost effective way to finance a car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6095880" y="4648320"/>
            <a:ext cx="800280" cy="12618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533520" y="1447920"/>
            <a:ext cx="8076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Should I lease a car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107067-2DBD-4F70-8A3F-0F5EEF2AA679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523880" y="3352320"/>
            <a:ext cx="59436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bout $21,00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181480" y="4572000"/>
            <a:ext cx="1981440" cy="1181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685800" y="838080"/>
            <a:ext cx="7543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What is the disadvantage of buying a new car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73C745-7B31-4387-AB91-6C06DE9A9AD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838080" y="2971800"/>
            <a:ext cx="7467840" cy="32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You cannot return the car without paying a stiff penalty before the lease contract has expired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85800" y="762120"/>
            <a:ext cx="7620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What is the difference between leasing and renting a car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56B891-9B81-4036-8536-94CE76B25B39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304920" y="2971800"/>
            <a:ext cx="8458200" cy="31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rive 12,000 &amp; 15,000 miles a year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wn their own busines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ve a stable incom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ke to drive a new car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1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ways trade in their old car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295280" y="1905120"/>
            <a:ext cx="426744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People who ...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85800" y="457200"/>
            <a:ext cx="7620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Who are the best people to lease a car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7D615D-9175-4CD7-9BD0-C42E79646585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380880" y="2362320"/>
            <a:ext cx="8382240" cy="368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onsider a balloon payment loan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Reduce the price by giving a down paymen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Know the car’s selling price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914400" y="609480"/>
            <a:ext cx="7086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Give me some tips when leasing a car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07E077-5159-4994-B444-EC974D75FFE1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914040" y="2361960"/>
            <a:ext cx="7924680" cy="289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 lump sum you agree to pay the leasing company for arranging financing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3581280" y="5334120"/>
          <a:ext cx="2133720" cy="68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81280" y="5334120"/>
                    <a:ext cx="213372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2" name=""/>
          <p:cNvSpPr/>
          <p:nvPr/>
        </p:nvSpPr>
        <p:spPr>
          <a:xfrm>
            <a:off x="1523880" y="838080"/>
            <a:ext cx="5943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What is acquisition fee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F5EF5D-DA22-4990-A354-CD270ACD9B39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1218960" y="2362320"/>
            <a:ext cx="7391160" cy="350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The total price of the vehicle you plan to lease, including title, license fees, taxes, insurance, and warrant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685800" y="3733920"/>
          <a:ext cx="743040" cy="175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3733920"/>
                    <a:ext cx="743040" cy="17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6" name=""/>
          <p:cNvSpPr/>
          <p:nvPr/>
        </p:nvSpPr>
        <p:spPr>
          <a:xfrm>
            <a:off x="1371600" y="762120"/>
            <a:ext cx="6172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What is capitalized cost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A364B9-D508-4985-B670-37B4051082B1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1066320" y="2895480"/>
            <a:ext cx="7162920" cy="27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The nonrefundable down payment, sometimes called “cap”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33520" y="1219320"/>
            <a:ext cx="8001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What is the capitalized cost reduction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2B4CE2-D340-4DD3-B411-F9F654A7A39E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1066320" y="2133360"/>
            <a:ext cx="7543800" cy="23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What the leasing company says your car is worth when the lease end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685800" y="3505320"/>
          <a:ext cx="725400" cy="175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3505320"/>
                    <a:ext cx="725400" cy="17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2" name=""/>
          <p:cNvSpPr/>
          <p:nvPr/>
        </p:nvSpPr>
        <p:spPr>
          <a:xfrm>
            <a:off x="457200" y="1066680"/>
            <a:ext cx="8305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What is residual value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4FACA2-93E9-4409-A739-3C8C1E0ED8ED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1600200" y="2438280"/>
            <a:ext cx="6324480" cy="243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ditional insurance above your collision car insuranc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1066680" y="3962520"/>
          <a:ext cx="685800" cy="182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3962520"/>
                    <a:ext cx="68580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6" name=""/>
          <p:cNvSpPr/>
          <p:nvPr/>
        </p:nvSpPr>
        <p:spPr>
          <a:xfrm>
            <a:off x="609480" y="1371600"/>
            <a:ext cx="784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What is gap insurance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5083F3-F2E6-48BC-A987-0CC94D92BB52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685440" y="2819520"/>
            <a:ext cx="7924680" cy="259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What you owe the leasing company if you terminate your lease earl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066680" y="1066680"/>
            <a:ext cx="6858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What is </a:t>
            </a:r>
            <a:br>
              <a:rPr sz="6000"/>
            </a:b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early termination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3CB1AC-404C-4D9F-BBCB-A23A1D12D4A5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533520" y="2895480"/>
            <a:ext cx="80769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The miles you drive the car beyond your free mil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6477120" y="4343400"/>
            <a:ext cx="1199880" cy="152388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1752480" y="1143000"/>
            <a:ext cx="5639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What is </a:t>
            </a:r>
            <a:br>
              <a:rPr sz="6000"/>
            </a:b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excess mileage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47A365-5275-4A5E-A825-A980B1B5BE4A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1295280" y="32004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bout 50% in two year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657600" y="4800600"/>
            <a:ext cx="2743200" cy="8380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066680" y="1371600"/>
            <a:ext cx="7162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How much do new cars depreciate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B3FC0B-E85E-450B-A3C8-2054B3C4D50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762120" y="2437920"/>
            <a:ext cx="815328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Charges applied for damage done that is more than normal, determined by the leasing compan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5867280" y="4724280"/>
          <a:ext cx="838440" cy="12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67280" y="4724280"/>
                    <a:ext cx="838440" cy="12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5" name=""/>
          <p:cNvSpPr/>
          <p:nvPr/>
        </p:nvSpPr>
        <p:spPr>
          <a:xfrm>
            <a:off x="914400" y="609480"/>
            <a:ext cx="7391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What are excess wear &amp; tear charges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761148-4EB9-45CE-9F41-812645D7F877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837720" y="2666880"/>
            <a:ext cx="762012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Cost of preparing your old leased car for sale after you turn it in, final cleaning, shipping etc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371600" y="1066680"/>
            <a:ext cx="6477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What are </a:t>
            </a:r>
            <a:br>
              <a:rPr sz="6000"/>
            </a:b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disposition fees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244777-6E84-4172-9FCD-0A12B44EB6F7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2514600" y="1752480"/>
            <a:ext cx="4343400" cy="20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900" spc="-1" strike="noStrike">
                <a:solidFill>
                  <a:srgbClr val="006600"/>
                </a:solidFill>
                <a:latin typeface="Times New Roman"/>
              </a:rPr>
              <a:t>END</a:t>
            </a:r>
            <a:endParaRPr b="0" lang="en-US" sz="1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C5DA2E-AEE9-42DF-9A25-E849783F2695}" type="slidenum">
              <a:t>52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3124080" y="3962160"/>
            <a:ext cx="27432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$425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2438280" y="3886200"/>
          <a:ext cx="838440" cy="175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3886200"/>
                    <a:ext cx="838440" cy="17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"/>
          <p:cNvSpPr/>
          <p:nvPr/>
        </p:nvSpPr>
        <p:spPr>
          <a:xfrm>
            <a:off x="115920" y="1133640"/>
            <a:ext cx="89154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If I borrow $20,000 at 10% for 5 years, what are my monthly payments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75150B-FEEB-458A-895D-D9709B05B19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2590560" y="3352320"/>
            <a:ext cx="4190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$9,772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2286000" y="3048120"/>
          <a:ext cx="762120" cy="198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3048120"/>
                    <a:ext cx="762120" cy="19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"/>
          <p:cNvSpPr/>
          <p:nvPr/>
        </p:nvSpPr>
        <p:spPr>
          <a:xfrm>
            <a:off x="990720" y="1143000"/>
            <a:ext cx="7315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How much will I have paid after two years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C4F1C4-8B58-4306-98C8-AD597B09122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2437920" y="3504960"/>
            <a:ext cx="487692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$3,252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2743200" y="3200400"/>
          <a:ext cx="779400" cy="182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3200400"/>
                    <a:ext cx="77940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"/>
          <p:cNvSpPr/>
          <p:nvPr/>
        </p:nvSpPr>
        <p:spPr>
          <a:xfrm>
            <a:off x="0" y="121932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How much interest will I have paid after two years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E74D44-E0FF-447D-9FE9-855892A301E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2438280" y="3276360"/>
            <a:ext cx="45720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$13,480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133720" y="3352680"/>
          <a:ext cx="779400" cy="190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3352680"/>
                    <a:ext cx="779400" cy="190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" name=""/>
          <p:cNvSpPr/>
          <p:nvPr/>
        </p:nvSpPr>
        <p:spPr>
          <a:xfrm>
            <a:off x="990720" y="1295280"/>
            <a:ext cx="7315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How much will I still owe after two years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D7F56E-9AFB-4779-BBEB-F3255D70A7B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11T19:22:34Z</dcterms:created>
  <dc:creator>NRCC Faculty</dc:creator>
  <dc:description/>
  <dc:language>en-US</dc:language>
  <cp:lastModifiedBy>Ken Long</cp:lastModifiedBy>
  <cp:lastPrinted>1997-07-26T17:19:10Z</cp:lastPrinted>
  <dcterms:modified xsi:type="dcterms:W3CDTF">2000-01-21T13:47:45Z</dcterms:modified>
  <cp:revision>66</cp:revision>
  <dc:subject/>
  <dc:title>No Slide Title</dc:title>
</cp:coreProperties>
</file>