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8449-A338-44B8-8CC9-E74AC8C4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6936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D50B-7499-4EFF-A7B8-1802EE8B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6936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46936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7EF6-A5F7-4344-85A2-494016AB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4240" y="27432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0760" y="27432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6936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4240" y="46936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0760" y="46936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F6C3-A63F-4251-9DCC-9D442B8C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27432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225E-17DD-49AC-ABDD-C84DB079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5F51-AED4-4EDE-BA13-207F3345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C354-28C3-4586-9F70-96B5015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68F1-0C83-4D40-BD9A-49062F33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80010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09E1-92A0-4D86-9A10-FCAC5CAC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6936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F1F4-136A-4C67-B9CE-BD72D2EF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46936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656E-C4AC-4A48-80F3-2416F59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6936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907F-65B2-41B7-B81B-63E88FB8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27432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720" indent="-198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8720" indent="-198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720" indent="-198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720" indent="-198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720" indent="-19872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720" indent="-19872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9C6F-D5AF-409D-8E12-7953DC36A54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ncrb.com/ncrb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arp.or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pry.org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sa.gov/SSA_Home.html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sa.gov/OACT/ANYPIA/anypia.html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aarp.org/money/reverse_mortgage_fact_sheet.html" TargetMode="External"/><Relationship Id="rId2" Type="http://schemas.openxmlformats.org/officeDocument/2006/relationships/hyperlink" Target="http://www.fanniemae.com/" TargetMode="Externa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www.napfa.org/" TargetMode="External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http://www.neam.com/education.htm" TargetMode="External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680" y="912960"/>
            <a:ext cx="8537400" cy="418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6600" y="1571760"/>
            <a:ext cx="84582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11</a:t>
            </a:r>
            <a:br>
              <a:rPr sz="88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uilding a Secure Retire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1814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458E-05FC-42EB-96F7-57A9882398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ational Center for Retirement Benef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800) 666-1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2.ncrb.com/ncr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33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y retirement benefits are less than I expected, what can I do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273C-C185-4A7B-91E6-C97389CF65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371600" y="259056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0% of any additional benefits they can win for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1204920" cy="127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990720"/>
            <a:ext cx="60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ll the NCRB cost me mone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40B6-57BA-480A-93EC-65591BAB6B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2666520"/>
            <a:ext cx="67816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merican Association of Retired Pers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800) 424-34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aarp.or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8380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else can I receive help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CFCF-CA09-4AC3-BBD6-D995174F2A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7920" y="25905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nsion Rights Cen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202) 296-377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spry.or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7621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else can I get help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3DC0-4428-443C-ADFF-10200D63BC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447560" y="236232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ypically you will be charged expenses and 1/3 of the money they secure for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0720" y="3962520"/>
          <a:ext cx="83808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962520"/>
                    <a:ext cx="8380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600200" y="83808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ll the PRC cost me mone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7E7A-FD7F-4B74-9BF9-C12D035B26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pends on your indebtedness, health, property taxes, mortgage or rent, cost of living, and inf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8380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money will I need to retir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9A28-05E7-4D4E-B830-0F0BA02321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18960" y="23619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t the turn of the century there are only 3 payers per reti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43200" y="5029200"/>
          <a:ext cx="22096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029200"/>
                    <a:ext cx="22096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447920" y="76212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sound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ocial secur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B47F-0A49-4728-99D5-768959191E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47560" y="251424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 your W-2 look for FICA which stands for Federal Insurance Contribution 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83808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do I pay in SS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37B6-3233-4F00-A4D9-8E5C0CA997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259056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.65%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or wage earners and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.3%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or the self employ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3886200"/>
          <a:ext cx="61416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886200"/>
                    <a:ext cx="61416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523880" y="9144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percent do I pay into S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D11C-3D78-4BAC-A0C1-F11ED664DA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2514600"/>
            <a:ext cx="1739880" cy="1206360"/>
          </a:xfrm>
          <a:custGeom>
            <a:avLst/>
            <a:gdLst>
              <a:gd name="textAreaLeft" fmla="*/ 64440 w 1739880"/>
              <a:gd name="textAreaRight" fmla="*/ 1675440 w 17398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96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14600"/>
            <a:ext cx="167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3581280"/>
          <a:ext cx="78264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81280"/>
                    <a:ext cx="78264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447920" y="2743200"/>
            <a:ext cx="731520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must earn a minimum of 40 credits to qualify for SS benefi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91440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es everyone benefit from S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011B-2D53-4B4E-89DD-87E97BB979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25560" y="2680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be vested means you have worked long enough at a job to qualify for pension benef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3600" y="111456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oes it mean to be vest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FDF3-CDE9-4E22-B62A-ECFEE7FD0F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 every $570 earned you will receive one credit with a maximum of 4 credits per y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receive credi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776D-4CB9-4672-A98F-7B6EFB0724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327636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arger of your benefits or your spo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8380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s a retired person my spouse died, how much SS do I receiv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B83A-DFD5-48C1-A38F-855ABF382C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76520" y="25909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viding the first marriage lasted at least 10 years, the same rule appl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238880" y="4267080"/>
          <a:ext cx="55728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4267080"/>
                    <a:ext cx="5572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10666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I divorce and remarr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E43F-8D68-4DDB-932A-897CB250D0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828440" y="2819520"/>
            <a:ext cx="62485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benefits can start at the age of 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3657600"/>
          <a:ext cx="137808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57600"/>
                    <a:ext cx="13780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447920" y="609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am disabled, when do I qualify for benefi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487A-BFAC-4C81-863A-018B709188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29000" y="304776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9880" y="4495680"/>
            <a:ext cx="2671920" cy="129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11430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t what age can I start receiving benefi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39B7-1B41-4292-9F54-90CA120D54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benefits are reduced five-ninths of one percent for each month you are retired before age 65, up to a maximum of 20 perc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094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I retire before age 65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2885-D9F5-4A76-85CC-039EE0101B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800) 772-12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ssa.gov/SSA_Home.htm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53352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do I get information about my SS benefi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77D4-7465-475E-A776-BFE4F682A2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29714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ssa.gov/OACT/ANYPIA/anypia.htm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193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compute my own SS benefi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D425-F386-4313-A53B-2DD5198976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342900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ypical formu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rs x ave. salary x % = benef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8380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do I receive with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efined benefit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1BC1-4FBC-4567-9971-A056FDA47F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447920" y="259092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mployer makes annual payments to a trustee and the trustee invests the fu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63520" y="3348000"/>
          <a:ext cx="54936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3348000"/>
                    <a:ext cx="5493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066680" y="990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funded pens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3900-111B-4674-9EAC-B58C0E9162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66680" y="2590560"/>
            <a:ext cx="746784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me plans require three years of service before full vesting takes pl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2560" y="3352680"/>
          <a:ext cx="7653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352680"/>
                    <a:ext cx="7653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219320" y="91440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long does it take to be vest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4D1B-7E0B-4ACB-A42E-3EB2BAA91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52480" y="251424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tirement expenses are taken from current earnin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73240" y="3422520"/>
          <a:ext cx="73188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3422520"/>
                    <a:ext cx="7318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066680" y="91440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unfunded pens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C5B8-5D5E-4209-A706-7697CC5A56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057040" y="320040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cial Secur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11360" y="4343400"/>
            <a:ext cx="2455920" cy="78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43000" y="6858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example of an unfunded pens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C939-3349-42FB-AC81-46692B1029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23880" y="259092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are required to contribute a certain percentage of your pay into 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9907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efined contribut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A1FD-0E72-4ABF-9D2D-513DA2DB1C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26665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are allowed to make supplemental contribu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29200" y="44956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10666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contributory pens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90FC-C385-441F-86E9-961533B58D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43000" y="281916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employer makes all of the contribu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695600" cy="952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6094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non-contributory pens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1A54-BC66-498A-8F35-F8D4B2B301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32767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01(k) and 403(b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1376280" cy="1114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99072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most popular forms of defined contribution pla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0CD7-FEBC-45C4-B5A7-F76688F050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19320" y="2895480"/>
            <a:ext cx="670536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01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is for the private sector and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0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b) is for the public se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193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fference between the two pla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8471-09D7-443C-96F4-933AA79A4F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lan that allows you to take your vested pension accounts with you whenever you change jo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0666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portable pens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AD1C-C88C-410E-B070-27B6E1FA47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304776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previous employer is required to take 20% out and pay it to the  federal govern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858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take control of the money when I change job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F3A9-9F15-4304-82A3-2E8BCFB776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1911240"/>
            <a:ext cx="1587600" cy="1130400"/>
          </a:xfrm>
          <a:custGeom>
            <a:avLst/>
            <a:gdLst>
              <a:gd name="textAreaLeft" fmla="*/ 58680 w 1587600"/>
              <a:gd name="textAreaRight" fmla="*/ 1528920 w 158760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76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752480"/>
            <a:ext cx="1828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0320" y="2989440"/>
          <a:ext cx="839880" cy="25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989440"/>
                    <a:ext cx="83988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676520" y="2590920"/>
            <a:ext cx="723888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are under the age of 59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9144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ll I have to pay the 10% penal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6621-B7F4-4255-91F1-27CD3C2D19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2139840"/>
            <a:ext cx="1511280" cy="128268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7520 h 1282680"/>
              <a:gd name="textAreaBottom" fmla="*/ 1024560 h 1282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16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133720"/>
            <a:ext cx="17528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0320" y="3438360"/>
          <a:ext cx="763560" cy="23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3438360"/>
                    <a:ext cx="763560" cy="23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600200" y="2514600"/>
            <a:ext cx="716292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 example, you can become 20% vested after one year and every year after until fully vest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7621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vesting take place in stag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94B6-9F60-495A-8BE2-FD05292451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5960" y="2139840"/>
            <a:ext cx="1816200" cy="1130400"/>
          </a:xfrm>
          <a:custGeom>
            <a:avLst/>
            <a:gdLst>
              <a:gd name="textAreaLeft" fmla="*/ 66960 w 1816200"/>
              <a:gd name="textAreaRight" fmla="*/ 1749240 w 181620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69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057400"/>
            <a:ext cx="17528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88920" y="3352680"/>
          <a:ext cx="76356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3352680"/>
                    <a:ext cx="76356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981080" y="2514600"/>
            <a:ext cx="64771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deposit the full amount in another plan within 6 month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990720"/>
            <a:ext cx="563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I get my money back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6E36-3D60-4DAA-9BF5-80C6A2C902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720" y="266652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you leave a job rollover the money into another plan without taking possession of 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9907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avoid paying taxes and penalti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69B0-2039-4F35-BF73-20DDBB8E29D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90360" y="28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corporation invests retirement funds into the stock of the compa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2193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stock ownership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CD68-9113-48B5-A7DA-3DCB53249A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295280" y="29714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asis the level of contributions on the profits of the compa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315200" y="3657600"/>
          <a:ext cx="85716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657600"/>
                    <a:ext cx="85716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4120" y="12682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profit sharing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E789-CED0-45C0-A9FE-FE4F32AD50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8240" y="2216160"/>
            <a:ext cx="1587600" cy="1282680"/>
          </a:xfrm>
          <a:custGeom>
            <a:avLst/>
            <a:gdLst>
              <a:gd name="textAreaLeft" fmla="*/ 58680 w 1587600"/>
              <a:gd name="textAreaRight" fmla="*/ 1528920 w 1587600"/>
              <a:gd name="textAreaTop" fmla="*/ 47520 h 1282680"/>
              <a:gd name="textAreaBottom" fmla="*/ 1024560 h 1282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70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209680"/>
            <a:ext cx="1752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3505320"/>
          <a:ext cx="7635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763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828800" y="2971800"/>
            <a:ext cx="60958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dividual Retirement Accounts (IRAs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7621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there tax deferred plans for individual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4A93-1CA6-4856-ACC8-3B55B722139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12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long-term investment account you establish with a  financial institution that permits tax-free accumulation of its 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10666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IR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454F-B6B1-4BD2-B731-314E8EAED13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2286000"/>
            <a:ext cx="769608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if your income is more than a certain amount and you are covered by an employer pension plan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76212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anyone contribute to an IR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878C-062E-4E66-BC01-087FC6AD7D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44560" y="2368440"/>
            <a:ext cx="1739880" cy="1054080"/>
          </a:xfrm>
          <a:custGeom>
            <a:avLst/>
            <a:gdLst>
              <a:gd name="textAreaLeft" fmla="*/ 64440 w 1739880"/>
              <a:gd name="textAreaRight" fmla="*/ 1675440 w 1739880"/>
              <a:gd name="textAreaTop" fmla="*/ 38880 h 1054080"/>
              <a:gd name="textAreaBottom" fmla="*/ 842040 h 1054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11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0"/>
            <a:ext cx="167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3352680"/>
          <a:ext cx="7635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7635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057400" y="2514600"/>
            <a:ext cx="66294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money can still compound tax fre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0600" y="85896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do not qualify, should I still join an IR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2DD8-A702-43BA-9EB9-B6B2A1DFAE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19320" y="2895480"/>
            <a:ext cx="670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if you pay taxes on the money before you put it into an I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2193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there a limit to my contribu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69D0-951D-4F4E-8E5E-EDCF13D9BEA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2666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if you pay taxes on the money before you jo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81480" y="4495680"/>
            <a:ext cx="1995480" cy="943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95280" y="9907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there income limitatio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E5A8-1CDF-4B7F-865C-196698A432F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 example, if you are 40% vested, you will receive 40% of the benef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537240" y="4000680"/>
          <a:ext cx="1387440" cy="14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4000680"/>
                    <a:ext cx="1387440" cy="14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43000" y="9144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oes it mean to be partially vest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5715-5C00-46B9-92A7-65F621FCB8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676520" y="2438280"/>
            <a:ext cx="62481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redit Un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surance compa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rokerage 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utual f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68580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can act as a trustee for an IR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9B5E-A1C3-473D-A6F1-A7C977438F6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523520" y="2971800"/>
            <a:ext cx="67057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t 70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begin withdrawing a specified minimum amount each y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9000" y="7412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there an age when I have to start withdrawing my IRA mone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3197-B74A-4855-B44B-865D0FB7359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66680" y="29714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lmost anything except art, antiques, stamps and other collectibl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7621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there more than money that can go into an IR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5540-AE7D-4E66-900A-2FE5036D308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14400" y="2819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 lose all of your money with a phony I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666880" y="4572000"/>
            <a:ext cx="1938600" cy="1057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447920" y="91440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all advertised IRAs legitima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3A2E-D7E7-425E-8EA2-8B65AA7C037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6840" y="2063880"/>
            <a:ext cx="1739880" cy="1206360"/>
          </a:xfrm>
          <a:custGeom>
            <a:avLst/>
            <a:gdLst>
              <a:gd name="textAreaLeft" fmla="*/ 64440 w 1739880"/>
              <a:gd name="textAreaRight" fmla="*/ 1675440 w 17398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5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057400"/>
            <a:ext cx="1752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65280" y="3517920"/>
          <a:ext cx="78264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3517920"/>
                    <a:ext cx="78264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600200" y="2743200"/>
            <a:ext cx="7010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ut he/she can contribute to a SEP/IRA or a Keogh Plan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4572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a self employed person contribute to an IR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EAF6-606A-4EAA-A641-5835AADAB86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505320" y="320040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00800" y="4114800"/>
            <a:ext cx="872280" cy="1318680"/>
            <a:chOff x="6400800" y="4114800"/>
            <a:chExt cx="872280" cy="1318680"/>
          </a:xfrm>
        </p:grpSpPr>
        <p:sp>
          <p:nvSpPr>
            <p:cNvPr id="213" name=""/>
            <p:cNvSpPr/>
            <p:nvPr/>
          </p:nvSpPr>
          <p:spPr>
            <a:xfrm>
              <a:off x="6400800" y="4114800"/>
              <a:ext cx="292680" cy="286920"/>
            </a:xfrm>
            <a:custGeom>
              <a:avLst/>
              <a:gdLst/>
              <a:ahLst/>
              <a:rect l="l" t="t" r="r" b="b"/>
              <a:pathLst>
                <a:path w="271" h="270">
                  <a:moveTo>
                    <a:pt x="89" y="120"/>
                  </a:moveTo>
                  <a:lnTo>
                    <a:pt x="89" y="69"/>
                  </a:lnTo>
                  <a:lnTo>
                    <a:pt x="98" y="31"/>
                  </a:lnTo>
                  <a:lnTo>
                    <a:pt x="115" y="14"/>
                  </a:lnTo>
                  <a:lnTo>
                    <a:pt x="135" y="3"/>
                  </a:lnTo>
                  <a:lnTo>
                    <a:pt x="171" y="0"/>
                  </a:lnTo>
                  <a:lnTo>
                    <a:pt x="199" y="9"/>
                  </a:lnTo>
                  <a:lnTo>
                    <a:pt x="227" y="28"/>
                  </a:lnTo>
                  <a:lnTo>
                    <a:pt x="247" y="55"/>
                  </a:lnTo>
                  <a:lnTo>
                    <a:pt x="261" y="96"/>
                  </a:lnTo>
                  <a:lnTo>
                    <a:pt x="265" y="128"/>
                  </a:lnTo>
                  <a:lnTo>
                    <a:pt x="270" y="167"/>
                  </a:lnTo>
                  <a:lnTo>
                    <a:pt x="265" y="203"/>
                  </a:lnTo>
                  <a:lnTo>
                    <a:pt x="255" y="236"/>
                  </a:lnTo>
                  <a:lnTo>
                    <a:pt x="237" y="259"/>
                  </a:lnTo>
                  <a:lnTo>
                    <a:pt x="217" y="268"/>
                  </a:lnTo>
                  <a:lnTo>
                    <a:pt x="194" y="269"/>
                  </a:lnTo>
                  <a:lnTo>
                    <a:pt x="172" y="268"/>
                  </a:lnTo>
                  <a:lnTo>
                    <a:pt x="148" y="259"/>
                  </a:lnTo>
                  <a:lnTo>
                    <a:pt x="129" y="240"/>
                  </a:lnTo>
                  <a:lnTo>
                    <a:pt x="115" y="219"/>
                  </a:lnTo>
                  <a:lnTo>
                    <a:pt x="103" y="195"/>
                  </a:lnTo>
                  <a:lnTo>
                    <a:pt x="92" y="170"/>
                  </a:lnTo>
                  <a:lnTo>
                    <a:pt x="78" y="167"/>
                  </a:lnTo>
                  <a:lnTo>
                    <a:pt x="56" y="184"/>
                  </a:lnTo>
                  <a:lnTo>
                    <a:pt x="29" y="200"/>
                  </a:lnTo>
                  <a:lnTo>
                    <a:pt x="11" y="208"/>
                  </a:lnTo>
                  <a:lnTo>
                    <a:pt x="2" y="203"/>
                  </a:lnTo>
                  <a:lnTo>
                    <a:pt x="0" y="186"/>
                  </a:lnTo>
                  <a:lnTo>
                    <a:pt x="0" y="167"/>
                  </a:lnTo>
                  <a:lnTo>
                    <a:pt x="20" y="158"/>
                  </a:lnTo>
                  <a:lnTo>
                    <a:pt x="53" y="147"/>
                  </a:lnTo>
                  <a:lnTo>
                    <a:pt x="89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46400" y="4830120"/>
              <a:ext cx="262440" cy="564480"/>
            </a:xfrm>
            <a:custGeom>
              <a:avLst/>
              <a:gdLst/>
              <a:ahLst/>
              <a:rect l="l" t="t" r="r" b="b"/>
              <a:pathLst>
                <a:path w="243" h="531">
                  <a:moveTo>
                    <a:pt x="42" y="8"/>
                  </a:moveTo>
                  <a:lnTo>
                    <a:pt x="71" y="35"/>
                  </a:lnTo>
                  <a:lnTo>
                    <a:pt x="97" y="85"/>
                  </a:lnTo>
                  <a:lnTo>
                    <a:pt x="121" y="158"/>
                  </a:lnTo>
                  <a:lnTo>
                    <a:pt x="130" y="227"/>
                  </a:lnTo>
                  <a:lnTo>
                    <a:pt x="125" y="260"/>
                  </a:lnTo>
                  <a:lnTo>
                    <a:pt x="113" y="309"/>
                  </a:lnTo>
                  <a:lnTo>
                    <a:pt x="102" y="359"/>
                  </a:lnTo>
                  <a:lnTo>
                    <a:pt x="94" y="398"/>
                  </a:lnTo>
                  <a:lnTo>
                    <a:pt x="103" y="435"/>
                  </a:lnTo>
                  <a:lnTo>
                    <a:pt x="117" y="447"/>
                  </a:lnTo>
                  <a:lnTo>
                    <a:pt x="150" y="453"/>
                  </a:lnTo>
                  <a:lnTo>
                    <a:pt x="214" y="470"/>
                  </a:lnTo>
                  <a:lnTo>
                    <a:pt x="237" y="487"/>
                  </a:lnTo>
                  <a:lnTo>
                    <a:pt x="242" y="505"/>
                  </a:lnTo>
                  <a:lnTo>
                    <a:pt x="230" y="519"/>
                  </a:lnTo>
                  <a:lnTo>
                    <a:pt x="192" y="530"/>
                  </a:lnTo>
                  <a:lnTo>
                    <a:pt x="172" y="525"/>
                  </a:lnTo>
                  <a:lnTo>
                    <a:pt x="164" y="515"/>
                  </a:lnTo>
                  <a:lnTo>
                    <a:pt x="155" y="498"/>
                  </a:lnTo>
                  <a:lnTo>
                    <a:pt x="130" y="487"/>
                  </a:lnTo>
                  <a:lnTo>
                    <a:pt x="89" y="483"/>
                  </a:lnTo>
                  <a:lnTo>
                    <a:pt x="66" y="479"/>
                  </a:lnTo>
                  <a:lnTo>
                    <a:pt x="50" y="474"/>
                  </a:lnTo>
                  <a:lnTo>
                    <a:pt x="46" y="451"/>
                  </a:lnTo>
                  <a:lnTo>
                    <a:pt x="52" y="424"/>
                  </a:lnTo>
                  <a:lnTo>
                    <a:pt x="69" y="392"/>
                  </a:lnTo>
                  <a:lnTo>
                    <a:pt x="74" y="361"/>
                  </a:lnTo>
                  <a:lnTo>
                    <a:pt x="80" y="315"/>
                  </a:lnTo>
                  <a:lnTo>
                    <a:pt x="74" y="268"/>
                  </a:lnTo>
                  <a:lnTo>
                    <a:pt x="75" y="224"/>
                  </a:lnTo>
                  <a:lnTo>
                    <a:pt x="66" y="186"/>
                  </a:lnTo>
                  <a:lnTo>
                    <a:pt x="44" y="140"/>
                  </a:lnTo>
                  <a:lnTo>
                    <a:pt x="19" y="100"/>
                  </a:lnTo>
                  <a:lnTo>
                    <a:pt x="6" y="53"/>
                  </a:lnTo>
                  <a:lnTo>
                    <a:pt x="0" y="21"/>
                  </a:lnTo>
                  <a:lnTo>
                    <a:pt x="19" y="0"/>
                  </a:lnTo>
                  <a:lnTo>
                    <a:pt x="4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4842720"/>
              <a:ext cx="217080" cy="590760"/>
            </a:xfrm>
            <a:custGeom>
              <a:avLst/>
              <a:gdLst/>
              <a:ahLst/>
              <a:rect l="l" t="t" r="r" b="b"/>
              <a:pathLst>
                <a:path w="201" h="556">
                  <a:moveTo>
                    <a:pt x="90" y="95"/>
                  </a:moveTo>
                  <a:lnTo>
                    <a:pt x="109" y="30"/>
                  </a:lnTo>
                  <a:lnTo>
                    <a:pt x="132" y="0"/>
                  </a:lnTo>
                  <a:lnTo>
                    <a:pt x="161" y="3"/>
                  </a:lnTo>
                  <a:lnTo>
                    <a:pt x="200" y="30"/>
                  </a:lnTo>
                  <a:lnTo>
                    <a:pt x="184" y="63"/>
                  </a:lnTo>
                  <a:lnTo>
                    <a:pt x="151" y="112"/>
                  </a:lnTo>
                  <a:lnTo>
                    <a:pt x="129" y="172"/>
                  </a:lnTo>
                  <a:lnTo>
                    <a:pt x="123" y="219"/>
                  </a:lnTo>
                  <a:lnTo>
                    <a:pt x="120" y="273"/>
                  </a:lnTo>
                  <a:lnTo>
                    <a:pt x="123" y="319"/>
                  </a:lnTo>
                  <a:lnTo>
                    <a:pt x="128" y="377"/>
                  </a:lnTo>
                  <a:lnTo>
                    <a:pt x="124" y="415"/>
                  </a:lnTo>
                  <a:lnTo>
                    <a:pt x="137" y="455"/>
                  </a:lnTo>
                  <a:lnTo>
                    <a:pt x="134" y="474"/>
                  </a:lnTo>
                  <a:lnTo>
                    <a:pt x="118" y="483"/>
                  </a:lnTo>
                  <a:lnTo>
                    <a:pt x="91" y="500"/>
                  </a:lnTo>
                  <a:lnTo>
                    <a:pt x="58" y="534"/>
                  </a:lnTo>
                  <a:lnTo>
                    <a:pt x="54" y="555"/>
                  </a:lnTo>
                  <a:lnTo>
                    <a:pt x="38" y="552"/>
                  </a:lnTo>
                  <a:lnTo>
                    <a:pt x="2" y="524"/>
                  </a:lnTo>
                  <a:lnTo>
                    <a:pt x="0" y="509"/>
                  </a:lnTo>
                  <a:lnTo>
                    <a:pt x="5" y="500"/>
                  </a:lnTo>
                  <a:lnTo>
                    <a:pt x="44" y="468"/>
                  </a:lnTo>
                  <a:lnTo>
                    <a:pt x="91" y="447"/>
                  </a:lnTo>
                  <a:lnTo>
                    <a:pt x="101" y="418"/>
                  </a:lnTo>
                  <a:lnTo>
                    <a:pt x="94" y="359"/>
                  </a:lnTo>
                  <a:lnTo>
                    <a:pt x="77" y="310"/>
                  </a:lnTo>
                  <a:lnTo>
                    <a:pt x="76" y="276"/>
                  </a:lnTo>
                  <a:lnTo>
                    <a:pt x="77" y="233"/>
                  </a:lnTo>
                  <a:lnTo>
                    <a:pt x="72" y="190"/>
                  </a:lnTo>
                  <a:lnTo>
                    <a:pt x="72" y="155"/>
                  </a:lnTo>
                  <a:lnTo>
                    <a:pt x="80" y="112"/>
                  </a:lnTo>
                  <a:lnTo>
                    <a:pt x="90" y="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551640" y="4186080"/>
              <a:ext cx="721440" cy="781560"/>
              <a:chOff x="6551640" y="4186080"/>
              <a:chExt cx="721440" cy="781560"/>
            </a:xfrm>
          </p:grpSpPr>
          <p:sp>
            <p:nvSpPr>
              <p:cNvPr id="217" name=""/>
              <p:cNvSpPr/>
              <p:nvPr/>
            </p:nvSpPr>
            <p:spPr>
              <a:xfrm>
                <a:off x="6656400" y="4430160"/>
                <a:ext cx="560880" cy="317520"/>
              </a:xfrm>
              <a:custGeom>
                <a:avLst/>
                <a:gdLst/>
                <a:ahLst/>
                <a:rect l="l" t="t" r="r" b="b"/>
                <a:pathLst>
                  <a:path w="519" h="299">
                    <a:moveTo>
                      <a:pt x="72" y="29"/>
                    </a:moveTo>
                    <a:lnTo>
                      <a:pt x="40" y="9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40"/>
                    </a:lnTo>
                    <a:lnTo>
                      <a:pt x="24" y="81"/>
                    </a:lnTo>
                    <a:lnTo>
                      <a:pt x="69" y="106"/>
                    </a:lnTo>
                    <a:lnTo>
                      <a:pt x="104" y="121"/>
                    </a:lnTo>
                    <a:lnTo>
                      <a:pt x="173" y="126"/>
                    </a:lnTo>
                    <a:lnTo>
                      <a:pt x="252" y="130"/>
                    </a:lnTo>
                    <a:lnTo>
                      <a:pt x="333" y="146"/>
                    </a:lnTo>
                    <a:lnTo>
                      <a:pt x="379" y="181"/>
                    </a:lnTo>
                    <a:lnTo>
                      <a:pt x="401" y="212"/>
                    </a:lnTo>
                    <a:lnTo>
                      <a:pt x="403" y="243"/>
                    </a:lnTo>
                    <a:lnTo>
                      <a:pt x="391" y="260"/>
                    </a:lnTo>
                    <a:lnTo>
                      <a:pt x="367" y="264"/>
                    </a:lnTo>
                    <a:lnTo>
                      <a:pt x="339" y="266"/>
                    </a:lnTo>
                    <a:lnTo>
                      <a:pt x="339" y="278"/>
                    </a:lnTo>
                    <a:lnTo>
                      <a:pt x="367" y="288"/>
                    </a:lnTo>
                    <a:lnTo>
                      <a:pt x="398" y="288"/>
                    </a:lnTo>
                    <a:lnTo>
                      <a:pt x="412" y="270"/>
                    </a:lnTo>
                    <a:lnTo>
                      <a:pt x="436" y="280"/>
                    </a:lnTo>
                    <a:lnTo>
                      <a:pt x="460" y="292"/>
                    </a:lnTo>
                    <a:lnTo>
                      <a:pt x="494" y="298"/>
                    </a:lnTo>
                    <a:lnTo>
                      <a:pt x="509" y="294"/>
                    </a:lnTo>
                    <a:lnTo>
                      <a:pt x="518" y="275"/>
                    </a:lnTo>
                    <a:lnTo>
                      <a:pt x="501" y="258"/>
                    </a:lnTo>
                    <a:lnTo>
                      <a:pt x="481" y="245"/>
                    </a:lnTo>
                    <a:lnTo>
                      <a:pt x="437" y="221"/>
                    </a:lnTo>
                    <a:lnTo>
                      <a:pt x="415" y="188"/>
                    </a:lnTo>
                    <a:lnTo>
                      <a:pt x="395" y="160"/>
                    </a:lnTo>
                    <a:lnTo>
                      <a:pt x="351" y="130"/>
                    </a:lnTo>
                    <a:lnTo>
                      <a:pt x="279" y="108"/>
                    </a:lnTo>
                    <a:lnTo>
                      <a:pt x="214" y="94"/>
                    </a:lnTo>
                    <a:lnTo>
                      <a:pt x="150" y="71"/>
                    </a:lnTo>
                    <a:lnTo>
                      <a:pt x="94" y="47"/>
                    </a:lnTo>
                    <a:lnTo>
                      <a:pt x="72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796800" y="4186080"/>
                <a:ext cx="476280" cy="752760"/>
                <a:chOff x="6796800" y="4186080"/>
                <a:chExt cx="476280" cy="7527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810840" y="4190040"/>
                  <a:ext cx="454320" cy="486720"/>
                </a:xfrm>
                <a:custGeom>
                  <a:avLst/>
                  <a:gdLst/>
                  <a:ahLst/>
                  <a:rect l="l" t="t" r="r" b="b"/>
                  <a:pathLst>
                    <a:path w="421" h="458">
                      <a:moveTo>
                        <a:pt x="397" y="427"/>
                      </a:moveTo>
                      <a:lnTo>
                        <a:pt x="417" y="394"/>
                      </a:lnTo>
                      <a:lnTo>
                        <a:pt x="420" y="365"/>
                      </a:lnTo>
                      <a:lnTo>
                        <a:pt x="414" y="349"/>
                      </a:lnTo>
                      <a:lnTo>
                        <a:pt x="383" y="337"/>
                      </a:lnTo>
                      <a:lnTo>
                        <a:pt x="387" y="306"/>
                      </a:lnTo>
                      <a:lnTo>
                        <a:pt x="415" y="270"/>
                      </a:lnTo>
                      <a:lnTo>
                        <a:pt x="406" y="243"/>
                      </a:lnTo>
                      <a:lnTo>
                        <a:pt x="390" y="234"/>
                      </a:lnTo>
                      <a:lnTo>
                        <a:pt x="340" y="218"/>
                      </a:lnTo>
                      <a:lnTo>
                        <a:pt x="353" y="183"/>
                      </a:lnTo>
                      <a:lnTo>
                        <a:pt x="345" y="167"/>
                      </a:lnTo>
                      <a:lnTo>
                        <a:pt x="317" y="158"/>
                      </a:lnTo>
                      <a:lnTo>
                        <a:pt x="301" y="147"/>
                      </a:lnTo>
                      <a:lnTo>
                        <a:pt x="313" y="125"/>
                      </a:lnTo>
                      <a:lnTo>
                        <a:pt x="319" y="97"/>
                      </a:lnTo>
                      <a:lnTo>
                        <a:pt x="319" y="73"/>
                      </a:lnTo>
                      <a:lnTo>
                        <a:pt x="307" y="54"/>
                      </a:lnTo>
                      <a:lnTo>
                        <a:pt x="285" y="42"/>
                      </a:lnTo>
                      <a:lnTo>
                        <a:pt x="266" y="39"/>
                      </a:lnTo>
                      <a:lnTo>
                        <a:pt x="253" y="18"/>
                      </a:lnTo>
                      <a:lnTo>
                        <a:pt x="239" y="0"/>
                      </a:lnTo>
                      <a:lnTo>
                        <a:pt x="222" y="15"/>
                      </a:lnTo>
                      <a:lnTo>
                        <a:pt x="213" y="46"/>
                      </a:lnTo>
                      <a:lnTo>
                        <a:pt x="196" y="66"/>
                      </a:lnTo>
                      <a:lnTo>
                        <a:pt x="173" y="72"/>
                      </a:lnTo>
                      <a:lnTo>
                        <a:pt x="140" y="78"/>
                      </a:lnTo>
                      <a:lnTo>
                        <a:pt x="113" y="100"/>
                      </a:lnTo>
                      <a:lnTo>
                        <a:pt x="115" y="125"/>
                      </a:lnTo>
                      <a:lnTo>
                        <a:pt x="121" y="149"/>
                      </a:lnTo>
                      <a:lnTo>
                        <a:pt x="89" y="155"/>
                      </a:lnTo>
                      <a:lnTo>
                        <a:pt x="73" y="168"/>
                      </a:lnTo>
                      <a:lnTo>
                        <a:pt x="89" y="212"/>
                      </a:lnTo>
                      <a:lnTo>
                        <a:pt x="88" y="225"/>
                      </a:lnTo>
                      <a:lnTo>
                        <a:pt x="80" y="236"/>
                      </a:lnTo>
                      <a:lnTo>
                        <a:pt x="63" y="246"/>
                      </a:lnTo>
                      <a:lnTo>
                        <a:pt x="51" y="271"/>
                      </a:lnTo>
                      <a:lnTo>
                        <a:pt x="55" y="294"/>
                      </a:lnTo>
                      <a:lnTo>
                        <a:pt x="52" y="304"/>
                      </a:lnTo>
                      <a:lnTo>
                        <a:pt x="37" y="310"/>
                      </a:lnTo>
                      <a:lnTo>
                        <a:pt x="8" y="322"/>
                      </a:lnTo>
                      <a:lnTo>
                        <a:pt x="0" y="355"/>
                      </a:lnTo>
                      <a:lnTo>
                        <a:pt x="5" y="388"/>
                      </a:lnTo>
                      <a:lnTo>
                        <a:pt x="12" y="401"/>
                      </a:lnTo>
                      <a:lnTo>
                        <a:pt x="61" y="434"/>
                      </a:lnTo>
                      <a:lnTo>
                        <a:pt x="174" y="455"/>
                      </a:lnTo>
                      <a:lnTo>
                        <a:pt x="302" y="457"/>
                      </a:lnTo>
                      <a:lnTo>
                        <a:pt x="356" y="448"/>
                      </a:lnTo>
                      <a:lnTo>
                        <a:pt x="397" y="42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6805440" y="4595040"/>
                  <a:ext cx="448920" cy="343800"/>
                  <a:chOff x="6805440" y="4595040"/>
                  <a:chExt cx="448920" cy="3438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815880" y="4611600"/>
                    <a:ext cx="430560" cy="32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" h="305">
                        <a:moveTo>
                          <a:pt x="379" y="29"/>
                        </a:moveTo>
                        <a:lnTo>
                          <a:pt x="297" y="35"/>
                        </a:lnTo>
                        <a:lnTo>
                          <a:pt x="202" y="34"/>
                        </a:lnTo>
                        <a:lnTo>
                          <a:pt x="123" y="31"/>
                        </a:lnTo>
                        <a:lnTo>
                          <a:pt x="85" y="21"/>
                        </a:lnTo>
                        <a:lnTo>
                          <a:pt x="33" y="5"/>
                        </a:lnTo>
                        <a:lnTo>
                          <a:pt x="0" y="0"/>
                        </a:lnTo>
                        <a:lnTo>
                          <a:pt x="1" y="50"/>
                        </a:lnTo>
                        <a:lnTo>
                          <a:pt x="1" y="110"/>
                        </a:lnTo>
                        <a:lnTo>
                          <a:pt x="10" y="176"/>
                        </a:lnTo>
                        <a:lnTo>
                          <a:pt x="21" y="216"/>
                        </a:lnTo>
                        <a:lnTo>
                          <a:pt x="41" y="238"/>
                        </a:lnTo>
                        <a:lnTo>
                          <a:pt x="96" y="262"/>
                        </a:lnTo>
                        <a:lnTo>
                          <a:pt x="152" y="286"/>
                        </a:lnTo>
                        <a:lnTo>
                          <a:pt x="203" y="304"/>
                        </a:lnTo>
                        <a:lnTo>
                          <a:pt x="282" y="301"/>
                        </a:lnTo>
                        <a:lnTo>
                          <a:pt x="318" y="265"/>
                        </a:lnTo>
                        <a:lnTo>
                          <a:pt x="357" y="198"/>
                        </a:lnTo>
                        <a:lnTo>
                          <a:pt x="387" y="136"/>
                        </a:lnTo>
                        <a:lnTo>
                          <a:pt x="398" y="81"/>
                        </a:lnTo>
                        <a:lnTo>
                          <a:pt x="391" y="36"/>
                        </a:lnTo>
                        <a:lnTo>
                          <a:pt x="379" y="29"/>
                        </a:lnTo>
                      </a:path>
                    </a:pathLst>
                  </a:custGeom>
                  <a:solidFill>
                    <a:srgbClr val="daa9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6805440" y="4595040"/>
                    <a:ext cx="448920" cy="343800"/>
                    <a:chOff x="6805440" y="4595040"/>
                    <a:chExt cx="448920" cy="34380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805440" y="4595040"/>
                      <a:ext cx="448920" cy="34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6" h="324">
                          <a:moveTo>
                            <a:pt x="231" y="47"/>
                          </a:moveTo>
                          <a:lnTo>
                            <a:pt x="174" y="45"/>
                          </a:lnTo>
                          <a:lnTo>
                            <a:pt x="109" y="36"/>
                          </a:lnTo>
                          <a:lnTo>
                            <a:pt x="67" y="24"/>
                          </a:lnTo>
                          <a:lnTo>
                            <a:pt x="31" y="12"/>
                          </a:lnTo>
                          <a:lnTo>
                            <a:pt x="11" y="0"/>
                          </a:lnTo>
                          <a:lnTo>
                            <a:pt x="3" y="6"/>
                          </a:lnTo>
                          <a:lnTo>
                            <a:pt x="0" y="15"/>
                          </a:lnTo>
                          <a:lnTo>
                            <a:pt x="2" y="72"/>
                          </a:lnTo>
                          <a:lnTo>
                            <a:pt x="7" y="135"/>
                          </a:lnTo>
                          <a:lnTo>
                            <a:pt x="13" y="190"/>
                          </a:lnTo>
                          <a:lnTo>
                            <a:pt x="23" y="231"/>
                          </a:lnTo>
                          <a:lnTo>
                            <a:pt x="42" y="258"/>
                          </a:lnTo>
                          <a:lnTo>
                            <a:pt x="66" y="273"/>
                          </a:lnTo>
                          <a:lnTo>
                            <a:pt x="118" y="290"/>
                          </a:lnTo>
                          <a:lnTo>
                            <a:pt x="161" y="308"/>
                          </a:lnTo>
                          <a:lnTo>
                            <a:pt x="214" y="323"/>
                          </a:lnTo>
                          <a:lnTo>
                            <a:pt x="267" y="323"/>
                          </a:lnTo>
                          <a:lnTo>
                            <a:pt x="296" y="323"/>
                          </a:lnTo>
                          <a:lnTo>
                            <a:pt x="315" y="312"/>
                          </a:lnTo>
                          <a:lnTo>
                            <a:pt x="356" y="252"/>
                          </a:lnTo>
                          <a:lnTo>
                            <a:pt x="393" y="174"/>
                          </a:lnTo>
                          <a:lnTo>
                            <a:pt x="411" y="125"/>
                          </a:lnTo>
                          <a:lnTo>
                            <a:pt x="415" y="93"/>
                          </a:lnTo>
                          <a:lnTo>
                            <a:pt x="410" y="55"/>
                          </a:lnTo>
                          <a:lnTo>
                            <a:pt x="403" y="37"/>
                          </a:lnTo>
                          <a:lnTo>
                            <a:pt x="376" y="39"/>
                          </a:lnTo>
                          <a:lnTo>
                            <a:pt x="332" y="43"/>
                          </a:lnTo>
                          <a:lnTo>
                            <a:pt x="302" y="49"/>
                          </a:lnTo>
                          <a:lnTo>
                            <a:pt x="303" y="56"/>
                          </a:lnTo>
                          <a:lnTo>
                            <a:pt x="327" y="58"/>
                          </a:lnTo>
                          <a:lnTo>
                            <a:pt x="375" y="54"/>
                          </a:lnTo>
                          <a:lnTo>
                            <a:pt x="393" y="63"/>
                          </a:lnTo>
                          <a:lnTo>
                            <a:pt x="398" y="81"/>
                          </a:lnTo>
                          <a:lnTo>
                            <a:pt x="398" y="115"/>
                          </a:lnTo>
                          <a:lnTo>
                            <a:pt x="382" y="155"/>
                          </a:lnTo>
                          <a:lnTo>
                            <a:pt x="359" y="202"/>
                          </a:lnTo>
                          <a:lnTo>
                            <a:pt x="332" y="255"/>
                          </a:lnTo>
                          <a:lnTo>
                            <a:pt x="311" y="286"/>
                          </a:lnTo>
                          <a:lnTo>
                            <a:pt x="286" y="309"/>
                          </a:lnTo>
                          <a:lnTo>
                            <a:pt x="257" y="312"/>
                          </a:lnTo>
                          <a:lnTo>
                            <a:pt x="198" y="309"/>
                          </a:lnTo>
                          <a:lnTo>
                            <a:pt x="146" y="291"/>
                          </a:lnTo>
                          <a:lnTo>
                            <a:pt x="98" y="263"/>
                          </a:lnTo>
                          <a:lnTo>
                            <a:pt x="61" y="248"/>
                          </a:lnTo>
                          <a:lnTo>
                            <a:pt x="45" y="228"/>
                          </a:lnTo>
                          <a:lnTo>
                            <a:pt x="28" y="201"/>
                          </a:lnTo>
                          <a:lnTo>
                            <a:pt x="24" y="155"/>
                          </a:lnTo>
                          <a:lnTo>
                            <a:pt x="17" y="107"/>
                          </a:lnTo>
                          <a:lnTo>
                            <a:pt x="16" y="69"/>
                          </a:lnTo>
                          <a:lnTo>
                            <a:pt x="18" y="38"/>
                          </a:lnTo>
                          <a:lnTo>
                            <a:pt x="16" y="21"/>
                          </a:lnTo>
                          <a:lnTo>
                            <a:pt x="53" y="35"/>
                          </a:lnTo>
                          <a:lnTo>
                            <a:pt x="84" y="43"/>
                          </a:lnTo>
                          <a:lnTo>
                            <a:pt x="117" y="51"/>
                          </a:lnTo>
                          <a:lnTo>
                            <a:pt x="154" y="54"/>
                          </a:lnTo>
                          <a:lnTo>
                            <a:pt x="196" y="57"/>
                          </a:lnTo>
                          <a:lnTo>
                            <a:pt x="230" y="57"/>
                          </a:lnTo>
                          <a:lnTo>
                            <a:pt x="231" y="47"/>
                          </a:lnTo>
                        </a:path>
                      </a:pathLst>
                    </a:custGeom>
                    <a:solidFill>
                      <a:srgbClr val="ad6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839640" y="4653000"/>
                      <a:ext cx="163800" cy="19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84">
                          <a:moveTo>
                            <a:pt x="61" y="0"/>
                          </a:moveTo>
                          <a:lnTo>
                            <a:pt x="53" y="53"/>
                          </a:lnTo>
                          <a:lnTo>
                            <a:pt x="0" y="45"/>
                          </a:lnTo>
                          <a:lnTo>
                            <a:pt x="18" y="54"/>
                          </a:lnTo>
                          <a:lnTo>
                            <a:pt x="52" y="63"/>
                          </a:lnTo>
                          <a:lnTo>
                            <a:pt x="49" y="116"/>
                          </a:lnTo>
                          <a:lnTo>
                            <a:pt x="2" y="112"/>
                          </a:lnTo>
                          <a:lnTo>
                            <a:pt x="45" y="125"/>
                          </a:lnTo>
                          <a:lnTo>
                            <a:pt x="49" y="183"/>
                          </a:lnTo>
                          <a:lnTo>
                            <a:pt x="58" y="176"/>
                          </a:lnTo>
                          <a:lnTo>
                            <a:pt x="56" y="132"/>
                          </a:lnTo>
                          <a:lnTo>
                            <a:pt x="137" y="150"/>
                          </a:lnTo>
                          <a:lnTo>
                            <a:pt x="145" y="145"/>
                          </a:lnTo>
                          <a:lnTo>
                            <a:pt x="64" y="118"/>
                          </a:lnTo>
                          <a:lnTo>
                            <a:pt x="63" y="67"/>
                          </a:lnTo>
                          <a:lnTo>
                            <a:pt x="151" y="72"/>
                          </a:lnTo>
                          <a:lnTo>
                            <a:pt x="147" y="66"/>
                          </a:lnTo>
                          <a:lnTo>
                            <a:pt x="69" y="55"/>
                          </a:lnTo>
                          <a:lnTo>
                            <a:pt x="71" y="5"/>
                          </a:lnTo>
                          <a:lnTo>
                            <a:pt x="61" y="0"/>
                          </a:lnTo>
                        </a:path>
                      </a:pathLst>
                    </a:custGeom>
                    <a:solidFill>
                      <a:srgbClr val="ad6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7016760" y="4718880"/>
                      <a:ext cx="16704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72">
                          <a:moveTo>
                            <a:pt x="132" y="1"/>
                          </a:moveTo>
                          <a:lnTo>
                            <a:pt x="112" y="43"/>
                          </a:lnTo>
                          <a:lnTo>
                            <a:pt x="154" y="63"/>
                          </a:lnTo>
                          <a:lnTo>
                            <a:pt x="107" y="52"/>
                          </a:lnTo>
                          <a:lnTo>
                            <a:pt x="86" y="102"/>
                          </a:lnTo>
                          <a:lnTo>
                            <a:pt x="130" y="125"/>
                          </a:lnTo>
                          <a:lnTo>
                            <a:pt x="126" y="129"/>
                          </a:lnTo>
                          <a:lnTo>
                            <a:pt x="79" y="113"/>
                          </a:lnTo>
                          <a:lnTo>
                            <a:pt x="44" y="171"/>
                          </a:lnTo>
                          <a:lnTo>
                            <a:pt x="37" y="166"/>
                          </a:lnTo>
                          <a:lnTo>
                            <a:pt x="66" y="115"/>
                          </a:lnTo>
                          <a:lnTo>
                            <a:pt x="24" y="99"/>
                          </a:lnTo>
                          <a:lnTo>
                            <a:pt x="34" y="91"/>
                          </a:lnTo>
                          <a:lnTo>
                            <a:pt x="75" y="104"/>
                          </a:lnTo>
                          <a:lnTo>
                            <a:pt x="97" y="51"/>
                          </a:lnTo>
                          <a:lnTo>
                            <a:pt x="0" y="19"/>
                          </a:lnTo>
                          <a:lnTo>
                            <a:pt x="18" y="16"/>
                          </a:lnTo>
                          <a:lnTo>
                            <a:pt x="96" y="42"/>
                          </a:lnTo>
                          <a:lnTo>
                            <a:pt x="121" y="0"/>
                          </a:lnTo>
                          <a:lnTo>
                            <a:pt x="132" y="1"/>
                          </a:lnTo>
                        </a:path>
                      </a:pathLst>
                    </a:custGeom>
                    <a:solidFill>
                      <a:srgbClr val="ad6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7001640" y="4675680"/>
                      <a:ext cx="28080" cy="10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03">
                          <a:moveTo>
                            <a:pt x="0" y="102"/>
                          </a:moveTo>
                          <a:lnTo>
                            <a:pt x="19" y="55"/>
                          </a:lnTo>
                          <a:lnTo>
                            <a:pt x="25" y="0"/>
                          </a:lnTo>
                          <a:lnTo>
                            <a:pt x="16" y="8"/>
                          </a:lnTo>
                          <a:lnTo>
                            <a:pt x="3" y="54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solidFill>
                      <a:srgbClr val="ad6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796800" y="4186080"/>
                  <a:ext cx="476280" cy="444960"/>
                  <a:chOff x="6796800" y="4186080"/>
                  <a:chExt cx="476280" cy="4449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6796800" y="4186080"/>
                    <a:ext cx="476280" cy="444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419">
                        <a:moveTo>
                          <a:pt x="414" y="400"/>
                        </a:moveTo>
                        <a:lnTo>
                          <a:pt x="419" y="389"/>
                        </a:lnTo>
                        <a:lnTo>
                          <a:pt x="425" y="376"/>
                        </a:lnTo>
                        <a:lnTo>
                          <a:pt x="422" y="361"/>
                        </a:lnTo>
                        <a:lnTo>
                          <a:pt x="408" y="353"/>
                        </a:lnTo>
                        <a:lnTo>
                          <a:pt x="393" y="356"/>
                        </a:lnTo>
                        <a:lnTo>
                          <a:pt x="381" y="350"/>
                        </a:lnTo>
                        <a:lnTo>
                          <a:pt x="371" y="342"/>
                        </a:lnTo>
                        <a:lnTo>
                          <a:pt x="355" y="331"/>
                        </a:lnTo>
                        <a:lnTo>
                          <a:pt x="338" y="336"/>
                        </a:lnTo>
                        <a:lnTo>
                          <a:pt x="327" y="352"/>
                        </a:lnTo>
                        <a:lnTo>
                          <a:pt x="328" y="370"/>
                        </a:lnTo>
                        <a:lnTo>
                          <a:pt x="317" y="375"/>
                        </a:lnTo>
                        <a:lnTo>
                          <a:pt x="307" y="374"/>
                        </a:lnTo>
                        <a:lnTo>
                          <a:pt x="304" y="362"/>
                        </a:lnTo>
                        <a:lnTo>
                          <a:pt x="313" y="338"/>
                        </a:lnTo>
                        <a:lnTo>
                          <a:pt x="334" y="323"/>
                        </a:lnTo>
                        <a:lnTo>
                          <a:pt x="354" y="317"/>
                        </a:lnTo>
                        <a:lnTo>
                          <a:pt x="372" y="320"/>
                        </a:lnTo>
                        <a:lnTo>
                          <a:pt x="389" y="326"/>
                        </a:lnTo>
                        <a:lnTo>
                          <a:pt x="389" y="310"/>
                        </a:lnTo>
                        <a:lnTo>
                          <a:pt x="396" y="296"/>
                        </a:lnTo>
                        <a:lnTo>
                          <a:pt x="410" y="279"/>
                        </a:lnTo>
                        <a:lnTo>
                          <a:pt x="416" y="272"/>
                        </a:lnTo>
                        <a:lnTo>
                          <a:pt x="415" y="261"/>
                        </a:lnTo>
                        <a:lnTo>
                          <a:pt x="409" y="246"/>
                        </a:lnTo>
                        <a:lnTo>
                          <a:pt x="395" y="245"/>
                        </a:lnTo>
                        <a:lnTo>
                          <a:pt x="377" y="242"/>
                        </a:lnTo>
                        <a:lnTo>
                          <a:pt x="362" y="239"/>
                        </a:lnTo>
                        <a:lnTo>
                          <a:pt x="349" y="232"/>
                        </a:lnTo>
                        <a:lnTo>
                          <a:pt x="346" y="218"/>
                        </a:lnTo>
                        <a:lnTo>
                          <a:pt x="353" y="199"/>
                        </a:lnTo>
                        <a:lnTo>
                          <a:pt x="355" y="182"/>
                        </a:lnTo>
                        <a:lnTo>
                          <a:pt x="353" y="176"/>
                        </a:lnTo>
                        <a:lnTo>
                          <a:pt x="339" y="170"/>
                        </a:lnTo>
                        <a:lnTo>
                          <a:pt x="311" y="170"/>
                        </a:lnTo>
                        <a:lnTo>
                          <a:pt x="304" y="165"/>
                        </a:lnTo>
                        <a:lnTo>
                          <a:pt x="300" y="150"/>
                        </a:lnTo>
                        <a:lnTo>
                          <a:pt x="316" y="127"/>
                        </a:lnTo>
                        <a:lnTo>
                          <a:pt x="327" y="97"/>
                        </a:lnTo>
                        <a:lnTo>
                          <a:pt x="328" y="84"/>
                        </a:lnTo>
                        <a:lnTo>
                          <a:pt x="325" y="71"/>
                        </a:lnTo>
                        <a:lnTo>
                          <a:pt x="309" y="57"/>
                        </a:lnTo>
                        <a:lnTo>
                          <a:pt x="280" y="53"/>
                        </a:lnTo>
                        <a:lnTo>
                          <a:pt x="270" y="52"/>
                        </a:lnTo>
                        <a:lnTo>
                          <a:pt x="267" y="37"/>
                        </a:lnTo>
                        <a:lnTo>
                          <a:pt x="259" y="19"/>
                        </a:lnTo>
                        <a:lnTo>
                          <a:pt x="241" y="16"/>
                        </a:lnTo>
                        <a:lnTo>
                          <a:pt x="238" y="30"/>
                        </a:lnTo>
                        <a:lnTo>
                          <a:pt x="236" y="41"/>
                        </a:lnTo>
                        <a:lnTo>
                          <a:pt x="236" y="56"/>
                        </a:lnTo>
                        <a:lnTo>
                          <a:pt x="224" y="69"/>
                        </a:lnTo>
                        <a:lnTo>
                          <a:pt x="207" y="80"/>
                        </a:lnTo>
                        <a:lnTo>
                          <a:pt x="190" y="83"/>
                        </a:lnTo>
                        <a:lnTo>
                          <a:pt x="173" y="84"/>
                        </a:lnTo>
                        <a:lnTo>
                          <a:pt x="160" y="88"/>
                        </a:lnTo>
                        <a:lnTo>
                          <a:pt x="149" y="94"/>
                        </a:lnTo>
                        <a:lnTo>
                          <a:pt x="136" y="106"/>
                        </a:lnTo>
                        <a:lnTo>
                          <a:pt x="133" y="122"/>
                        </a:lnTo>
                        <a:lnTo>
                          <a:pt x="139" y="138"/>
                        </a:lnTo>
                        <a:lnTo>
                          <a:pt x="146" y="149"/>
                        </a:lnTo>
                        <a:lnTo>
                          <a:pt x="157" y="153"/>
                        </a:lnTo>
                        <a:lnTo>
                          <a:pt x="178" y="157"/>
                        </a:lnTo>
                        <a:lnTo>
                          <a:pt x="187" y="166"/>
                        </a:lnTo>
                        <a:lnTo>
                          <a:pt x="198" y="185"/>
                        </a:lnTo>
                        <a:lnTo>
                          <a:pt x="202" y="206"/>
                        </a:lnTo>
                        <a:lnTo>
                          <a:pt x="204" y="214"/>
                        </a:lnTo>
                        <a:lnTo>
                          <a:pt x="213" y="220"/>
                        </a:lnTo>
                        <a:lnTo>
                          <a:pt x="227" y="218"/>
                        </a:lnTo>
                        <a:lnTo>
                          <a:pt x="245" y="226"/>
                        </a:lnTo>
                        <a:lnTo>
                          <a:pt x="250" y="239"/>
                        </a:lnTo>
                        <a:lnTo>
                          <a:pt x="255" y="259"/>
                        </a:lnTo>
                        <a:lnTo>
                          <a:pt x="266" y="264"/>
                        </a:lnTo>
                        <a:lnTo>
                          <a:pt x="278" y="261"/>
                        </a:lnTo>
                        <a:lnTo>
                          <a:pt x="286" y="272"/>
                        </a:lnTo>
                        <a:lnTo>
                          <a:pt x="279" y="280"/>
                        </a:lnTo>
                        <a:lnTo>
                          <a:pt x="258" y="278"/>
                        </a:lnTo>
                        <a:lnTo>
                          <a:pt x="243" y="271"/>
                        </a:lnTo>
                        <a:lnTo>
                          <a:pt x="235" y="253"/>
                        </a:lnTo>
                        <a:lnTo>
                          <a:pt x="235" y="242"/>
                        </a:lnTo>
                        <a:lnTo>
                          <a:pt x="224" y="238"/>
                        </a:lnTo>
                        <a:lnTo>
                          <a:pt x="206" y="236"/>
                        </a:lnTo>
                        <a:lnTo>
                          <a:pt x="195" y="229"/>
                        </a:lnTo>
                        <a:lnTo>
                          <a:pt x="185" y="208"/>
                        </a:lnTo>
                        <a:lnTo>
                          <a:pt x="182" y="191"/>
                        </a:lnTo>
                        <a:lnTo>
                          <a:pt x="178" y="174"/>
                        </a:lnTo>
                        <a:lnTo>
                          <a:pt x="167" y="166"/>
                        </a:lnTo>
                        <a:lnTo>
                          <a:pt x="145" y="162"/>
                        </a:lnTo>
                        <a:lnTo>
                          <a:pt x="136" y="166"/>
                        </a:lnTo>
                        <a:lnTo>
                          <a:pt x="134" y="178"/>
                        </a:lnTo>
                        <a:lnTo>
                          <a:pt x="148" y="192"/>
                        </a:lnTo>
                        <a:lnTo>
                          <a:pt x="146" y="202"/>
                        </a:lnTo>
                        <a:lnTo>
                          <a:pt x="130" y="200"/>
                        </a:lnTo>
                        <a:lnTo>
                          <a:pt x="120" y="184"/>
                        </a:lnTo>
                        <a:lnTo>
                          <a:pt x="123" y="166"/>
                        </a:lnTo>
                        <a:lnTo>
                          <a:pt x="124" y="160"/>
                        </a:lnTo>
                        <a:lnTo>
                          <a:pt x="105" y="164"/>
                        </a:lnTo>
                        <a:lnTo>
                          <a:pt x="96" y="177"/>
                        </a:lnTo>
                        <a:lnTo>
                          <a:pt x="104" y="194"/>
                        </a:lnTo>
                        <a:lnTo>
                          <a:pt x="112" y="212"/>
                        </a:lnTo>
                        <a:lnTo>
                          <a:pt x="111" y="227"/>
                        </a:lnTo>
                        <a:lnTo>
                          <a:pt x="104" y="242"/>
                        </a:lnTo>
                        <a:lnTo>
                          <a:pt x="87" y="252"/>
                        </a:lnTo>
                        <a:lnTo>
                          <a:pt x="76" y="266"/>
                        </a:lnTo>
                        <a:lnTo>
                          <a:pt x="70" y="282"/>
                        </a:lnTo>
                        <a:lnTo>
                          <a:pt x="74" y="295"/>
                        </a:lnTo>
                        <a:lnTo>
                          <a:pt x="73" y="310"/>
                        </a:lnTo>
                        <a:lnTo>
                          <a:pt x="56" y="321"/>
                        </a:lnTo>
                        <a:lnTo>
                          <a:pt x="36" y="324"/>
                        </a:lnTo>
                        <a:lnTo>
                          <a:pt x="25" y="335"/>
                        </a:lnTo>
                        <a:lnTo>
                          <a:pt x="18" y="355"/>
                        </a:lnTo>
                        <a:lnTo>
                          <a:pt x="18" y="374"/>
                        </a:lnTo>
                        <a:lnTo>
                          <a:pt x="25" y="387"/>
                        </a:lnTo>
                        <a:lnTo>
                          <a:pt x="27" y="397"/>
                        </a:lnTo>
                        <a:lnTo>
                          <a:pt x="25" y="404"/>
                        </a:lnTo>
                        <a:lnTo>
                          <a:pt x="16" y="402"/>
                        </a:lnTo>
                        <a:lnTo>
                          <a:pt x="3" y="382"/>
                        </a:lnTo>
                        <a:lnTo>
                          <a:pt x="0" y="358"/>
                        </a:lnTo>
                        <a:lnTo>
                          <a:pt x="4" y="336"/>
                        </a:lnTo>
                        <a:lnTo>
                          <a:pt x="15" y="316"/>
                        </a:lnTo>
                        <a:lnTo>
                          <a:pt x="23" y="311"/>
                        </a:lnTo>
                        <a:lnTo>
                          <a:pt x="38" y="308"/>
                        </a:lnTo>
                        <a:lnTo>
                          <a:pt x="50" y="309"/>
                        </a:lnTo>
                        <a:lnTo>
                          <a:pt x="63" y="303"/>
                        </a:lnTo>
                        <a:lnTo>
                          <a:pt x="63" y="290"/>
                        </a:lnTo>
                        <a:lnTo>
                          <a:pt x="56" y="276"/>
                        </a:lnTo>
                        <a:lnTo>
                          <a:pt x="63" y="260"/>
                        </a:lnTo>
                        <a:lnTo>
                          <a:pt x="82" y="236"/>
                        </a:lnTo>
                        <a:lnTo>
                          <a:pt x="95" y="231"/>
                        </a:lnTo>
                        <a:lnTo>
                          <a:pt x="99" y="221"/>
                        </a:lnTo>
                        <a:lnTo>
                          <a:pt x="95" y="209"/>
                        </a:lnTo>
                        <a:lnTo>
                          <a:pt x="86" y="190"/>
                        </a:lnTo>
                        <a:lnTo>
                          <a:pt x="78" y="172"/>
                        </a:lnTo>
                        <a:lnTo>
                          <a:pt x="84" y="161"/>
                        </a:lnTo>
                        <a:lnTo>
                          <a:pt x="105" y="150"/>
                        </a:lnTo>
                        <a:lnTo>
                          <a:pt x="128" y="146"/>
                        </a:lnTo>
                        <a:lnTo>
                          <a:pt x="120" y="125"/>
                        </a:lnTo>
                        <a:lnTo>
                          <a:pt x="120" y="109"/>
                        </a:lnTo>
                        <a:lnTo>
                          <a:pt x="124" y="96"/>
                        </a:lnTo>
                        <a:lnTo>
                          <a:pt x="136" y="82"/>
                        </a:lnTo>
                        <a:lnTo>
                          <a:pt x="152" y="74"/>
                        </a:lnTo>
                        <a:lnTo>
                          <a:pt x="168" y="74"/>
                        </a:lnTo>
                        <a:lnTo>
                          <a:pt x="184" y="70"/>
                        </a:lnTo>
                        <a:lnTo>
                          <a:pt x="199" y="68"/>
                        </a:lnTo>
                        <a:lnTo>
                          <a:pt x="212" y="61"/>
                        </a:lnTo>
                        <a:lnTo>
                          <a:pt x="220" y="46"/>
                        </a:lnTo>
                        <a:lnTo>
                          <a:pt x="227" y="25"/>
                        </a:lnTo>
                        <a:lnTo>
                          <a:pt x="231" y="15"/>
                        </a:lnTo>
                        <a:lnTo>
                          <a:pt x="234" y="4"/>
                        </a:lnTo>
                        <a:lnTo>
                          <a:pt x="246" y="0"/>
                        </a:lnTo>
                        <a:lnTo>
                          <a:pt x="260" y="5"/>
                        </a:lnTo>
                        <a:lnTo>
                          <a:pt x="273" y="14"/>
                        </a:lnTo>
                        <a:lnTo>
                          <a:pt x="279" y="28"/>
                        </a:lnTo>
                        <a:lnTo>
                          <a:pt x="284" y="37"/>
                        </a:lnTo>
                        <a:lnTo>
                          <a:pt x="306" y="42"/>
                        </a:lnTo>
                        <a:lnTo>
                          <a:pt x="318" y="51"/>
                        </a:lnTo>
                        <a:lnTo>
                          <a:pt x="335" y="58"/>
                        </a:lnTo>
                        <a:lnTo>
                          <a:pt x="342" y="75"/>
                        </a:lnTo>
                        <a:lnTo>
                          <a:pt x="344" y="90"/>
                        </a:lnTo>
                        <a:lnTo>
                          <a:pt x="342" y="109"/>
                        </a:lnTo>
                        <a:lnTo>
                          <a:pt x="332" y="127"/>
                        </a:lnTo>
                        <a:lnTo>
                          <a:pt x="320" y="149"/>
                        </a:lnTo>
                        <a:lnTo>
                          <a:pt x="324" y="155"/>
                        </a:lnTo>
                        <a:lnTo>
                          <a:pt x="340" y="158"/>
                        </a:lnTo>
                        <a:lnTo>
                          <a:pt x="363" y="168"/>
                        </a:lnTo>
                        <a:lnTo>
                          <a:pt x="374" y="182"/>
                        </a:lnTo>
                        <a:lnTo>
                          <a:pt x="377" y="197"/>
                        </a:lnTo>
                        <a:lnTo>
                          <a:pt x="366" y="219"/>
                        </a:lnTo>
                        <a:lnTo>
                          <a:pt x="372" y="224"/>
                        </a:lnTo>
                        <a:lnTo>
                          <a:pt x="394" y="228"/>
                        </a:lnTo>
                        <a:lnTo>
                          <a:pt x="414" y="234"/>
                        </a:lnTo>
                        <a:lnTo>
                          <a:pt x="427" y="247"/>
                        </a:lnTo>
                        <a:lnTo>
                          <a:pt x="433" y="260"/>
                        </a:lnTo>
                        <a:lnTo>
                          <a:pt x="434" y="278"/>
                        </a:lnTo>
                        <a:lnTo>
                          <a:pt x="426" y="293"/>
                        </a:lnTo>
                        <a:lnTo>
                          <a:pt x="414" y="302"/>
                        </a:lnTo>
                        <a:lnTo>
                          <a:pt x="407" y="318"/>
                        </a:lnTo>
                        <a:lnTo>
                          <a:pt x="405" y="332"/>
                        </a:lnTo>
                        <a:lnTo>
                          <a:pt x="418" y="338"/>
                        </a:lnTo>
                        <a:lnTo>
                          <a:pt x="432" y="346"/>
                        </a:lnTo>
                        <a:lnTo>
                          <a:pt x="440" y="365"/>
                        </a:lnTo>
                        <a:lnTo>
                          <a:pt x="438" y="387"/>
                        </a:lnTo>
                        <a:lnTo>
                          <a:pt x="434" y="405"/>
                        </a:lnTo>
                        <a:lnTo>
                          <a:pt x="424" y="416"/>
                        </a:lnTo>
                        <a:lnTo>
                          <a:pt x="413" y="418"/>
                        </a:lnTo>
                        <a:lnTo>
                          <a:pt x="407" y="413"/>
                        </a:lnTo>
                        <a:lnTo>
                          <a:pt x="414" y="40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943680" y="4521600"/>
                    <a:ext cx="864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8">
                        <a:moveTo>
                          <a:pt x="67" y="57"/>
                        </a:moveTo>
                        <a:lnTo>
                          <a:pt x="79" y="37"/>
                        </a:lnTo>
                        <a:lnTo>
                          <a:pt x="63" y="15"/>
                        </a:lnTo>
                        <a:lnTo>
                          <a:pt x="43" y="5"/>
                        </a:lnTo>
                        <a:lnTo>
                          <a:pt x="22" y="0"/>
                        </a:lnTo>
                        <a:lnTo>
                          <a:pt x="7" y="7"/>
                        </a:lnTo>
                        <a:lnTo>
                          <a:pt x="0" y="22"/>
                        </a:lnTo>
                        <a:lnTo>
                          <a:pt x="8" y="34"/>
                        </a:lnTo>
                        <a:lnTo>
                          <a:pt x="21" y="28"/>
                        </a:lnTo>
                        <a:lnTo>
                          <a:pt x="38" y="24"/>
                        </a:lnTo>
                        <a:lnTo>
                          <a:pt x="55" y="35"/>
                        </a:lnTo>
                        <a:lnTo>
                          <a:pt x="48" y="48"/>
                        </a:lnTo>
                        <a:lnTo>
                          <a:pt x="67" y="5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0" name=""/>
              <p:cNvSpPr/>
              <p:nvPr/>
            </p:nvSpPr>
            <p:spPr>
              <a:xfrm>
                <a:off x="6551640" y="4443840"/>
                <a:ext cx="615960" cy="523800"/>
              </a:xfrm>
              <a:custGeom>
                <a:avLst/>
                <a:gdLst/>
                <a:ahLst/>
                <a:rect l="l" t="t" r="r" b="b"/>
                <a:pathLst>
                  <a:path w="570" h="493">
                    <a:moveTo>
                      <a:pt x="59" y="8"/>
                    </a:moveTo>
                    <a:lnTo>
                      <a:pt x="35" y="0"/>
                    </a:lnTo>
                    <a:lnTo>
                      <a:pt x="7" y="20"/>
                    </a:lnTo>
                    <a:lnTo>
                      <a:pt x="0" y="61"/>
                    </a:lnTo>
                    <a:lnTo>
                      <a:pt x="9" y="100"/>
                    </a:lnTo>
                    <a:lnTo>
                      <a:pt x="59" y="179"/>
                    </a:lnTo>
                    <a:lnTo>
                      <a:pt x="130" y="258"/>
                    </a:lnTo>
                    <a:lnTo>
                      <a:pt x="209" y="319"/>
                    </a:lnTo>
                    <a:lnTo>
                      <a:pt x="238" y="342"/>
                    </a:lnTo>
                    <a:lnTo>
                      <a:pt x="266" y="346"/>
                    </a:lnTo>
                    <a:lnTo>
                      <a:pt x="318" y="361"/>
                    </a:lnTo>
                    <a:lnTo>
                      <a:pt x="386" y="374"/>
                    </a:lnTo>
                    <a:lnTo>
                      <a:pt x="445" y="403"/>
                    </a:lnTo>
                    <a:lnTo>
                      <a:pt x="480" y="421"/>
                    </a:lnTo>
                    <a:lnTo>
                      <a:pt x="496" y="442"/>
                    </a:lnTo>
                    <a:lnTo>
                      <a:pt x="508" y="464"/>
                    </a:lnTo>
                    <a:lnTo>
                      <a:pt x="525" y="487"/>
                    </a:lnTo>
                    <a:lnTo>
                      <a:pt x="546" y="492"/>
                    </a:lnTo>
                    <a:lnTo>
                      <a:pt x="557" y="473"/>
                    </a:lnTo>
                    <a:lnTo>
                      <a:pt x="557" y="448"/>
                    </a:lnTo>
                    <a:lnTo>
                      <a:pt x="569" y="437"/>
                    </a:lnTo>
                    <a:lnTo>
                      <a:pt x="568" y="411"/>
                    </a:lnTo>
                    <a:lnTo>
                      <a:pt x="541" y="391"/>
                    </a:lnTo>
                    <a:lnTo>
                      <a:pt x="529" y="384"/>
                    </a:lnTo>
                    <a:lnTo>
                      <a:pt x="506" y="377"/>
                    </a:lnTo>
                    <a:lnTo>
                      <a:pt x="495" y="354"/>
                    </a:lnTo>
                    <a:lnTo>
                      <a:pt x="504" y="320"/>
                    </a:lnTo>
                    <a:lnTo>
                      <a:pt x="519" y="294"/>
                    </a:lnTo>
                    <a:lnTo>
                      <a:pt x="508" y="273"/>
                    </a:lnTo>
                    <a:lnTo>
                      <a:pt x="478" y="278"/>
                    </a:lnTo>
                    <a:lnTo>
                      <a:pt x="477" y="300"/>
                    </a:lnTo>
                    <a:lnTo>
                      <a:pt x="477" y="330"/>
                    </a:lnTo>
                    <a:lnTo>
                      <a:pt x="471" y="358"/>
                    </a:lnTo>
                    <a:lnTo>
                      <a:pt x="460" y="367"/>
                    </a:lnTo>
                    <a:lnTo>
                      <a:pt x="429" y="361"/>
                    </a:lnTo>
                    <a:lnTo>
                      <a:pt x="398" y="344"/>
                    </a:lnTo>
                    <a:lnTo>
                      <a:pt x="337" y="320"/>
                    </a:lnTo>
                    <a:lnTo>
                      <a:pt x="290" y="302"/>
                    </a:lnTo>
                    <a:lnTo>
                      <a:pt x="257" y="295"/>
                    </a:lnTo>
                    <a:lnTo>
                      <a:pt x="209" y="248"/>
                    </a:lnTo>
                    <a:lnTo>
                      <a:pt x="154" y="187"/>
                    </a:lnTo>
                    <a:lnTo>
                      <a:pt x="119" y="143"/>
                    </a:lnTo>
                    <a:lnTo>
                      <a:pt x="86" y="73"/>
                    </a:lnTo>
                    <a:lnTo>
                      <a:pt x="5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56680" y="4416480"/>
                <a:ext cx="277560" cy="497160"/>
              </a:xfrm>
              <a:custGeom>
                <a:avLst/>
                <a:gdLst/>
                <a:ahLst/>
                <a:rect l="l" t="t" r="r" b="b"/>
                <a:pathLst>
                  <a:path w="257" h="468">
                    <a:moveTo>
                      <a:pt x="212" y="164"/>
                    </a:moveTo>
                    <a:lnTo>
                      <a:pt x="193" y="116"/>
                    </a:lnTo>
                    <a:lnTo>
                      <a:pt x="168" y="79"/>
                    </a:lnTo>
                    <a:lnTo>
                      <a:pt x="141" y="41"/>
                    </a:lnTo>
                    <a:lnTo>
                      <a:pt x="116" y="18"/>
                    </a:lnTo>
                    <a:lnTo>
                      <a:pt x="84" y="3"/>
                    </a:lnTo>
                    <a:lnTo>
                      <a:pt x="64" y="0"/>
                    </a:lnTo>
                    <a:lnTo>
                      <a:pt x="38" y="4"/>
                    </a:lnTo>
                    <a:lnTo>
                      <a:pt x="18" y="17"/>
                    </a:lnTo>
                    <a:lnTo>
                      <a:pt x="2" y="38"/>
                    </a:lnTo>
                    <a:lnTo>
                      <a:pt x="0" y="62"/>
                    </a:lnTo>
                    <a:lnTo>
                      <a:pt x="4" y="99"/>
                    </a:lnTo>
                    <a:lnTo>
                      <a:pt x="21" y="135"/>
                    </a:lnTo>
                    <a:lnTo>
                      <a:pt x="44" y="176"/>
                    </a:lnTo>
                    <a:lnTo>
                      <a:pt x="47" y="208"/>
                    </a:lnTo>
                    <a:lnTo>
                      <a:pt x="54" y="238"/>
                    </a:lnTo>
                    <a:lnTo>
                      <a:pt x="51" y="278"/>
                    </a:lnTo>
                    <a:lnTo>
                      <a:pt x="38" y="317"/>
                    </a:lnTo>
                    <a:lnTo>
                      <a:pt x="38" y="350"/>
                    </a:lnTo>
                    <a:lnTo>
                      <a:pt x="45" y="386"/>
                    </a:lnTo>
                    <a:lnTo>
                      <a:pt x="60" y="418"/>
                    </a:lnTo>
                    <a:lnTo>
                      <a:pt x="77" y="442"/>
                    </a:lnTo>
                    <a:lnTo>
                      <a:pt x="106" y="463"/>
                    </a:lnTo>
                    <a:lnTo>
                      <a:pt x="141" y="467"/>
                    </a:lnTo>
                    <a:lnTo>
                      <a:pt x="170" y="463"/>
                    </a:lnTo>
                    <a:lnTo>
                      <a:pt x="194" y="451"/>
                    </a:lnTo>
                    <a:lnTo>
                      <a:pt x="226" y="426"/>
                    </a:lnTo>
                    <a:lnTo>
                      <a:pt x="248" y="401"/>
                    </a:lnTo>
                    <a:lnTo>
                      <a:pt x="256" y="368"/>
                    </a:lnTo>
                    <a:lnTo>
                      <a:pt x="252" y="341"/>
                    </a:lnTo>
                    <a:lnTo>
                      <a:pt x="241" y="301"/>
                    </a:lnTo>
                    <a:lnTo>
                      <a:pt x="219" y="248"/>
                    </a:lnTo>
                    <a:lnTo>
                      <a:pt x="214" y="206"/>
                    </a:lnTo>
                    <a:lnTo>
                      <a:pt x="212" y="1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1981080" y="3124080"/>
            <a:ext cx="1023840" cy="1357200"/>
            <a:chOff x="1981080" y="3124080"/>
            <a:chExt cx="1023840" cy="1357200"/>
          </a:xfrm>
        </p:grpSpPr>
        <p:sp>
          <p:nvSpPr>
            <p:cNvPr id="233" name=""/>
            <p:cNvSpPr/>
            <p:nvPr/>
          </p:nvSpPr>
          <p:spPr>
            <a:xfrm>
              <a:off x="2587320" y="3124080"/>
              <a:ext cx="417600" cy="275400"/>
            </a:xfrm>
            <a:custGeom>
              <a:avLst/>
              <a:gdLst/>
              <a:ahLst/>
              <a:rect l="l" t="t" r="r" b="b"/>
              <a:pathLst>
                <a:path w="342" h="270">
                  <a:moveTo>
                    <a:pt x="215" y="126"/>
                  </a:moveTo>
                  <a:lnTo>
                    <a:pt x="215" y="99"/>
                  </a:lnTo>
                  <a:lnTo>
                    <a:pt x="212" y="63"/>
                  </a:lnTo>
                  <a:lnTo>
                    <a:pt x="195" y="30"/>
                  </a:lnTo>
                  <a:lnTo>
                    <a:pt x="177" y="13"/>
                  </a:lnTo>
                  <a:lnTo>
                    <a:pt x="160" y="3"/>
                  </a:lnTo>
                  <a:lnTo>
                    <a:pt x="127" y="0"/>
                  </a:lnTo>
                  <a:lnTo>
                    <a:pt x="95" y="5"/>
                  </a:lnTo>
                  <a:lnTo>
                    <a:pt x="63" y="23"/>
                  </a:lnTo>
                  <a:lnTo>
                    <a:pt x="40" y="45"/>
                  </a:lnTo>
                  <a:lnTo>
                    <a:pt x="24" y="78"/>
                  </a:lnTo>
                  <a:lnTo>
                    <a:pt x="10" y="115"/>
                  </a:lnTo>
                  <a:lnTo>
                    <a:pt x="3" y="169"/>
                  </a:lnTo>
                  <a:lnTo>
                    <a:pt x="0" y="203"/>
                  </a:lnTo>
                  <a:lnTo>
                    <a:pt x="13" y="238"/>
                  </a:lnTo>
                  <a:lnTo>
                    <a:pt x="30" y="255"/>
                  </a:lnTo>
                  <a:lnTo>
                    <a:pt x="53" y="269"/>
                  </a:lnTo>
                  <a:lnTo>
                    <a:pt x="93" y="268"/>
                  </a:lnTo>
                  <a:lnTo>
                    <a:pt x="132" y="260"/>
                  </a:lnTo>
                  <a:lnTo>
                    <a:pt x="168" y="236"/>
                  </a:lnTo>
                  <a:lnTo>
                    <a:pt x="191" y="206"/>
                  </a:lnTo>
                  <a:lnTo>
                    <a:pt x="206" y="174"/>
                  </a:lnTo>
                  <a:lnTo>
                    <a:pt x="230" y="163"/>
                  </a:lnTo>
                  <a:lnTo>
                    <a:pt x="263" y="165"/>
                  </a:lnTo>
                  <a:lnTo>
                    <a:pt x="310" y="167"/>
                  </a:lnTo>
                  <a:lnTo>
                    <a:pt x="330" y="164"/>
                  </a:lnTo>
                  <a:lnTo>
                    <a:pt x="341" y="144"/>
                  </a:lnTo>
                  <a:lnTo>
                    <a:pt x="332" y="123"/>
                  </a:lnTo>
                  <a:lnTo>
                    <a:pt x="303" y="123"/>
                  </a:lnTo>
                  <a:lnTo>
                    <a:pt x="272" y="133"/>
                  </a:lnTo>
                  <a:lnTo>
                    <a:pt x="239" y="138"/>
                  </a:lnTo>
                  <a:lnTo>
                    <a:pt x="215" y="1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981080" y="3191400"/>
              <a:ext cx="815760" cy="750600"/>
              <a:chOff x="1981080" y="3191400"/>
              <a:chExt cx="815760" cy="75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044800" y="3426120"/>
                <a:ext cx="633600" cy="304200"/>
              </a:xfrm>
              <a:custGeom>
                <a:avLst/>
                <a:gdLst/>
                <a:ahLst/>
                <a:rect l="l" t="t" r="r" b="b"/>
                <a:pathLst>
                  <a:path w="519" h="298">
                    <a:moveTo>
                      <a:pt x="446" y="29"/>
                    </a:moveTo>
                    <a:lnTo>
                      <a:pt x="478" y="9"/>
                    </a:lnTo>
                    <a:lnTo>
                      <a:pt x="504" y="0"/>
                    </a:lnTo>
                    <a:lnTo>
                      <a:pt x="518" y="9"/>
                    </a:lnTo>
                    <a:lnTo>
                      <a:pt x="518" y="39"/>
                    </a:lnTo>
                    <a:lnTo>
                      <a:pt x="494" y="80"/>
                    </a:lnTo>
                    <a:lnTo>
                      <a:pt x="449" y="105"/>
                    </a:lnTo>
                    <a:lnTo>
                      <a:pt x="414" y="120"/>
                    </a:lnTo>
                    <a:lnTo>
                      <a:pt x="345" y="125"/>
                    </a:lnTo>
                    <a:lnTo>
                      <a:pt x="266" y="129"/>
                    </a:lnTo>
                    <a:lnTo>
                      <a:pt x="185" y="145"/>
                    </a:lnTo>
                    <a:lnTo>
                      <a:pt x="139" y="180"/>
                    </a:lnTo>
                    <a:lnTo>
                      <a:pt x="117" y="212"/>
                    </a:lnTo>
                    <a:lnTo>
                      <a:pt x="115" y="243"/>
                    </a:lnTo>
                    <a:lnTo>
                      <a:pt x="127" y="259"/>
                    </a:lnTo>
                    <a:lnTo>
                      <a:pt x="151" y="263"/>
                    </a:lnTo>
                    <a:lnTo>
                      <a:pt x="179" y="265"/>
                    </a:lnTo>
                    <a:lnTo>
                      <a:pt x="179" y="277"/>
                    </a:lnTo>
                    <a:lnTo>
                      <a:pt x="151" y="287"/>
                    </a:lnTo>
                    <a:lnTo>
                      <a:pt x="120" y="287"/>
                    </a:lnTo>
                    <a:lnTo>
                      <a:pt x="106" y="269"/>
                    </a:lnTo>
                    <a:lnTo>
                      <a:pt x="82" y="279"/>
                    </a:lnTo>
                    <a:lnTo>
                      <a:pt x="58" y="291"/>
                    </a:lnTo>
                    <a:lnTo>
                      <a:pt x="24" y="297"/>
                    </a:lnTo>
                    <a:lnTo>
                      <a:pt x="9" y="293"/>
                    </a:lnTo>
                    <a:lnTo>
                      <a:pt x="0" y="274"/>
                    </a:lnTo>
                    <a:lnTo>
                      <a:pt x="17" y="257"/>
                    </a:lnTo>
                    <a:lnTo>
                      <a:pt x="37" y="245"/>
                    </a:lnTo>
                    <a:lnTo>
                      <a:pt x="81" y="221"/>
                    </a:lnTo>
                    <a:lnTo>
                      <a:pt x="103" y="187"/>
                    </a:lnTo>
                    <a:lnTo>
                      <a:pt x="123" y="159"/>
                    </a:lnTo>
                    <a:lnTo>
                      <a:pt x="167" y="129"/>
                    </a:lnTo>
                    <a:lnTo>
                      <a:pt x="239" y="107"/>
                    </a:lnTo>
                    <a:lnTo>
                      <a:pt x="304" y="93"/>
                    </a:lnTo>
                    <a:lnTo>
                      <a:pt x="368" y="70"/>
                    </a:lnTo>
                    <a:lnTo>
                      <a:pt x="424" y="46"/>
                    </a:lnTo>
                    <a:lnTo>
                      <a:pt x="446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981080" y="3191400"/>
                <a:ext cx="538560" cy="723960"/>
                <a:chOff x="1981080" y="3191400"/>
                <a:chExt cx="538560" cy="723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989360" y="3195000"/>
                  <a:ext cx="514080" cy="467640"/>
                </a:xfrm>
                <a:custGeom>
                  <a:avLst/>
                  <a:gdLst/>
                  <a:ahLst/>
                  <a:rect l="l" t="t" r="r" b="b"/>
                  <a:pathLst>
                    <a:path w="421" h="458">
                      <a:moveTo>
                        <a:pt x="23" y="427"/>
                      </a:moveTo>
                      <a:lnTo>
                        <a:pt x="3" y="393"/>
                      </a:lnTo>
                      <a:lnTo>
                        <a:pt x="0" y="364"/>
                      </a:lnTo>
                      <a:lnTo>
                        <a:pt x="6" y="348"/>
                      </a:lnTo>
                      <a:lnTo>
                        <a:pt x="37" y="336"/>
                      </a:lnTo>
                      <a:lnTo>
                        <a:pt x="33" y="305"/>
                      </a:lnTo>
                      <a:lnTo>
                        <a:pt x="5" y="269"/>
                      </a:lnTo>
                      <a:lnTo>
                        <a:pt x="14" y="243"/>
                      </a:lnTo>
                      <a:lnTo>
                        <a:pt x="30" y="234"/>
                      </a:lnTo>
                      <a:lnTo>
                        <a:pt x="80" y="218"/>
                      </a:lnTo>
                      <a:lnTo>
                        <a:pt x="67" y="182"/>
                      </a:lnTo>
                      <a:lnTo>
                        <a:pt x="75" y="166"/>
                      </a:lnTo>
                      <a:lnTo>
                        <a:pt x="103" y="157"/>
                      </a:lnTo>
                      <a:lnTo>
                        <a:pt x="119" y="146"/>
                      </a:lnTo>
                      <a:lnTo>
                        <a:pt x="107" y="124"/>
                      </a:lnTo>
                      <a:lnTo>
                        <a:pt x="101" y="96"/>
                      </a:lnTo>
                      <a:lnTo>
                        <a:pt x="101" y="72"/>
                      </a:lnTo>
                      <a:lnTo>
                        <a:pt x="113" y="53"/>
                      </a:lnTo>
                      <a:lnTo>
                        <a:pt x="135" y="41"/>
                      </a:lnTo>
                      <a:lnTo>
                        <a:pt x="154" y="39"/>
                      </a:lnTo>
                      <a:lnTo>
                        <a:pt x="167" y="18"/>
                      </a:lnTo>
                      <a:lnTo>
                        <a:pt x="181" y="0"/>
                      </a:lnTo>
                      <a:lnTo>
                        <a:pt x="198" y="15"/>
                      </a:lnTo>
                      <a:lnTo>
                        <a:pt x="207" y="45"/>
                      </a:lnTo>
                      <a:lnTo>
                        <a:pt x="224" y="65"/>
                      </a:lnTo>
                      <a:lnTo>
                        <a:pt x="247" y="71"/>
                      </a:lnTo>
                      <a:lnTo>
                        <a:pt x="280" y="77"/>
                      </a:lnTo>
                      <a:lnTo>
                        <a:pt x="307" y="99"/>
                      </a:lnTo>
                      <a:lnTo>
                        <a:pt x="305" y="124"/>
                      </a:lnTo>
                      <a:lnTo>
                        <a:pt x="299" y="148"/>
                      </a:lnTo>
                      <a:lnTo>
                        <a:pt x="331" y="154"/>
                      </a:lnTo>
                      <a:lnTo>
                        <a:pt x="347" y="167"/>
                      </a:lnTo>
                      <a:lnTo>
                        <a:pt x="331" y="212"/>
                      </a:lnTo>
                      <a:lnTo>
                        <a:pt x="332" y="225"/>
                      </a:lnTo>
                      <a:lnTo>
                        <a:pt x="340" y="236"/>
                      </a:lnTo>
                      <a:lnTo>
                        <a:pt x="357" y="246"/>
                      </a:lnTo>
                      <a:lnTo>
                        <a:pt x="369" y="270"/>
                      </a:lnTo>
                      <a:lnTo>
                        <a:pt x="365" y="293"/>
                      </a:lnTo>
                      <a:lnTo>
                        <a:pt x="368" y="303"/>
                      </a:lnTo>
                      <a:lnTo>
                        <a:pt x="383" y="309"/>
                      </a:lnTo>
                      <a:lnTo>
                        <a:pt x="412" y="321"/>
                      </a:lnTo>
                      <a:lnTo>
                        <a:pt x="420" y="354"/>
                      </a:lnTo>
                      <a:lnTo>
                        <a:pt x="415" y="387"/>
                      </a:lnTo>
                      <a:lnTo>
                        <a:pt x="408" y="400"/>
                      </a:lnTo>
                      <a:lnTo>
                        <a:pt x="359" y="434"/>
                      </a:lnTo>
                      <a:lnTo>
                        <a:pt x="246" y="455"/>
                      </a:lnTo>
                      <a:lnTo>
                        <a:pt x="118" y="457"/>
                      </a:lnTo>
                      <a:lnTo>
                        <a:pt x="64" y="448"/>
                      </a:lnTo>
                      <a:lnTo>
                        <a:pt x="23" y="42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"/>
                <p:cNvGrpSpPr/>
                <p:nvPr/>
              </p:nvGrpSpPr>
              <p:grpSpPr>
                <a:xfrm>
                  <a:off x="2001600" y="3583440"/>
                  <a:ext cx="507960" cy="331920"/>
                  <a:chOff x="2001600" y="3583440"/>
                  <a:chExt cx="507960" cy="331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2009880" y="3599640"/>
                    <a:ext cx="48708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9" h="306">
                        <a:moveTo>
                          <a:pt x="19" y="30"/>
                        </a:moveTo>
                        <a:lnTo>
                          <a:pt x="101" y="36"/>
                        </a:lnTo>
                        <a:lnTo>
                          <a:pt x="196" y="35"/>
                        </a:lnTo>
                        <a:lnTo>
                          <a:pt x="275" y="32"/>
                        </a:lnTo>
                        <a:lnTo>
                          <a:pt x="313" y="22"/>
                        </a:lnTo>
                        <a:lnTo>
                          <a:pt x="365" y="5"/>
                        </a:lnTo>
                        <a:lnTo>
                          <a:pt x="398" y="0"/>
                        </a:lnTo>
                        <a:lnTo>
                          <a:pt x="397" y="51"/>
                        </a:lnTo>
                        <a:lnTo>
                          <a:pt x="397" y="110"/>
                        </a:lnTo>
                        <a:lnTo>
                          <a:pt x="388" y="176"/>
                        </a:lnTo>
                        <a:lnTo>
                          <a:pt x="377" y="216"/>
                        </a:lnTo>
                        <a:lnTo>
                          <a:pt x="357" y="238"/>
                        </a:lnTo>
                        <a:lnTo>
                          <a:pt x="302" y="263"/>
                        </a:lnTo>
                        <a:lnTo>
                          <a:pt x="246" y="287"/>
                        </a:lnTo>
                        <a:lnTo>
                          <a:pt x="195" y="305"/>
                        </a:lnTo>
                        <a:lnTo>
                          <a:pt x="116" y="302"/>
                        </a:lnTo>
                        <a:lnTo>
                          <a:pt x="80" y="266"/>
                        </a:lnTo>
                        <a:lnTo>
                          <a:pt x="41" y="198"/>
                        </a:lnTo>
                        <a:lnTo>
                          <a:pt x="11" y="136"/>
                        </a:lnTo>
                        <a:lnTo>
                          <a:pt x="0" y="82"/>
                        </a:lnTo>
                        <a:lnTo>
                          <a:pt x="7" y="37"/>
                        </a:lnTo>
                        <a:lnTo>
                          <a:pt x="19" y="30"/>
                        </a:lnTo>
                      </a:path>
                    </a:pathLst>
                  </a:custGeom>
                  <a:solidFill>
                    <a:srgbClr val="daa9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001600" y="3583440"/>
                    <a:ext cx="507960" cy="331920"/>
                    <a:chOff x="2001600" y="3583440"/>
                    <a:chExt cx="507960" cy="3319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2001600" y="3583440"/>
                      <a:ext cx="507960" cy="33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6" h="325">
                          <a:moveTo>
                            <a:pt x="184" y="48"/>
                          </a:moveTo>
                          <a:lnTo>
                            <a:pt x="241" y="46"/>
                          </a:lnTo>
                          <a:lnTo>
                            <a:pt x="306" y="36"/>
                          </a:lnTo>
                          <a:lnTo>
                            <a:pt x="348" y="24"/>
                          </a:lnTo>
                          <a:lnTo>
                            <a:pt x="384" y="12"/>
                          </a:lnTo>
                          <a:lnTo>
                            <a:pt x="404" y="0"/>
                          </a:lnTo>
                          <a:lnTo>
                            <a:pt x="412" y="6"/>
                          </a:lnTo>
                          <a:lnTo>
                            <a:pt x="415" y="15"/>
                          </a:lnTo>
                          <a:lnTo>
                            <a:pt x="413" y="73"/>
                          </a:lnTo>
                          <a:lnTo>
                            <a:pt x="408" y="135"/>
                          </a:lnTo>
                          <a:lnTo>
                            <a:pt x="402" y="190"/>
                          </a:lnTo>
                          <a:lnTo>
                            <a:pt x="392" y="231"/>
                          </a:lnTo>
                          <a:lnTo>
                            <a:pt x="373" y="258"/>
                          </a:lnTo>
                          <a:lnTo>
                            <a:pt x="349" y="274"/>
                          </a:lnTo>
                          <a:lnTo>
                            <a:pt x="297" y="291"/>
                          </a:lnTo>
                          <a:lnTo>
                            <a:pt x="254" y="309"/>
                          </a:lnTo>
                          <a:lnTo>
                            <a:pt x="201" y="324"/>
                          </a:lnTo>
                          <a:lnTo>
                            <a:pt x="148" y="324"/>
                          </a:lnTo>
                          <a:lnTo>
                            <a:pt x="119" y="324"/>
                          </a:lnTo>
                          <a:lnTo>
                            <a:pt x="100" y="313"/>
                          </a:lnTo>
                          <a:lnTo>
                            <a:pt x="59" y="252"/>
                          </a:lnTo>
                          <a:lnTo>
                            <a:pt x="22" y="174"/>
                          </a:lnTo>
                          <a:lnTo>
                            <a:pt x="4" y="125"/>
                          </a:lnTo>
                          <a:lnTo>
                            <a:pt x="0" y="94"/>
                          </a:lnTo>
                          <a:lnTo>
                            <a:pt x="5" y="56"/>
                          </a:lnTo>
                          <a:lnTo>
                            <a:pt x="12" y="38"/>
                          </a:lnTo>
                          <a:lnTo>
                            <a:pt x="39" y="40"/>
                          </a:lnTo>
                          <a:lnTo>
                            <a:pt x="83" y="44"/>
                          </a:lnTo>
                          <a:lnTo>
                            <a:pt x="113" y="50"/>
                          </a:lnTo>
                          <a:lnTo>
                            <a:pt x="112" y="57"/>
                          </a:lnTo>
                          <a:lnTo>
                            <a:pt x="88" y="59"/>
                          </a:lnTo>
                          <a:lnTo>
                            <a:pt x="40" y="55"/>
                          </a:lnTo>
                          <a:lnTo>
                            <a:pt x="22" y="64"/>
                          </a:lnTo>
                          <a:lnTo>
                            <a:pt x="17" y="82"/>
                          </a:lnTo>
                          <a:lnTo>
                            <a:pt x="17" y="115"/>
                          </a:lnTo>
                          <a:lnTo>
                            <a:pt x="33" y="155"/>
                          </a:lnTo>
                          <a:lnTo>
                            <a:pt x="56" y="202"/>
                          </a:lnTo>
                          <a:lnTo>
                            <a:pt x="83" y="255"/>
                          </a:lnTo>
                          <a:lnTo>
                            <a:pt x="104" y="287"/>
                          </a:lnTo>
                          <a:lnTo>
                            <a:pt x="129" y="310"/>
                          </a:lnTo>
                          <a:lnTo>
                            <a:pt x="158" y="313"/>
                          </a:lnTo>
                          <a:lnTo>
                            <a:pt x="217" y="310"/>
                          </a:lnTo>
                          <a:lnTo>
                            <a:pt x="269" y="292"/>
                          </a:lnTo>
                          <a:lnTo>
                            <a:pt x="317" y="264"/>
                          </a:lnTo>
                          <a:lnTo>
                            <a:pt x="354" y="248"/>
                          </a:lnTo>
                          <a:lnTo>
                            <a:pt x="370" y="228"/>
                          </a:lnTo>
                          <a:lnTo>
                            <a:pt x="387" y="201"/>
                          </a:lnTo>
                          <a:lnTo>
                            <a:pt x="391" y="155"/>
                          </a:lnTo>
                          <a:lnTo>
                            <a:pt x="398" y="107"/>
                          </a:lnTo>
                          <a:lnTo>
                            <a:pt x="399" y="70"/>
                          </a:lnTo>
                          <a:lnTo>
                            <a:pt x="397" y="39"/>
                          </a:lnTo>
                          <a:lnTo>
                            <a:pt x="399" y="21"/>
                          </a:lnTo>
                          <a:lnTo>
                            <a:pt x="362" y="35"/>
                          </a:lnTo>
                          <a:lnTo>
                            <a:pt x="331" y="44"/>
                          </a:lnTo>
                          <a:lnTo>
                            <a:pt x="298" y="52"/>
                          </a:lnTo>
                          <a:lnTo>
                            <a:pt x="261" y="55"/>
                          </a:lnTo>
                          <a:lnTo>
                            <a:pt x="219" y="58"/>
                          </a:lnTo>
                          <a:lnTo>
                            <a:pt x="185" y="58"/>
                          </a:lnTo>
                          <a:lnTo>
                            <a:pt x="184" y="48"/>
                          </a:lnTo>
                        </a:path>
                      </a:pathLst>
                    </a:custGeom>
                    <a:solidFill>
                      <a:srgbClr val="ad6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2284560" y="3640320"/>
                      <a:ext cx="185760" cy="18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83">
                          <a:moveTo>
                            <a:pt x="90" y="0"/>
                          </a:moveTo>
                          <a:lnTo>
                            <a:pt x="98" y="52"/>
                          </a:lnTo>
                          <a:lnTo>
                            <a:pt x="151" y="45"/>
                          </a:lnTo>
                          <a:lnTo>
                            <a:pt x="133" y="53"/>
                          </a:lnTo>
                          <a:lnTo>
                            <a:pt x="99" y="62"/>
                          </a:lnTo>
                          <a:lnTo>
                            <a:pt x="102" y="115"/>
                          </a:lnTo>
                          <a:lnTo>
                            <a:pt x="149" y="111"/>
                          </a:lnTo>
                          <a:lnTo>
                            <a:pt x="106" y="124"/>
                          </a:lnTo>
                          <a:lnTo>
                            <a:pt x="102" y="182"/>
                          </a:lnTo>
                          <a:lnTo>
                            <a:pt x="93" y="175"/>
                          </a:lnTo>
                          <a:lnTo>
                            <a:pt x="95" y="131"/>
                          </a:lnTo>
                          <a:lnTo>
                            <a:pt x="14" y="149"/>
                          </a:lnTo>
                          <a:lnTo>
                            <a:pt x="6" y="144"/>
                          </a:lnTo>
                          <a:lnTo>
                            <a:pt x="87" y="117"/>
                          </a:lnTo>
                          <a:lnTo>
                            <a:pt x="88" y="66"/>
                          </a:lnTo>
                          <a:lnTo>
                            <a:pt x="0" y="71"/>
                          </a:lnTo>
                          <a:lnTo>
                            <a:pt x="4" y="65"/>
                          </a:lnTo>
                          <a:lnTo>
                            <a:pt x="82" y="54"/>
                          </a:lnTo>
                          <a:lnTo>
                            <a:pt x="80" y="5"/>
                          </a:lnTo>
                          <a:lnTo>
                            <a:pt x="90" y="0"/>
                          </a:lnTo>
                        </a:path>
                      </a:pathLst>
                    </a:custGeom>
                    <a:solidFill>
                      <a:srgbClr val="ad6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2080800" y="3702960"/>
                      <a:ext cx="18936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73">
                          <a:moveTo>
                            <a:pt x="22" y="1"/>
                          </a:moveTo>
                          <a:lnTo>
                            <a:pt x="42" y="43"/>
                          </a:lnTo>
                          <a:lnTo>
                            <a:pt x="0" y="63"/>
                          </a:lnTo>
                          <a:lnTo>
                            <a:pt x="47" y="52"/>
                          </a:lnTo>
                          <a:lnTo>
                            <a:pt x="68" y="102"/>
                          </a:lnTo>
                          <a:lnTo>
                            <a:pt x="24" y="125"/>
                          </a:lnTo>
                          <a:lnTo>
                            <a:pt x="28" y="129"/>
                          </a:lnTo>
                          <a:lnTo>
                            <a:pt x="75" y="113"/>
                          </a:lnTo>
                          <a:lnTo>
                            <a:pt x="110" y="172"/>
                          </a:lnTo>
                          <a:lnTo>
                            <a:pt x="117" y="167"/>
                          </a:lnTo>
                          <a:lnTo>
                            <a:pt x="88" y="115"/>
                          </a:lnTo>
                          <a:lnTo>
                            <a:pt x="130" y="99"/>
                          </a:lnTo>
                          <a:lnTo>
                            <a:pt x="120" y="91"/>
                          </a:lnTo>
                          <a:lnTo>
                            <a:pt x="79" y="104"/>
                          </a:lnTo>
                          <a:lnTo>
                            <a:pt x="57" y="51"/>
                          </a:lnTo>
                          <a:lnTo>
                            <a:pt x="154" y="19"/>
                          </a:lnTo>
                          <a:lnTo>
                            <a:pt x="136" y="16"/>
                          </a:lnTo>
                          <a:lnTo>
                            <a:pt x="58" y="42"/>
                          </a:lnTo>
                          <a:lnTo>
                            <a:pt x="33" y="0"/>
                          </a:lnTo>
                          <a:lnTo>
                            <a:pt x="22" y="1"/>
                          </a:lnTo>
                        </a:path>
                      </a:pathLst>
                    </a:custGeom>
                    <a:solidFill>
                      <a:srgbClr val="ad6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2255760" y="3661920"/>
                      <a:ext cx="31320" cy="10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02">
                          <a:moveTo>
                            <a:pt x="25" y="101"/>
                          </a:moveTo>
                          <a:lnTo>
                            <a:pt x="6" y="54"/>
                          </a:lnTo>
                          <a:lnTo>
                            <a:pt x="0" y="0"/>
                          </a:lnTo>
                          <a:lnTo>
                            <a:pt x="9" y="8"/>
                          </a:lnTo>
                          <a:lnTo>
                            <a:pt x="22" y="53"/>
                          </a:lnTo>
                          <a:lnTo>
                            <a:pt x="25" y="101"/>
                          </a:lnTo>
                        </a:path>
                      </a:pathLst>
                    </a:custGeom>
                    <a:solidFill>
                      <a:srgbClr val="ad6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1981080" y="3191400"/>
                  <a:ext cx="538560" cy="426600"/>
                  <a:chOff x="1981080" y="3191400"/>
                  <a:chExt cx="538560" cy="4266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981080" y="3191400"/>
                    <a:ext cx="538560" cy="42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418">
                        <a:moveTo>
                          <a:pt x="26" y="399"/>
                        </a:moveTo>
                        <a:lnTo>
                          <a:pt x="21" y="388"/>
                        </a:lnTo>
                        <a:lnTo>
                          <a:pt x="15" y="375"/>
                        </a:lnTo>
                        <a:lnTo>
                          <a:pt x="18" y="360"/>
                        </a:lnTo>
                        <a:lnTo>
                          <a:pt x="32" y="352"/>
                        </a:lnTo>
                        <a:lnTo>
                          <a:pt x="47" y="355"/>
                        </a:lnTo>
                        <a:lnTo>
                          <a:pt x="59" y="349"/>
                        </a:lnTo>
                        <a:lnTo>
                          <a:pt x="69" y="341"/>
                        </a:lnTo>
                        <a:lnTo>
                          <a:pt x="85" y="330"/>
                        </a:lnTo>
                        <a:lnTo>
                          <a:pt x="102" y="335"/>
                        </a:lnTo>
                        <a:lnTo>
                          <a:pt x="113" y="351"/>
                        </a:lnTo>
                        <a:lnTo>
                          <a:pt x="112" y="369"/>
                        </a:lnTo>
                        <a:lnTo>
                          <a:pt x="123" y="374"/>
                        </a:lnTo>
                        <a:lnTo>
                          <a:pt x="133" y="373"/>
                        </a:lnTo>
                        <a:lnTo>
                          <a:pt x="136" y="361"/>
                        </a:lnTo>
                        <a:lnTo>
                          <a:pt x="127" y="337"/>
                        </a:lnTo>
                        <a:lnTo>
                          <a:pt x="106" y="322"/>
                        </a:lnTo>
                        <a:lnTo>
                          <a:pt x="86" y="316"/>
                        </a:lnTo>
                        <a:lnTo>
                          <a:pt x="68" y="319"/>
                        </a:lnTo>
                        <a:lnTo>
                          <a:pt x="51" y="325"/>
                        </a:lnTo>
                        <a:lnTo>
                          <a:pt x="51" y="309"/>
                        </a:lnTo>
                        <a:lnTo>
                          <a:pt x="44" y="295"/>
                        </a:lnTo>
                        <a:lnTo>
                          <a:pt x="30" y="278"/>
                        </a:lnTo>
                        <a:lnTo>
                          <a:pt x="24" y="271"/>
                        </a:lnTo>
                        <a:lnTo>
                          <a:pt x="25" y="261"/>
                        </a:lnTo>
                        <a:lnTo>
                          <a:pt x="31" y="246"/>
                        </a:lnTo>
                        <a:lnTo>
                          <a:pt x="45" y="245"/>
                        </a:lnTo>
                        <a:lnTo>
                          <a:pt x="63" y="242"/>
                        </a:lnTo>
                        <a:lnTo>
                          <a:pt x="78" y="239"/>
                        </a:lnTo>
                        <a:lnTo>
                          <a:pt x="91" y="232"/>
                        </a:lnTo>
                        <a:lnTo>
                          <a:pt x="94" y="218"/>
                        </a:lnTo>
                        <a:lnTo>
                          <a:pt x="87" y="198"/>
                        </a:lnTo>
                        <a:lnTo>
                          <a:pt x="85" y="181"/>
                        </a:lnTo>
                        <a:lnTo>
                          <a:pt x="87" y="175"/>
                        </a:lnTo>
                        <a:lnTo>
                          <a:pt x="101" y="169"/>
                        </a:lnTo>
                        <a:lnTo>
                          <a:pt x="129" y="169"/>
                        </a:lnTo>
                        <a:lnTo>
                          <a:pt x="136" y="164"/>
                        </a:lnTo>
                        <a:lnTo>
                          <a:pt x="140" y="149"/>
                        </a:lnTo>
                        <a:lnTo>
                          <a:pt x="124" y="126"/>
                        </a:lnTo>
                        <a:lnTo>
                          <a:pt x="113" y="96"/>
                        </a:lnTo>
                        <a:lnTo>
                          <a:pt x="112" y="83"/>
                        </a:lnTo>
                        <a:lnTo>
                          <a:pt x="115" y="70"/>
                        </a:lnTo>
                        <a:lnTo>
                          <a:pt x="131" y="56"/>
                        </a:lnTo>
                        <a:lnTo>
                          <a:pt x="160" y="52"/>
                        </a:lnTo>
                        <a:lnTo>
                          <a:pt x="170" y="51"/>
                        </a:lnTo>
                        <a:lnTo>
                          <a:pt x="173" y="37"/>
                        </a:lnTo>
                        <a:lnTo>
                          <a:pt x="181" y="19"/>
                        </a:lnTo>
                        <a:lnTo>
                          <a:pt x="199" y="16"/>
                        </a:lnTo>
                        <a:lnTo>
                          <a:pt x="202" y="30"/>
                        </a:lnTo>
                        <a:lnTo>
                          <a:pt x="204" y="41"/>
                        </a:lnTo>
                        <a:lnTo>
                          <a:pt x="204" y="55"/>
                        </a:lnTo>
                        <a:lnTo>
                          <a:pt x="216" y="68"/>
                        </a:lnTo>
                        <a:lnTo>
                          <a:pt x="233" y="79"/>
                        </a:lnTo>
                        <a:lnTo>
                          <a:pt x="250" y="82"/>
                        </a:lnTo>
                        <a:lnTo>
                          <a:pt x="267" y="83"/>
                        </a:lnTo>
                        <a:lnTo>
                          <a:pt x="280" y="87"/>
                        </a:lnTo>
                        <a:lnTo>
                          <a:pt x="291" y="93"/>
                        </a:lnTo>
                        <a:lnTo>
                          <a:pt x="304" y="105"/>
                        </a:lnTo>
                        <a:lnTo>
                          <a:pt x="307" y="121"/>
                        </a:lnTo>
                        <a:lnTo>
                          <a:pt x="301" y="137"/>
                        </a:lnTo>
                        <a:lnTo>
                          <a:pt x="294" y="148"/>
                        </a:lnTo>
                        <a:lnTo>
                          <a:pt x="283" y="152"/>
                        </a:lnTo>
                        <a:lnTo>
                          <a:pt x="262" y="156"/>
                        </a:lnTo>
                        <a:lnTo>
                          <a:pt x="253" y="165"/>
                        </a:lnTo>
                        <a:lnTo>
                          <a:pt x="242" y="184"/>
                        </a:lnTo>
                        <a:lnTo>
                          <a:pt x="238" y="206"/>
                        </a:lnTo>
                        <a:lnTo>
                          <a:pt x="236" y="214"/>
                        </a:lnTo>
                        <a:lnTo>
                          <a:pt x="227" y="220"/>
                        </a:lnTo>
                        <a:lnTo>
                          <a:pt x="213" y="218"/>
                        </a:lnTo>
                        <a:lnTo>
                          <a:pt x="195" y="226"/>
                        </a:lnTo>
                        <a:lnTo>
                          <a:pt x="190" y="239"/>
                        </a:lnTo>
                        <a:lnTo>
                          <a:pt x="185" y="259"/>
                        </a:lnTo>
                        <a:lnTo>
                          <a:pt x="174" y="264"/>
                        </a:lnTo>
                        <a:lnTo>
                          <a:pt x="162" y="261"/>
                        </a:lnTo>
                        <a:lnTo>
                          <a:pt x="154" y="271"/>
                        </a:lnTo>
                        <a:lnTo>
                          <a:pt x="161" y="279"/>
                        </a:lnTo>
                        <a:lnTo>
                          <a:pt x="182" y="277"/>
                        </a:lnTo>
                        <a:lnTo>
                          <a:pt x="197" y="270"/>
                        </a:lnTo>
                        <a:lnTo>
                          <a:pt x="205" y="253"/>
                        </a:lnTo>
                        <a:lnTo>
                          <a:pt x="205" y="242"/>
                        </a:lnTo>
                        <a:lnTo>
                          <a:pt x="216" y="238"/>
                        </a:lnTo>
                        <a:lnTo>
                          <a:pt x="234" y="236"/>
                        </a:lnTo>
                        <a:lnTo>
                          <a:pt x="245" y="229"/>
                        </a:lnTo>
                        <a:lnTo>
                          <a:pt x="255" y="208"/>
                        </a:lnTo>
                        <a:lnTo>
                          <a:pt x="258" y="190"/>
                        </a:lnTo>
                        <a:lnTo>
                          <a:pt x="262" y="173"/>
                        </a:lnTo>
                        <a:lnTo>
                          <a:pt x="273" y="165"/>
                        </a:lnTo>
                        <a:lnTo>
                          <a:pt x="295" y="161"/>
                        </a:lnTo>
                        <a:lnTo>
                          <a:pt x="304" y="165"/>
                        </a:lnTo>
                        <a:lnTo>
                          <a:pt x="306" y="177"/>
                        </a:lnTo>
                        <a:lnTo>
                          <a:pt x="292" y="191"/>
                        </a:lnTo>
                        <a:lnTo>
                          <a:pt x="294" y="202"/>
                        </a:lnTo>
                        <a:lnTo>
                          <a:pt x="310" y="199"/>
                        </a:lnTo>
                        <a:lnTo>
                          <a:pt x="320" y="183"/>
                        </a:lnTo>
                        <a:lnTo>
                          <a:pt x="317" y="165"/>
                        </a:lnTo>
                        <a:lnTo>
                          <a:pt x="316" y="159"/>
                        </a:lnTo>
                        <a:lnTo>
                          <a:pt x="335" y="163"/>
                        </a:lnTo>
                        <a:lnTo>
                          <a:pt x="344" y="176"/>
                        </a:lnTo>
                        <a:lnTo>
                          <a:pt x="336" y="193"/>
                        </a:lnTo>
                        <a:lnTo>
                          <a:pt x="328" y="212"/>
                        </a:lnTo>
                        <a:lnTo>
                          <a:pt x="329" y="227"/>
                        </a:lnTo>
                        <a:lnTo>
                          <a:pt x="336" y="242"/>
                        </a:lnTo>
                        <a:lnTo>
                          <a:pt x="353" y="252"/>
                        </a:lnTo>
                        <a:lnTo>
                          <a:pt x="364" y="266"/>
                        </a:lnTo>
                        <a:lnTo>
                          <a:pt x="370" y="281"/>
                        </a:lnTo>
                        <a:lnTo>
                          <a:pt x="366" y="294"/>
                        </a:lnTo>
                        <a:lnTo>
                          <a:pt x="367" y="309"/>
                        </a:lnTo>
                        <a:lnTo>
                          <a:pt x="384" y="320"/>
                        </a:lnTo>
                        <a:lnTo>
                          <a:pt x="404" y="323"/>
                        </a:lnTo>
                        <a:lnTo>
                          <a:pt x="415" y="334"/>
                        </a:lnTo>
                        <a:lnTo>
                          <a:pt x="422" y="354"/>
                        </a:lnTo>
                        <a:lnTo>
                          <a:pt x="422" y="373"/>
                        </a:lnTo>
                        <a:lnTo>
                          <a:pt x="415" y="386"/>
                        </a:lnTo>
                        <a:lnTo>
                          <a:pt x="413" y="396"/>
                        </a:lnTo>
                        <a:lnTo>
                          <a:pt x="415" y="403"/>
                        </a:lnTo>
                        <a:lnTo>
                          <a:pt x="424" y="401"/>
                        </a:lnTo>
                        <a:lnTo>
                          <a:pt x="437" y="381"/>
                        </a:lnTo>
                        <a:lnTo>
                          <a:pt x="440" y="357"/>
                        </a:lnTo>
                        <a:lnTo>
                          <a:pt x="436" y="335"/>
                        </a:lnTo>
                        <a:lnTo>
                          <a:pt x="425" y="315"/>
                        </a:lnTo>
                        <a:lnTo>
                          <a:pt x="417" y="310"/>
                        </a:lnTo>
                        <a:lnTo>
                          <a:pt x="402" y="307"/>
                        </a:lnTo>
                        <a:lnTo>
                          <a:pt x="390" y="308"/>
                        </a:lnTo>
                        <a:lnTo>
                          <a:pt x="377" y="302"/>
                        </a:lnTo>
                        <a:lnTo>
                          <a:pt x="377" y="289"/>
                        </a:lnTo>
                        <a:lnTo>
                          <a:pt x="384" y="275"/>
                        </a:lnTo>
                        <a:lnTo>
                          <a:pt x="377" y="260"/>
                        </a:lnTo>
                        <a:lnTo>
                          <a:pt x="358" y="236"/>
                        </a:lnTo>
                        <a:lnTo>
                          <a:pt x="345" y="231"/>
                        </a:lnTo>
                        <a:lnTo>
                          <a:pt x="341" y="221"/>
                        </a:lnTo>
                        <a:lnTo>
                          <a:pt x="345" y="209"/>
                        </a:lnTo>
                        <a:lnTo>
                          <a:pt x="354" y="189"/>
                        </a:lnTo>
                        <a:lnTo>
                          <a:pt x="362" y="171"/>
                        </a:lnTo>
                        <a:lnTo>
                          <a:pt x="356" y="160"/>
                        </a:lnTo>
                        <a:lnTo>
                          <a:pt x="335" y="149"/>
                        </a:lnTo>
                        <a:lnTo>
                          <a:pt x="312" y="145"/>
                        </a:lnTo>
                        <a:lnTo>
                          <a:pt x="320" y="124"/>
                        </a:lnTo>
                        <a:lnTo>
                          <a:pt x="320" y="108"/>
                        </a:lnTo>
                        <a:lnTo>
                          <a:pt x="316" y="95"/>
                        </a:lnTo>
                        <a:lnTo>
                          <a:pt x="304" y="81"/>
                        </a:lnTo>
                        <a:lnTo>
                          <a:pt x="288" y="73"/>
                        </a:lnTo>
                        <a:lnTo>
                          <a:pt x="272" y="73"/>
                        </a:lnTo>
                        <a:lnTo>
                          <a:pt x="256" y="69"/>
                        </a:lnTo>
                        <a:lnTo>
                          <a:pt x="241" y="67"/>
                        </a:lnTo>
                        <a:lnTo>
                          <a:pt x="228" y="60"/>
                        </a:lnTo>
                        <a:lnTo>
                          <a:pt x="220" y="45"/>
                        </a:lnTo>
                        <a:lnTo>
                          <a:pt x="213" y="25"/>
                        </a:lnTo>
                        <a:lnTo>
                          <a:pt x="209" y="15"/>
                        </a:lnTo>
                        <a:lnTo>
                          <a:pt x="206" y="4"/>
                        </a:lnTo>
                        <a:lnTo>
                          <a:pt x="194" y="0"/>
                        </a:lnTo>
                        <a:lnTo>
                          <a:pt x="180" y="5"/>
                        </a:lnTo>
                        <a:lnTo>
                          <a:pt x="167" y="14"/>
                        </a:lnTo>
                        <a:lnTo>
                          <a:pt x="161" y="28"/>
                        </a:lnTo>
                        <a:lnTo>
                          <a:pt x="156" y="37"/>
                        </a:lnTo>
                        <a:lnTo>
                          <a:pt x="134" y="42"/>
                        </a:lnTo>
                        <a:lnTo>
                          <a:pt x="122" y="50"/>
                        </a:lnTo>
                        <a:lnTo>
                          <a:pt x="105" y="57"/>
                        </a:lnTo>
                        <a:lnTo>
                          <a:pt x="98" y="74"/>
                        </a:lnTo>
                        <a:lnTo>
                          <a:pt x="96" y="89"/>
                        </a:lnTo>
                        <a:lnTo>
                          <a:pt x="98" y="108"/>
                        </a:lnTo>
                        <a:lnTo>
                          <a:pt x="108" y="126"/>
                        </a:lnTo>
                        <a:lnTo>
                          <a:pt x="120" y="148"/>
                        </a:lnTo>
                        <a:lnTo>
                          <a:pt x="116" y="154"/>
                        </a:lnTo>
                        <a:lnTo>
                          <a:pt x="100" y="157"/>
                        </a:lnTo>
                        <a:lnTo>
                          <a:pt x="77" y="167"/>
                        </a:lnTo>
                        <a:lnTo>
                          <a:pt x="66" y="181"/>
                        </a:lnTo>
                        <a:lnTo>
                          <a:pt x="63" y="196"/>
                        </a:lnTo>
                        <a:lnTo>
                          <a:pt x="74" y="219"/>
                        </a:lnTo>
                        <a:lnTo>
                          <a:pt x="68" y="224"/>
                        </a:lnTo>
                        <a:lnTo>
                          <a:pt x="46" y="228"/>
                        </a:lnTo>
                        <a:lnTo>
                          <a:pt x="26" y="234"/>
                        </a:lnTo>
                        <a:lnTo>
                          <a:pt x="13" y="247"/>
                        </a:lnTo>
                        <a:lnTo>
                          <a:pt x="7" y="260"/>
                        </a:lnTo>
                        <a:lnTo>
                          <a:pt x="6" y="277"/>
                        </a:lnTo>
                        <a:lnTo>
                          <a:pt x="14" y="292"/>
                        </a:lnTo>
                        <a:lnTo>
                          <a:pt x="26" y="301"/>
                        </a:lnTo>
                        <a:lnTo>
                          <a:pt x="33" y="317"/>
                        </a:lnTo>
                        <a:lnTo>
                          <a:pt x="35" y="331"/>
                        </a:lnTo>
                        <a:lnTo>
                          <a:pt x="22" y="337"/>
                        </a:lnTo>
                        <a:lnTo>
                          <a:pt x="8" y="345"/>
                        </a:lnTo>
                        <a:lnTo>
                          <a:pt x="0" y="364"/>
                        </a:lnTo>
                        <a:lnTo>
                          <a:pt x="2" y="386"/>
                        </a:lnTo>
                        <a:lnTo>
                          <a:pt x="6" y="404"/>
                        </a:lnTo>
                        <a:lnTo>
                          <a:pt x="16" y="415"/>
                        </a:lnTo>
                        <a:lnTo>
                          <a:pt x="27" y="417"/>
                        </a:lnTo>
                        <a:lnTo>
                          <a:pt x="33" y="412"/>
                        </a:lnTo>
                        <a:lnTo>
                          <a:pt x="26" y="39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255760" y="3512880"/>
                    <a:ext cx="972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8">
                        <a:moveTo>
                          <a:pt x="12" y="57"/>
                        </a:moveTo>
                        <a:lnTo>
                          <a:pt x="0" y="37"/>
                        </a:lnTo>
                        <a:lnTo>
                          <a:pt x="16" y="15"/>
                        </a:lnTo>
                        <a:lnTo>
                          <a:pt x="36" y="5"/>
                        </a:lnTo>
                        <a:lnTo>
                          <a:pt x="57" y="0"/>
                        </a:lnTo>
                        <a:lnTo>
                          <a:pt x="72" y="7"/>
                        </a:lnTo>
                        <a:lnTo>
                          <a:pt x="79" y="22"/>
                        </a:lnTo>
                        <a:lnTo>
                          <a:pt x="71" y="34"/>
                        </a:lnTo>
                        <a:lnTo>
                          <a:pt x="58" y="28"/>
                        </a:lnTo>
                        <a:lnTo>
                          <a:pt x="41" y="24"/>
                        </a:lnTo>
                        <a:lnTo>
                          <a:pt x="24" y="35"/>
                        </a:lnTo>
                        <a:lnTo>
                          <a:pt x="31" y="48"/>
                        </a:lnTo>
                        <a:lnTo>
                          <a:pt x="12" y="5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8" name=""/>
              <p:cNvSpPr/>
              <p:nvPr/>
            </p:nvSpPr>
            <p:spPr>
              <a:xfrm>
                <a:off x="2100960" y="3439440"/>
                <a:ext cx="695880" cy="502560"/>
              </a:xfrm>
              <a:custGeom>
                <a:avLst/>
                <a:gdLst/>
                <a:ahLst/>
                <a:rect l="l" t="t" r="r" b="b"/>
                <a:pathLst>
                  <a:path w="570" h="492">
                    <a:moveTo>
                      <a:pt x="510" y="8"/>
                    </a:moveTo>
                    <a:lnTo>
                      <a:pt x="534" y="0"/>
                    </a:lnTo>
                    <a:lnTo>
                      <a:pt x="562" y="20"/>
                    </a:lnTo>
                    <a:lnTo>
                      <a:pt x="569" y="60"/>
                    </a:lnTo>
                    <a:lnTo>
                      <a:pt x="560" y="99"/>
                    </a:lnTo>
                    <a:lnTo>
                      <a:pt x="510" y="178"/>
                    </a:lnTo>
                    <a:lnTo>
                      <a:pt x="439" y="257"/>
                    </a:lnTo>
                    <a:lnTo>
                      <a:pt x="360" y="318"/>
                    </a:lnTo>
                    <a:lnTo>
                      <a:pt x="331" y="341"/>
                    </a:lnTo>
                    <a:lnTo>
                      <a:pt x="303" y="345"/>
                    </a:lnTo>
                    <a:lnTo>
                      <a:pt x="251" y="360"/>
                    </a:lnTo>
                    <a:lnTo>
                      <a:pt x="183" y="373"/>
                    </a:lnTo>
                    <a:lnTo>
                      <a:pt x="124" y="403"/>
                    </a:lnTo>
                    <a:lnTo>
                      <a:pt x="89" y="421"/>
                    </a:lnTo>
                    <a:lnTo>
                      <a:pt x="73" y="442"/>
                    </a:lnTo>
                    <a:lnTo>
                      <a:pt x="61" y="464"/>
                    </a:lnTo>
                    <a:lnTo>
                      <a:pt x="44" y="486"/>
                    </a:lnTo>
                    <a:lnTo>
                      <a:pt x="23" y="491"/>
                    </a:lnTo>
                    <a:lnTo>
                      <a:pt x="12" y="472"/>
                    </a:lnTo>
                    <a:lnTo>
                      <a:pt x="12" y="448"/>
                    </a:lnTo>
                    <a:lnTo>
                      <a:pt x="0" y="437"/>
                    </a:lnTo>
                    <a:lnTo>
                      <a:pt x="1" y="411"/>
                    </a:lnTo>
                    <a:lnTo>
                      <a:pt x="28" y="390"/>
                    </a:lnTo>
                    <a:lnTo>
                      <a:pt x="40" y="383"/>
                    </a:lnTo>
                    <a:lnTo>
                      <a:pt x="63" y="376"/>
                    </a:lnTo>
                    <a:lnTo>
                      <a:pt x="74" y="353"/>
                    </a:lnTo>
                    <a:lnTo>
                      <a:pt x="65" y="319"/>
                    </a:lnTo>
                    <a:lnTo>
                      <a:pt x="49" y="293"/>
                    </a:lnTo>
                    <a:lnTo>
                      <a:pt x="61" y="272"/>
                    </a:lnTo>
                    <a:lnTo>
                      <a:pt x="91" y="277"/>
                    </a:lnTo>
                    <a:lnTo>
                      <a:pt x="92" y="299"/>
                    </a:lnTo>
                    <a:lnTo>
                      <a:pt x="92" y="329"/>
                    </a:lnTo>
                    <a:lnTo>
                      <a:pt x="98" y="357"/>
                    </a:lnTo>
                    <a:lnTo>
                      <a:pt x="109" y="366"/>
                    </a:lnTo>
                    <a:lnTo>
                      <a:pt x="140" y="360"/>
                    </a:lnTo>
                    <a:lnTo>
                      <a:pt x="171" y="343"/>
                    </a:lnTo>
                    <a:lnTo>
                      <a:pt x="232" y="319"/>
                    </a:lnTo>
                    <a:lnTo>
                      <a:pt x="279" y="301"/>
                    </a:lnTo>
                    <a:lnTo>
                      <a:pt x="312" y="294"/>
                    </a:lnTo>
                    <a:lnTo>
                      <a:pt x="360" y="247"/>
                    </a:lnTo>
                    <a:lnTo>
                      <a:pt x="415" y="187"/>
                    </a:lnTo>
                    <a:lnTo>
                      <a:pt x="450" y="142"/>
                    </a:lnTo>
                    <a:lnTo>
                      <a:pt x="483" y="72"/>
                    </a:lnTo>
                    <a:lnTo>
                      <a:pt x="51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477160" y="3412800"/>
                <a:ext cx="313560" cy="477720"/>
              </a:xfrm>
              <a:custGeom>
                <a:avLst/>
                <a:gdLst/>
                <a:ahLst/>
                <a:rect l="l" t="t" r="r" b="b"/>
                <a:pathLst>
                  <a:path w="257" h="468">
                    <a:moveTo>
                      <a:pt x="44" y="163"/>
                    </a:moveTo>
                    <a:lnTo>
                      <a:pt x="63" y="115"/>
                    </a:lnTo>
                    <a:lnTo>
                      <a:pt x="88" y="78"/>
                    </a:lnTo>
                    <a:lnTo>
                      <a:pt x="115" y="41"/>
                    </a:lnTo>
                    <a:lnTo>
                      <a:pt x="140" y="18"/>
                    </a:lnTo>
                    <a:lnTo>
                      <a:pt x="172" y="3"/>
                    </a:lnTo>
                    <a:lnTo>
                      <a:pt x="192" y="0"/>
                    </a:lnTo>
                    <a:lnTo>
                      <a:pt x="218" y="4"/>
                    </a:lnTo>
                    <a:lnTo>
                      <a:pt x="238" y="17"/>
                    </a:lnTo>
                    <a:lnTo>
                      <a:pt x="254" y="38"/>
                    </a:lnTo>
                    <a:lnTo>
                      <a:pt x="256" y="61"/>
                    </a:lnTo>
                    <a:lnTo>
                      <a:pt x="252" y="98"/>
                    </a:lnTo>
                    <a:lnTo>
                      <a:pt x="235" y="134"/>
                    </a:lnTo>
                    <a:lnTo>
                      <a:pt x="212" y="175"/>
                    </a:lnTo>
                    <a:lnTo>
                      <a:pt x="209" y="208"/>
                    </a:lnTo>
                    <a:lnTo>
                      <a:pt x="202" y="238"/>
                    </a:lnTo>
                    <a:lnTo>
                      <a:pt x="205" y="277"/>
                    </a:lnTo>
                    <a:lnTo>
                      <a:pt x="218" y="316"/>
                    </a:lnTo>
                    <a:lnTo>
                      <a:pt x="218" y="349"/>
                    </a:lnTo>
                    <a:lnTo>
                      <a:pt x="211" y="385"/>
                    </a:lnTo>
                    <a:lnTo>
                      <a:pt x="196" y="417"/>
                    </a:lnTo>
                    <a:lnTo>
                      <a:pt x="179" y="442"/>
                    </a:lnTo>
                    <a:lnTo>
                      <a:pt x="150" y="463"/>
                    </a:lnTo>
                    <a:lnTo>
                      <a:pt x="115" y="467"/>
                    </a:lnTo>
                    <a:lnTo>
                      <a:pt x="86" y="463"/>
                    </a:lnTo>
                    <a:lnTo>
                      <a:pt x="62" y="451"/>
                    </a:lnTo>
                    <a:lnTo>
                      <a:pt x="30" y="426"/>
                    </a:lnTo>
                    <a:lnTo>
                      <a:pt x="8" y="400"/>
                    </a:lnTo>
                    <a:lnTo>
                      <a:pt x="0" y="367"/>
                    </a:lnTo>
                    <a:lnTo>
                      <a:pt x="4" y="340"/>
                    </a:lnTo>
                    <a:lnTo>
                      <a:pt x="15" y="300"/>
                    </a:lnTo>
                    <a:lnTo>
                      <a:pt x="37" y="248"/>
                    </a:lnTo>
                    <a:lnTo>
                      <a:pt x="42" y="206"/>
                    </a:lnTo>
                    <a:lnTo>
                      <a:pt x="44" y="16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567520" y="3807360"/>
              <a:ext cx="312840" cy="602640"/>
            </a:xfrm>
            <a:custGeom>
              <a:avLst/>
              <a:gdLst/>
              <a:ahLst/>
              <a:rect l="l" t="t" r="r" b="b"/>
              <a:pathLst>
                <a:path w="256" h="590">
                  <a:moveTo>
                    <a:pt x="25" y="0"/>
                  </a:moveTo>
                  <a:lnTo>
                    <a:pt x="57" y="0"/>
                  </a:lnTo>
                  <a:lnTo>
                    <a:pt x="87" y="30"/>
                  </a:lnTo>
                  <a:lnTo>
                    <a:pt x="117" y="104"/>
                  </a:lnTo>
                  <a:lnTo>
                    <a:pt x="145" y="171"/>
                  </a:lnTo>
                  <a:lnTo>
                    <a:pt x="162" y="231"/>
                  </a:lnTo>
                  <a:lnTo>
                    <a:pt x="162" y="266"/>
                  </a:lnTo>
                  <a:lnTo>
                    <a:pt x="145" y="302"/>
                  </a:lnTo>
                  <a:lnTo>
                    <a:pt x="110" y="369"/>
                  </a:lnTo>
                  <a:lnTo>
                    <a:pt x="75" y="441"/>
                  </a:lnTo>
                  <a:lnTo>
                    <a:pt x="67" y="479"/>
                  </a:lnTo>
                  <a:lnTo>
                    <a:pt x="75" y="505"/>
                  </a:lnTo>
                  <a:lnTo>
                    <a:pt x="85" y="510"/>
                  </a:lnTo>
                  <a:lnTo>
                    <a:pt x="122" y="515"/>
                  </a:lnTo>
                  <a:lnTo>
                    <a:pt x="197" y="529"/>
                  </a:lnTo>
                  <a:lnTo>
                    <a:pt x="240" y="544"/>
                  </a:lnTo>
                  <a:lnTo>
                    <a:pt x="255" y="554"/>
                  </a:lnTo>
                  <a:lnTo>
                    <a:pt x="245" y="567"/>
                  </a:lnTo>
                  <a:lnTo>
                    <a:pt x="207" y="587"/>
                  </a:lnTo>
                  <a:lnTo>
                    <a:pt x="185" y="589"/>
                  </a:lnTo>
                  <a:lnTo>
                    <a:pt x="162" y="582"/>
                  </a:lnTo>
                  <a:lnTo>
                    <a:pt x="127" y="554"/>
                  </a:lnTo>
                  <a:lnTo>
                    <a:pt x="80" y="544"/>
                  </a:lnTo>
                  <a:lnTo>
                    <a:pt x="42" y="549"/>
                  </a:lnTo>
                  <a:lnTo>
                    <a:pt x="17" y="545"/>
                  </a:lnTo>
                  <a:lnTo>
                    <a:pt x="5" y="535"/>
                  </a:lnTo>
                  <a:lnTo>
                    <a:pt x="10" y="509"/>
                  </a:lnTo>
                  <a:lnTo>
                    <a:pt x="17" y="476"/>
                  </a:lnTo>
                  <a:lnTo>
                    <a:pt x="35" y="439"/>
                  </a:lnTo>
                  <a:lnTo>
                    <a:pt x="45" y="411"/>
                  </a:lnTo>
                  <a:lnTo>
                    <a:pt x="62" y="356"/>
                  </a:lnTo>
                  <a:lnTo>
                    <a:pt x="82" y="311"/>
                  </a:lnTo>
                  <a:lnTo>
                    <a:pt x="97" y="276"/>
                  </a:lnTo>
                  <a:lnTo>
                    <a:pt x="110" y="246"/>
                  </a:lnTo>
                  <a:lnTo>
                    <a:pt x="105" y="223"/>
                  </a:lnTo>
                  <a:lnTo>
                    <a:pt x="85" y="198"/>
                  </a:lnTo>
                  <a:lnTo>
                    <a:pt x="52" y="143"/>
                  </a:lnTo>
                  <a:lnTo>
                    <a:pt x="15" y="98"/>
                  </a:lnTo>
                  <a:lnTo>
                    <a:pt x="0" y="53"/>
                  </a:lnTo>
                  <a:lnTo>
                    <a:pt x="10" y="18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59800" y="3781800"/>
              <a:ext cx="222480" cy="699480"/>
            </a:xfrm>
            <a:custGeom>
              <a:avLst/>
              <a:gdLst/>
              <a:ahLst/>
              <a:rect l="l" t="t" r="r" b="b"/>
              <a:pathLst>
                <a:path w="182" h="685">
                  <a:moveTo>
                    <a:pt x="81" y="78"/>
                  </a:moveTo>
                  <a:lnTo>
                    <a:pt x="97" y="37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62" y="9"/>
                  </a:lnTo>
                  <a:lnTo>
                    <a:pt x="181" y="46"/>
                  </a:lnTo>
                  <a:lnTo>
                    <a:pt x="165" y="87"/>
                  </a:lnTo>
                  <a:lnTo>
                    <a:pt x="148" y="136"/>
                  </a:lnTo>
                  <a:lnTo>
                    <a:pt x="128" y="210"/>
                  </a:lnTo>
                  <a:lnTo>
                    <a:pt x="119" y="271"/>
                  </a:lnTo>
                  <a:lnTo>
                    <a:pt x="114" y="330"/>
                  </a:lnTo>
                  <a:lnTo>
                    <a:pt x="125" y="410"/>
                  </a:lnTo>
                  <a:lnTo>
                    <a:pt x="120" y="453"/>
                  </a:lnTo>
                  <a:lnTo>
                    <a:pt x="114" y="485"/>
                  </a:lnTo>
                  <a:lnTo>
                    <a:pt x="111" y="520"/>
                  </a:lnTo>
                  <a:lnTo>
                    <a:pt x="123" y="554"/>
                  </a:lnTo>
                  <a:lnTo>
                    <a:pt x="128" y="579"/>
                  </a:lnTo>
                  <a:lnTo>
                    <a:pt x="116" y="594"/>
                  </a:lnTo>
                  <a:lnTo>
                    <a:pt x="90" y="620"/>
                  </a:lnTo>
                  <a:lnTo>
                    <a:pt x="81" y="652"/>
                  </a:lnTo>
                  <a:lnTo>
                    <a:pt x="68" y="676"/>
                  </a:lnTo>
                  <a:lnTo>
                    <a:pt x="47" y="684"/>
                  </a:lnTo>
                  <a:lnTo>
                    <a:pt x="11" y="663"/>
                  </a:lnTo>
                  <a:lnTo>
                    <a:pt x="0" y="652"/>
                  </a:lnTo>
                  <a:lnTo>
                    <a:pt x="5" y="626"/>
                  </a:lnTo>
                  <a:lnTo>
                    <a:pt x="25" y="617"/>
                  </a:lnTo>
                  <a:lnTo>
                    <a:pt x="54" y="592"/>
                  </a:lnTo>
                  <a:lnTo>
                    <a:pt x="71" y="561"/>
                  </a:lnTo>
                  <a:lnTo>
                    <a:pt x="76" y="520"/>
                  </a:lnTo>
                  <a:lnTo>
                    <a:pt x="71" y="479"/>
                  </a:lnTo>
                  <a:lnTo>
                    <a:pt x="68" y="421"/>
                  </a:lnTo>
                  <a:lnTo>
                    <a:pt x="63" y="347"/>
                  </a:lnTo>
                  <a:lnTo>
                    <a:pt x="62" y="283"/>
                  </a:lnTo>
                  <a:lnTo>
                    <a:pt x="66" y="214"/>
                  </a:lnTo>
                  <a:lnTo>
                    <a:pt x="66" y="159"/>
                  </a:lnTo>
                  <a:lnTo>
                    <a:pt x="73" y="119"/>
                  </a:lnTo>
                  <a:lnTo>
                    <a:pt x="81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685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do not have any employees can I invest in a SEP/IRA or a Keogh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2D1C-AED8-4335-89EF-5151F5A999F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904760" y="2666520"/>
            <a:ext cx="60195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n you must enroll your employees as we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943600" y="3124080"/>
          <a:ext cx="145260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124080"/>
                    <a:ext cx="145260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295280" y="914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’s the story if I have employe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D053-BC53-4055-B44B-048E7BDD811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295280" y="358128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have the same opportunity as any full time business own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685800"/>
            <a:ext cx="82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have a full time job and a part time business, can I invest in a SEP or Keogh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5542-2F8F-48EE-902B-CF6B75C7AD7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447560" y="3124080"/>
            <a:ext cx="65530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ither yourself or the same as with an I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7621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is the trustee of a SEP/IRA or Keogh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213A-69BB-4FBA-83E4-F774E6CA93F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ny of the rules and restrictions are the s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867280" y="4800600"/>
            <a:ext cx="1514520" cy="981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52480" y="83808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these plans similar to IRA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83C5-4C09-4CEB-ACA4-BF6DB86A0AA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124080" y="320040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 ye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553080" y="4191120"/>
          <a:ext cx="9907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191120"/>
                    <a:ext cx="9907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057400" y="3124080"/>
            <a:ext cx="990720" cy="1676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4840" y="14256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maximum time allowed to be vest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E456-9534-4089-9D2F-59199FD676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040" y="274284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Tax-sheltered Annuity is an investment on which you receive fixed payments for a lifetime or specified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5720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an annuity be used as a personal pens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8B7E-D05B-4422-B63B-96BE537E9CB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ither as one lump sum or month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219320" y="3809880"/>
          <a:ext cx="99360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9880"/>
                    <a:ext cx="9936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1371600" y="10666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pay into an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37FA-3BFE-41F4-AF2D-E6D40B9D1B5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live a long time and receive payments for life, you get back a lot more than you put 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9907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dvantage to an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A149-D42C-43CC-814D-156301EC53C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274284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 die shortly after you begin to withdraw and your heirs do not get benefit from your savin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6000" y="11239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sadvantage to an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B792-AE42-4346-8587-DC522525D14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90360" y="28951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receive set payments monthly for li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1104840" cy="1547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38080" y="1295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traight life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EB23-D064-4983-9B3D-94F8E6B4132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94920" y="28195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are paid in accordance to how well your investments 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2193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variable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6C87-4136-4BAE-87FB-1CC6663D19C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057400" y="2743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nuities that only pay one individu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447920" y="3657600"/>
          <a:ext cx="86184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657600"/>
                    <a:ext cx="8618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219320" y="10666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ingle life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0454-CD78-4113-8716-81D22FF2D1A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23880" y="28191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nnuity that will continue to pay after the death of one of the recipi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0666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joint survivor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F1DD-F534-48ED-BC76-08C5085C08A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62120" y="289512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must pay taxes on the income when you make it but do not have to pay taxes on the retu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106668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are annuities like savings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6EC5-74BE-4E12-ADD7-7CF9A4F9BAE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ack-end loa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nt-end loa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arly withdrawal penal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ees and commis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816120" cy="1338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85800" y="6858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should I look out for in an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C8DB-794B-46D3-B136-A662C9DEE2E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14040" y="38098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will receive partial or no benefits regardless of being fully ve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57200"/>
            <a:ext cx="76201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my company took money out of my retirement fund and then went out of busines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3C02-7F13-428F-B0DF-1220C90416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371600" y="2666520"/>
            <a:ext cx="63244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the company goes out of business or becomes insolvent, you lose your mon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1430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annuities protected by the govern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DBBA-56F5-401D-82AC-0C1CD86BF39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eiss Research, In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andard &amp; Poo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ody’s Investors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.M. Best Compa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838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research an annuity compan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5100-13E1-4FFD-AC55-78A2D20A088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66680" y="2742840"/>
            <a:ext cx="7010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llows you to use the equity in your home as collateral for a lo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10666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reverse mortg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1BF4-0EF9-4575-A9C5-079A7C845CA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371240" y="274320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you voluntarily move out or d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95880" y="3962520"/>
            <a:ext cx="1614600" cy="1147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523880" y="121932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must the loan be repai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9081-F3AA-4B13-800F-D7F5CAFB933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914040" y="2590560"/>
            <a:ext cx="76201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reverse mortgage is a loan so you must pay interest on the mon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238880" y="3733920"/>
          <a:ext cx="6559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3733920"/>
                    <a:ext cx="6559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33520" y="990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pay interest on the money I receiv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E093-E8E1-415F-96B3-C3BBFE34BF5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142640" y="28951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 because it is a loan and not inco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248520" y="3962520"/>
          <a:ext cx="106992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962520"/>
                    <a:ext cx="106992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09480" y="6858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es a reverse mortgage effect my social secur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42D1-3523-4790-8997-0EE14FBAB4E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504960" y="3352680"/>
            <a:ext cx="2057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1028880" cy="13273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248520" y="4495680"/>
            <a:ext cx="1110960" cy="12225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09480" y="838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have to continue paying insurance and house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9B17-DD32-4298-BC22-49D5CBDE4FB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905120" y="18288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my three optio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4EF2-48CF-4C27-9F8B-ED5A84F72AF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9480" y="457200"/>
            <a:ext cx="8077320" cy="61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dified tenure option combines a monthly payment with a line of credi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ne of credit provides a maximum amount of  ca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enure option gives you equal monthly payments if the house is your principle reside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2175-BFF1-4B8E-8D68-A163B6B3E52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914040" y="25905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and spouse must be 62 years or ol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use must be paid for or nearly 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9144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qualifies for a reverse mortg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AB5A-3675-4229-A2D9-905E6443D9C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133360" y="251424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ases benefits on income and years of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3276720"/>
          <a:ext cx="98136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76720"/>
                    <a:ext cx="98136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90720" y="9144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efined benefit pens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77FD-404B-472D-AB78-386133037F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90720" y="1371600"/>
            <a:ext cx="71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can I find more information on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reverse mortgag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5458-6D15-4E43-A4F4-8B2EC55E518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609480"/>
            <a:ext cx="8534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ARP   </a:t>
            </a:r>
            <a:r>
              <a:rPr b="0" lang="en-US" sz="4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aarp.org/money/reverse_mortgage_fact_sheet.htm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usehold Senior Services                   1-800-414-3837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nnie Ma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-800-732-6643                 </a:t>
            </a:r>
            <a:r>
              <a:rPr b="0" lang="en-US" sz="4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fanniemae.co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1F08-0FB7-443C-9CBA-43E3E339CB1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APFA is the largest professional association of comprehensive, FEE-ONLY® financial planners in the U.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4572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National Association of Personal Financial Adviso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2958-BC15-4D06-9934-192B039D133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964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1-888) FEE-ON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-mail: info@napfa.or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napfa.or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6858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can I contact NAPF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A98D-5A30-41C9-9B8C-E5378CC8A74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stitute of Personal Financial Adviso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-800 282-75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neam.com/education.ht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6094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else can I find help 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1FF8-0064-4BE8-BB35-531E36C3467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33720" y="1600200"/>
            <a:ext cx="50292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B9C8-2BA2-410E-A835-619C88EF763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37720" y="28951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nefits are determined by your contribution and to the success of investments in the pl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efined contribution pension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B85D-7E12-4608-A1BA-0820B7D161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cp:lastPrinted>1997-11-06T15:44:02Z</cp:lastPrinted>
  <dcterms:modified xsi:type="dcterms:W3CDTF">2000-01-25T13:56:46Z</dcterms:modified>
  <cp:revision>70</cp:revision>
  <dc:subject/>
  <dc:title>No Slide Title</dc:title>
</cp:coreProperties>
</file>